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F15CC1-92B4-4FAB-843D-4BCC83057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0" y="7620120"/>
            <a:ext cx="4129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91BE7C-81F6-48B9-B061-AAFAFA82B1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3A98CA-2717-4607-B863-DB982B21F5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FBC-4265-4DC6-8639-F75E8195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7DB-1DF8-4590-98C6-02E61736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500-AC2D-4B41-9782-8333B5A6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70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468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72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70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468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CF8-EBF1-487B-AED1-994EFCFE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86920" y="115920"/>
            <a:ext cx="6193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B1B-054C-426A-A184-2B8CD90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70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68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72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70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468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349-C1ED-4C85-BE9A-DB38C083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102-874D-492A-8B81-7204EB01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98C-F382-4FDA-B8D9-97E911B4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86920" y="115920"/>
            <a:ext cx="6193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A78-CA94-4BB7-8629-DC6ACC8C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7F6-1308-445A-BEB1-7FD7D335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463-2380-44AD-AC6A-34ECB64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66E-0F38-4955-85E7-5EC885B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4796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c6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0476000" y="-1251000"/>
            <a:ext cx="10512360" cy="957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C92E-9527-40B1-B744-7E467693911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332000" y="0"/>
            <a:ext cx="1332000" cy="72676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125360"/>
            <a:ext cx="590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4365440" y="-1611360"/>
            <a:ext cx="21962880" cy="25706520"/>
            <a:chOff x="14365440" y="-1611360"/>
            <a:chExt cx="21962880" cy="25706520"/>
          </a:xfrm>
        </p:grpSpPr>
        <p:sp>
          <p:nvSpPr>
            <p:cNvPr id="11" name=""/>
            <p:cNvSpPr/>
            <p:nvPr/>
          </p:nvSpPr>
          <p:spPr>
            <a:xfrm>
              <a:off x="14365440" y="-1611360"/>
              <a:ext cx="21674160" cy="21674160"/>
            </a:xfrm>
            <a:prstGeom prst="ellipse">
              <a:avLst/>
            </a:prstGeom>
            <a:solidFill>
              <a:srgbClr val="1d82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4581440" y="547920"/>
              <a:ext cx="21674160" cy="21674160"/>
            </a:xfrm>
            <a:prstGeom prst="ellipse">
              <a:avLst/>
            </a:prstGeom>
            <a:solidFill>
              <a:srgbClr val="1d82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654160" y="2421000"/>
              <a:ext cx="21674160" cy="21674160"/>
            </a:xfrm>
            <a:prstGeom prst="ellipse">
              <a:avLst/>
            </a:prstGeom>
            <a:solidFill>
              <a:srgbClr val="1d82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1042920" y="0"/>
            <a:ext cx="8128080" cy="990900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solidFill>
            <a:srgbClr val="c6e6f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042920" y="-409680"/>
            <a:ext cx="73080" cy="726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5"/>
          <a:stretch/>
        </p:blipFill>
        <p:spPr>
          <a:xfrm>
            <a:off x="7236000" y="260280"/>
            <a:ext cx="169200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529596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24000" y="8037360"/>
            <a:ext cx="590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23760" y="-27000"/>
            <a:ext cx="7037280" cy="857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541440" y="-27000"/>
            <a:ext cx="17281800" cy="8042400"/>
          </a:xfrm>
          <a:prstGeom prst="rect">
            <a:avLst/>
          </a:prstGeom>
          <a:solidFill>
            <a:srgbClr val="c6e6f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9440" y="5025960"/>
            <a:ext cx="1403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3280" y="730080"/>
            <a:ext cx="73080" cy="532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1080" y="764640"/>
            <a:ext cx="431928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266544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804000" y="404640"/>
            <a:ext cx="1451160" cy="4286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coaction.com.au/res/Image/junkedcomputers.gif" TargetMode="External"/><Relationship Id="rId4" Type="http://schemas.openxmlformats.org/officeDocument/2006/relationships/hyperlink" Target="http://www.sinometrecycling.com/Commun/Goods/scrap%20computer%20hard%20disk.jpg.JPG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oscuri.sourceforge.net/" TargetMode="External"/><Relationship Id="rId2" Type="http://schemas.openxmlformats.org/officeDocument/2006/relationships/hyperlink" Target="http://www.kb.nl/hrd/dd/dd_projecten/projecten_emulatie-en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9323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scuri: emulation for digital pre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8920" y="2491920"/>
            <a:ext cx="5256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ffrey van der Ho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ninklijke Bibliotheek (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Library of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Preser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bon,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tember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19080" y="404640"/>
            <a:ext cx="9452520" cy="1468080"/>
            <a:chOff x="19080" y="404640"/>
            <a:chExt cx="9452520" cy="1468080"/>
          </a:xfrm>
        </p:grpSpPr>
        <p:sp>
          <p:nvSpPr>
            <p:cNvPr id="242" name=""/>
            <p:cNvSpPr/>
            <p:nvPr/>
          </p:nvSpPr>
          <p:spPr>
            <a:xfrm>
              <a:off x="19080" y="40464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Rich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4840" y="620640"/>
              <a:ext cx="13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B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24080" y="955800"/>
              <a:ext cx="16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B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67240" y="1268280"/>
              <a:ext cx="183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Jeffr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85200" y="1413000"/>
              <a:ext cx="135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Je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6920" y="1197000"/>
              <a:ext cx="165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Hi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9480" y="836640"/>
              <a:ext cx="184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Rem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B5F-17F2-42E6-8D92-6E1EF2896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B1F-6673-4FCF-9AF9-B221CB95A9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A6F-BEDA-4FCF-BC2A-0596875A4D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492360" y="0"/>
            <a:ext cx="2519640" cy="249228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189000"/>
            <a:ext cx="1368720" cy="453528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3280" y="4437000"/>
            <a:ext cx="5832720" cy="72072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Graphics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4720" y="4869000"/>
            <a:ext cx="826920" cy="93636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7640" y="5157720"/>
            <a:ext cx="1081080" cy="133992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C8C-237F-44F8-AE34-AD55F695D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0"/>
            <a:ext cx="251964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189000"/>
            <a:ext cx="136872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4437000"/>
            <a:ext cx="5832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88000" y="4869000"/>
            <a:ext cx="863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5157720"/>
            <a:ext cx="108108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87E-477E-4B38-B156-AA064DAC3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oscuri – modular emulator for digital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rrent version: 0.2.0 (B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grammed in Java using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pabl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nning MS-DOS, FreeDOS, Linux 16-bit (EL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rton Commander 3.0, WordPerfect 5.1, DrawPerfect 1.1, many games like PC-versions of PacMan, Tetris, Chess, Ironman and many more. Even DOS-based webbrowser Arachne wor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ML-based modul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xt extraction from emulated environment into the clipboard of host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nning on many platforms like Intel Windows, PowerPC Mac, Sun Sparc Sola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74A-023F-4F17-B479-6D132713D8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362-693F-419E-8745-CA884F88E2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ust be increased (limit of 100x sl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a extraction and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placing JVM by more universal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986-F449-4FAC-B954-A6AB416F0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55640" y="1703160"/>
            <a:ext cx="316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mprove Diosc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32-bit, soun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eriments and modul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gration with interoperability framework (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ul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302480" y="1776240"/>
            <a:ext cx="1037520" cy="4894920"/>
            <a:chOff x="1302480" y="1776240"/>
            <a:chExt cx="1037520" cy="4894920"/>
          </a:xfrm>
        </p:grpSpPr>
        <p:sp>
          <p:nvSpPr>
            <p:cNvPr id="279" name=""/>
            <p:cNvSpPr/>
            <p:nvPr/>
          </p:nvSpPr>
          <p:spPr>
            <a:xfrm>
              <a:off x="2340000" y="1808280"/>
              <a:ext cx="0" cy="478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02480" y="1776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2480" y="31748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02480" y="468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02480" y="6272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57440" y="1052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1052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1700280"/>
            <a:ext cx="316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 elaboration with Dioscuri in reading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rst case: combining emulation with web arch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gratio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-Depot proces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104-4D6F-45F9-B88E-A3D49E022A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413000"/>
            <a:ext cx="647640" cy="576000"/>
          </a:xfrm>
          <a:prstGeom prst="smileyFace">
            <a:avLst>
              <a:gd name="adj" fmla="val 9282"/>
            </a:avLst>
          </a:prstGeom>
          <a:solidFill>
            <a:srgbClr val="bbe0e3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2060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49480" y="213372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203640" y="1916280"/>
            <a:ext cx="1944720" cy="3744720"/>
            <a:chOff x="3203640" y="1916280"/>
            <a:chExt cx="1944720" cy="3744720"/>
          </a:xfrm>
        </p:grpSpPr>
        <p:sp>
          <p:nvSpPr>
            <p:cNvPr id="292" name=""/>
            <p:cNvSpPr/>
            <p:nvPr/>
          </p:nvSpPr>
          <p:spPr>
            <a:xfrm>
              <a:off x="3276720" y="1916280"/>
              <a:ext cx="1368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80000" y="4219560"/>
              <a:ext cx="1368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mat 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3640" y="5156280"/>
              <a:ext cx="1368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ol 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6000" y="270972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4000" y="2708280"/>
              <a:ext cx="0" cy="21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627280" y="1052640"/>
            <a:ext cx="0" cy="475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25280" y="593244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195640" y="1108080"/>
            <a:ext cx="6697440" cy="592200"/>
            <a:chOff x="2195640" y="1108080"/>
            <a:chExt cx="6697440" cy="592200"/>
          </a:xfrm>
        </p:grpSpPr>
        <p:sp>
          <p:nvSpPr>
            <p:cNvPr id="300" name=""/>
            <p:cNvSpPr/>
            <p:nvPr/>
          </p:nvSpPr>
          <p:spPr>
            <a:xfrm flipH="1">
              <a:off x="2195640" y="1484280"/>
              <a:ext cx="25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13800" y="1197000"/>
              <a:ext cx="1079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8720" y="148428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3440" y="1108080"/>
              <a:ext cx="194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16360" y="1197000"/>
            <a:ext cx="3444840" cy="4611240"/>
            <a:chOff x="4716360" y="1197000"/>
            <a:chExt cx="3444840" cy="4611240"/>
          </a:xfrm>
        </p:grpSpPr>
        <p:sp>
          <p:nvSpPr>
            <p:cNvPr id="305" name=""/>
            <p:cNvSpPr/>
            <p:nvPr/>
          </p:nvSpPr>
          <p:spPr>
            <a:xfrm>
              <a:off x="4859280" y="1197000"/>
              <a:ext cx="2376720" cy="21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ul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8360" y="2349360"/>
              <a:ext cx="1800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3080" y="4148280"/>
              <a:ext cx="1800360" cy="9349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ftware reposi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7320" y="5288040"/>
              <a:ext cx="211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ains emulators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1440" y="443700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716360" y="4868640"/>
              <a:ext cx="72072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48360" y="2854440"/>
              <a:ext cx="1800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st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8360" y="1844640"/>
              <a:ext cx="1800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6443640" y="3499920"/>
              <a:ext cx="144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91520" y="3487680"/>
              <a:ext cx="166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ulator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861-88AC-401A-9883-7C4EF5E9FF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cause of all trou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59520" y="3868560"/>
            <a:ext cx="3984480" cy="29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4048200" cy="301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6000" y="5878440"/>
            <a:ext cx="40323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ef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coaction.com.au/res/Image/junkedcomputers.g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inometrecycling.com/Commun/Goods/scrap%20computer%20hard%20disk.jpg.JP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1B0-EF95-4467-898B-77614C41A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ftware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image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ld documentation (manuals, tutorials, tips &amp; tr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invocation and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responsible for maintaining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A75-0882-461E-93D1-012B7D9664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ttp://dioscuri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8028000" cy="56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2A6-5667-4B28-B3C0-E42F334C7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1268280"/>
            <a:ext cx="705636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oscuri webs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oscuri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mulation project KB-NL / Nationaal Archief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ion Expert Meeting (EEM) 200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b.nl/hrd/dd/dd_projecten/projecten_emulatie-e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ffrey.vanderhoeven@kb.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C44-6E26-49BD-B4A1-8F138DFE97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gital preservation a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6610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basic criteria for defining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of th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uture) us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 of digital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9040" y="3110040"/>
            <a:ext cx="3915720" cy="3903480"/>
            <a:chOff x="2939040" y="3110040"/>
            <a:chExt cx="3915720" cy="3903480"/>
          </a:xfrm>
        </p:grpSpPr>
        <p:grpSp>
          <p:nvGrpSpPr>
            <p:cNvPr id="117" name=""/>
            <p:cNvGrpSpPr/>
            <p:nvPr/>
          </p:nvGrpSpPr>
          <p:grpSpPr>
            <a:xfrm>
              <a:off x="2939040" y="3110040"/>
              <a:ext cx="3915720" cy="3903480"/>
              <a:chOff x="2939040" y="3110040"/>
              <a:chExt cx="3915720" cy="3903480"/>
            </a:xfrm>
          </p:grpSpPr>
          <p:sp>
            <p:nvSpPr>
              <p:cNvPr id="118" name=""/>
              <p:cNvSpPr/>
              <p:nvPr/>
            </p:nvSpPr>
            <p:spPr>
              <a:xfrm rot="20089200">
                <a:off x="3421080" y="3598560"/>
                <a:ext cx="2951280" cy="292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07160" y="3597480"/>
                <a:ext cx="15120" cy="14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4921560" y="4527000"/>
                <a:ext cx="135396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4921560" y="5059800"/>
                <a:ext cx="817560" cy="118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954600" y="5060160"/>
                <a:ext cx="967320" cy="113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24760" y="4510080"/>
                <a:ext cx="1397160" cy="55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935520" y="4168800"/>
              <a:ext cx="1123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5878440"/>
              <a:ext cx="1368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Appear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440" y="4168800"/>
              <a:ext cx="1123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9120" y="5070600"/>
              <a:ext cx="11239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070600"/>
              <a:ext cx="11923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Behavi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562-A2DD-44CB-A284-F4DA966523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gration &amp; e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98440" y="1427040"/>
            <a:ext cx="1503360" cy="45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75320" y="1658880"/>
            <a:ext cx="86040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2" name=""/>
          <p:cNvGrpSpPr/>
          <p:nvPr/>
        </p:nvGrpSpPr>
        <p:grpSpPr>
          <a:xfrm>
            <a:off x="2854440" y="1920960"/>
            <a:ext cx="3454200" cy="655560"/>
            <a:chOff x="2854440" y="1920960"/>
            <a:chExt cx="3454200" cy="655560"/>
          </a:xfrm>
        </p:grpSpPr>
        <p:sp>
          <p:nvSpPr>
            <p:cNvPr id="133" name=""/>
            <p:cNvSpPr/>
            <p:nvPr/>
          </p:nvSpPr>
          <p:spPr>
            <a:xfrm>
              <a:off x="3913200" y="2004840"/>
              <a:ext cx="1336680" cy="43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854440" y="1920960"/>
              <a:ext cx="834840" cy="655560"/>
              <a:chOff x="2854440" y="1920960"/>
              <a:chExt cx="834840" cy="655560"/>
            </a:xfrm>
          </p:grpSpPr>
          <p:sp>
            <p:nvSpPr>
              <p:cNvPr id="135" name=""/>
              <p:cNvSpPr/>
              <p:nvPr/>
            </p:nvSpPr>
            <p:spPr>
              <a:xfrm>
                <a:off x="2887920" y="1920960"/>
                <a:ext cx="801360" cy="655560"/>
              </a:xfrm>
              <a:prstGeom prst="rightArrow">
                <a:avLst>
                  <a:gd name="adj1" fmla="val 50000"/>
                  <a:gd name="adj2" fmla="val 30560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54440" y="2081160"/>
                <a:ext cx="8222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473800" y="1920960"/>
              <a:ext cx="834840" cy="655560"/>
              <a:chOff x="5473800" y="1920960"/>
              <a:chExt cx="834840" cy="655560"/>
            </a:xfrm>
          </p:grpSpPr>
          <p:sp>
            <p:nvSpPr>
              <p:cNvPr id="138" name=""/>
              <p:cNvSpPr/>
              <p:nvPr/>
            </p:nvSpPr>
            <p:spPr>
              <a:xfrm>
                <a:off x="5507280" y="1920960"/>
                <a:ext cx="801360" cy="655560"/>
              </a:xfrm>
              <a:prstGeom prst="rightArrow">
                <a:avLst>
                  <a:gd name="adj1" fmla="val 50000"/>
                  <a:gd name="adj2" fmla="val 30560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73800" y="2081160"/>
                <a:ext cx="8222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258920" y="1654200"/>
            <a:ext cx="1373040" cy="13730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630440" y="4257360"/>
            <a:ext cx="892080" cy="1047600"/>
            <a:chOff x="1630440" y="4257360"/>
            <a:chExt cx="892080" cy="1047600"/>
          </a:xfrm>
        </p:grpSpPr>
        <p:sp>
          <p:nvSpPr>
            <p:cNvPr id="142" name=""/>
            <p:cNvSpPr/>
            <p:nvPr/>
          </p:nvSpPr>
          <p:spPr>
            <a:xfrm flipH="1" rot="10800000">
              <a:off x="1796400" y="4257360"/>
              <a:ext cx="613080" cy="916200"/>
            </a:xfrm>
            <a:prstGeom prst="foldedCorner">
              <a:avLst>
                <a:gd name="adj" fmla="val 25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1742400" y="4388760"/>
              <a:ext cx="78012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630440" y="4323960"/>
              <a:ext cx="503640" cy="4870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ffff"/>
                  </a:solidFill>
                  <a:latin typeface="Georgia"/>
                </a:rPr>
                <a:t>Pro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414440" y="4041720"/>
            <a:ext cx="892080" cy="1047600"/>
            <a:chOff x="1414440" y="4041720"/>
            <a:chExt cx="892080" cy="1047600"/>
          </a:xfrm>
        </p:grpSpPr>
        <p:sp>
          <p:nvSpPr>
            <p:cNvPr id="146" name=""/>
            <p:cNvSpPr/>
            <p:nvPr/>
          </p:nvSpPr>
          <p:spPr>
            <a:xfrm flipH="1" rot="10800000">
              <a:off x="1580400" y="4041720"/>
              <a:ext cx="613080" cy="916560"/>
            </a:xfrm>
            <a:prstGeom prst="foldedCorner">
              <a:avLst>
                <a:gd name="adj" fmla="val 25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1526400" y="4172760"/>
              <a:ext cx="780120" cy="91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414440" y="4107960"/>
              <a:ext cx="503640" cy="2437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ffff"/>
                  </a:solidFill>
                  <a:latin typeface="Georgia"/>
                </a:rPr>
                <a:t>EX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54440" y="3789360"/>
            <a:ext cx="4680000" cy="2160720"/>
            <a:chOff x="2854440" y="3789360"/>
            <a:chExt cx="4680000" cy="2160720"/>
          </a:xfrm>
        </p:grpSpPr>
        <p:sp>
          <p:nvSpPr>
            <p:cNvPr id="150" name=""/>
            <p:cNvSpPr/>
            <p:nvPr/>
          </p:nvSpPr>
          <p:spPr>
            <a:xfrm>
              <a:off x="3916440" y="4630680"/>
              <a:ext cx="133488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m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3200" y="3789360"/>
              <a:ext cx="133344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riginal plat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81360" y="4246200"/>
              <a:ext cx="0" cy="3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6477120" y="3789360"/>
              <a:ext cx="10573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477120" y="4836960"/>
              <a:ext cx="105732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2854440" y="4116240"/>
              <a:ext cx="834840" cy="655920"/>
              <a:chOff x="2854440" y="4116240"/>
              <a:chExt cx="834840" cy="655920"/>
            </a:xfrm>
          </p:grpSpPr>
          <p:sp>
            <p:nvSpPr>
              <p:cNvPr id="156" name=""/>
              <p:cNvSpPr/>
              <p:nvPr/>
            </p:nvSpPr>
            <p:spPr>
              <a:xfrm>
                <a:off x="2887920" y="4116240"/>
                <a:ext cx="801360" cy="655920"/>
              </a:xfrm>
              <a:prstGeom prst="rightArrow">
                <a:avLst>
                  <a:gd name="adj1" fmla="val 50000"/>
                  <a:gd name="adj2" fmla="val 30543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54440" y="4276440"/>
                <a:ext cx="82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473800" y="4116240"/>
              <a:ext cx="834840" cy="655920"/>
              <a:chOff x="5473800" y="4116240"/>
              <a:chExt cx="834840" cy="655920"/>
            </a:xfrm>
          </p:grpSpPr>
          <p:sp>
            <p:nvSpPr>
              <p:cNvPr id="159" name=""/>
              <p:cNvSpPr/>
              <p:nvPr/>
            </p:nvSpPr>
            <p:spPr>
              <a:xfrm>
                <a:off x="5507280" y="4116240"/>
                <a:ext cx="801360" cy="655920"/>
              </a:xfrm>
              <a:prstGeom prst="rightArrow">
                <a:avLst>
                  <a:gd name="adj1" fmla="val 50000"/>
                  <a:gd name="adj2" fmla="val 30543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73800" y="4276440"/>
                <a:ext cx="82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913200" y="5492880"/>
              <a:ext cx="133344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urrent plat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81360" y="5100480"/>
              <a:ext cx="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672320" y="4139280"/>
            <a:ext cx="1227240" cy="1222560"/>
            <a:chOff x="7672320" y="4139280"/>
            <a:chExt cx="1227240" cy="1222560"/>
          </a:xfrm>
        </p:grpSpPr>
        <p:sp>
          <p:nvSpPr>
            <p:cNvPr id="164" name=""/>
            <p:cNvSpPr/>
            <p:nvPr/>
          </p:nvSpPr>
          <p:spPr>
            <a:xfrm rot="20089200">
              <a:off x="7823160" y="4292640"/>
              <a:ext cx="925560" cy="91584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9360" y="4291920"/>
              <a:ext cx="432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293320" y="4582440"/>
              <a:ext cx="42444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8293680" y="4749840"/>
              <a:ext cx="25632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990200" y="4749840"/>
              <a:ext cx="30348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55920" y="4578120"/>
              <a:ext cx="43776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72320" y="1691280"/>
            <a:ext cx="1227240" cy="1222560"/>
            <a:chOff x="7672320" y="1691280"/>
            <a:chExt cx="1227240" cy="1222560"/>
          </a:xfrm>
        </p:grpSpPr>
        <p:sp>
          <p:nvSpPr>
            <p:cNvPr id="171" name=""/>
            <p:cNvSpPr/>
            <p:nvPr/>
          </p:nvSpPr>
          <p:spPr>
            <a:xfrm rot="20089200">
              <a:off x="7823160" y="1844640"/>
              <a:ext cx="925560" cy="91584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8020080" y="2282760"/>
              <a:ext cx="522000" cy="465120"/>
              <a:chOff x="8020080" y="2282760"/>
              <a:chExt cx="522000" cy="465120"/>
            </a:xfrm>
          </p:grpSpPr>
          <p:sp>
            <p:nvSpPr>
              <p:cNvPr id="173" name=""/>
              <p:cNvSpPr/>
              <p:nvPr/>
            </p:nvSpPr>
            <p:spPr>
              <a:xfrm>
                <a:off x="8020080" y="2282760"/>
                <a:ext cx="522000" cy="3542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22960" y="2552760"/>
                <a:ext cx="513000" cy="195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flipV="1">
              <a:off x="8291880" y="2301480"/>
              <a:ext cx="25596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783560" y="2041200"/>
              <a:ext cx="603000" cy="634320"/>
              <a:chOff x="7783560" y="2041200"/>
              <a:chExt cx="603000" cy="634320"/>
            </a:xfrm>
          </p:grpSpPr>
          <p:sp>
            <p:nvSpPr>
              <p:cNvPr id="177" name=""/>
              <p:cNvSpPr/>
              <p:nvPr/>
            </p:nvSpPr>
            <p:spPr>
              <a:xfrm rot="4318800">
                <a:off x="7876080" y="2166840"/>
                <a:ext cx="522000" cy="3542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4318800">
                <a:off x="7698960" y="2303640"/>
                <a:ext cx="513000" cy="195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H="1">
              <a:off x="7989480" y="2301120"/>
              <a:ext cx="302400" cy="35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87560" y="1844640"/>
              <a:ext cx="43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292240" y="2135160"/>
              <a:ext cx="42552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56640" y="2129040"/>
              <a:ext cx="43668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58760" y="2386440"/>
            <a:ext cx="3524040" cy="1402560"/>
            <a:chOff x="2858760" y="2386440"/>
            <a:chExt cx="3524040" cy="1402560"/>
          </a:xfrm>
        </p:grpSpPr>
        <p:grpSp>
          <p:nvGrpSpPr>
            <p:cNvPr id="184" name=""/>
            <p:cNvGrpSpPr/>
            <p:nvPr/>
          </p:nvGrpSpPr>
          <p:grpSpPr>
            <a:xfrm>
              <a:off x="2858760" y="2386440"/>
              <a:ext cx="3524040" cy="1012320"/>
              <a:chOff x="2858760" y="2386440"/>
              <a:chExt cx="3524040" cy="1012320"/>
            </a:xfrm>
          </p:grpSpPr>
          <p:sp>
            <p:nvSpPr>
              <p:cNvPr id="185" name=""/>
              <p:cNvSpPr/>
              <p:nvPr/>
            </p:nvSpPr>
            <p:spPr>
              <a:xfrm>
                <a:off x="3924360" y="2959200"/>
                <a:ext cx="1336680" cy="439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Mig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858760" y="2394360"/>
                <a:ext cx="1033920" cy="1001520"/>
                <a:chOff x="2858760" y="2394360"/>
                <a:chExt cx="1033920" cy="1001520"/>
              </a:xfrm>
            </p:grpSpPr>
            <p:sp>
              <p:nvSpPr>
                <p:cNvPr id="187" name=""/>
                <p:cNvSpPr/>
                <p:nvPr/>
              </p:nvSpPr>
              <p:spPr>
                <a:xfrm rot="2158800">
                  <a:off x="2974680" y="2567160"/>
                  <a:ext cx="801720" cy="655560"/>
                </a:xfrm>
                <a:prstGeom prst="rightArrow">
                  <a:avLst>
                    <a:gd name="adj1" fmla="val 50000"/>
                    <a:gd name="adj2" fmla="val 30574"/>
                  </a:avLst>
                </a:prstGeom>
                <a:solidFill>
                  <a:srgbClr val="000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58800">
                  <a:off x="2928960" y="2708280"/>
                  <a:ext cx="82260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1120" rIns="5112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351040" y="2386440"/>
                <a:ext cx="1031760" cy="994680"/>
                <a:chOff x="5351040" y="2386440"/>
                <a:chExt cx="1031760" cy="994680"/>
              </a:xfrm>
            </p:grpSpPr>
            <p:sp>
              <p:nvSpPr>
                <p:cNvPr id="190" name=""/>
                <p:cNvSpPr/>
                <p:nvPr/>
              </p:nvSpPr>
              <p:spPr>
                <a:xfrm rot="19523400">
                  <a:off x="5466240" y="2555640"/>
                  <a:ext cx="801360" cy="655560"/>
                </a:xfrm>
                <a:prstGeom prst="rightArrow">
                  <a:avLst>
                    <a:gd name="adj1" fmla="val 50000"/>
                    <a:gd name="adj2" fmla="val 30560"/>
                  </a:avLst>
                </a:prstGeom>
                <a:solidFill>
                  <a:srgbClr val="000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9523400">
                  <a:off x="5452560" y="2724120"/>
                  <a:ext cx="82224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1120" rIns="5112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"/>
            <p:cNvSpPr/>
            <p:nvPr/>
          </p:nvSpPr>
          <p:spPr>
            <a:xfrm flipV="1">
              <a:off x="4572000" y="34286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78B-34EB-4DE7-9B66-C0FBAD6DBA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dapt the computer environment to render the digital object authen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original computer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to digital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sts (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ed process limiting information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original environmen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pplied to an operational digital archiv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EEA-4B90-4A90-9F8E-0672BA23E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mulation Expert Meeting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 on 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emulation for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ed by selected group of experts in the field of digital preservation, emulation an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ion is a vital piece of the puzzle for retaining long-term access to the wide range of digital objec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steps to be taken to make emulation appropriate for D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ll statement can be downloaded from www.kb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EDE-9CD0-49E3-A56B-9982078BD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ject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84000" y="1052640"/>
            <a:ext cx="64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B preliminary study: feasibility e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w DP-proof design: modular e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B and Nationaal Archief start joint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uild and test modular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op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DF, databases, multimedia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sella leads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ff Rothenberg supports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rst release of modular e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 July 1st, Dioscuri becomes part of Plan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302480" y="1087560"/>
            <a:ext cx="965880" cy="5510160"/>
            <a:chOff x="1302480" y="1087560"/>
            <a:chExt cx="965880" cy="5510160"/>
          </a:xfrm>
        </p:grpSpPr>
        <p:sp>
          <p:nvSpPr>
            <p:cNvPr id="200" name=""/>
            <p:cNvSpPr/>
            <p:nvPr/>
          </p:nvSpPr>
          <p:spPr>
            <a:xfrm>
              <a:off x="2268360" y="1125360"/>
              <a:ext cx="0" cy="547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2480" y="1087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02480" y="1916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02480" y="4005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02480" y="5264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713-9E0B-4E40-8BA3-69E90F66F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is modular em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o key features: durability and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rable -&gt; emulator has to endure time. This can be done by making the emulator portable to a wide range of computer platforms using a Virtual Machine (V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655720" y="3716280"/>
            <a:ext cx="4724280" cy="2954520"/>
            <a:chOff x="2655720" y="3716280"/>
            <a:chExt cx="4724280" cy="2954520"/>
          </a:xfrm>
        </p:grpSpPr>
        <p:sp>
          <p:nvSpPr>
            <p:cNvPr id="208" name=""/>
            <p:cNvSpPr/>
            <p:nvPr/>
          </p:nvSpPr>
          <p:spPr>
            <a:xfrm>
              <a:off x="5665680" y="6276960"/>
              <a:ext cx="171432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Platform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378040" y="3716280"/>
              <a:ext cx="1950840" cy="1572840"/>
              <a:chOff x="5378040" y="3716280"/>
              <a:chExt cx="1950840" cy="1572840"/>
            </a:xfrm>
          </p:grpSpPr>
          <p:sp>
            <p:nvSpPr>
              <p:cNvPr id="210" name=""/>
              <p:cNvSpPr/>
              <p:nvPr/>
            </p:nvSpPr>
            <p:spPr>
              <a:xfrm>
                <a:off x="5614560" y="4371840"/>
                <a:ext cx="1714320" cy="393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Emulator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14560" y="3716280"/>
                <a:ext cx="1714320" cy="39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Linu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378040" y="4764960"/>
                <a:ext cx="1123200" cy="52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442200" y="410940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655720" y="6276960"/>
              <a:ext cx="171432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Platform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81240" y="5295960"/>
              <a:ext cx="2117520" cy="393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Virtual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5306760" y="5733720"/>
              <a:ext cx="112392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78040" y="5733720"/>
              <a:ext cx="1182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714400" y="3716280"/>
              <a:ext cx="1891800" cy="1572840"/>
              <a:chOff x="2714400" y="3716280"/>
              <a:chExt cx="1891800" cy="1572840"/>
            </a:xfrm>
          </p:grpSpPr>
          <p:sp>
            <p:nvSpPr>
              <p:cNvPr id="219" name=""/>
              <p:cNvSpPr/>
              <p:nvPr/>
            </p:nvSpPr>
            <p:spPr>
              <a:xfrm>
                <a:off x="2714400" y="4371840"/>
                <a:ext cx="1714680" cy="393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Emulator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14400" y="3716280"/>
                <a:ext cx="1714680" cy="39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Windows 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542040" y="410940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3542040" y="4764960"/>
                <a:ext cx="1064160" cy="52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657320" y="4581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7320" y="6453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D75-0FD6-43E1-9539-D17051B44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71640" y="3068640"/>
            <a:ext cx="4464360" cy="3456000"/>
          </a:xfrm>
          <a:prstGeom prst="rect">
            <a:avLst/>
          </a:prstGeom>
          <a:solidFill>
            <a:srgbClr val="bbe0e3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dular e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is modular em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dular -&gt; emulator consists of modules. Each module emulates the functionality of a hardware component. This way, the modular emulator can be configured much like a real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37080" y="3895560"/>
            <a:ext cx="2590560" cy="1981440"/>
            <a:chOff x="3637080" y="3895560"/>
            <a:chExt cx="2590560" cy="1981440"/>
          </a:xfrm>
        </p:grpSpPr>
        <p:sp>
          <p:nvSpPr>
            <p:cNvPr id="229" name=""/>
            <p:cNvSpPr/>
            <p:nvPr/>
          </p:nvSpPr>
          <p:spPr>
            <a:xfrm>
              <a:off x="3637080" y="38955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37080" y="45813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3240" y="38955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240" y="45813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Graph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13240" y="52671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CD-R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32360" y="4200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1480" y="4200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1480" y="48099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2360" y="5495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B8A-24C7-4939-9CEE-E673AA002D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1:39:23Z</dcterms:created>
  <dc:creator>Jeffrey van der Hoeven</dc:creator>
  <dc:description/>
  <dc:language>en-US</dc:language>
  <cp:lastModifiedBy>HRD</cp:lastModifiedBy>
  <dcterms:modified xsi:type="dcterms:W3CDTF">2007-09-06T13:52:38Z</dcterms:modified>
  <cp:revision>96</cp:revision>
  <dc:subject/>
  <dc:title>Dioscuri - emulation for digital preservation</dc:title>
</cp:coreProperties>
</file>