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ADB-6B22-470F-BD49-2CF966400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10F7-D2A7-4BC7-BA66-0E94FE6C6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4055-25F5-496E-B7D7-39BD56C2A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9D1-57AA-4DA5-A099-59E1C849C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293-0FB0-4543-B7B7-C8A454181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AB1D-72B5-48E9-B505-2D7A172C8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F18-3348-4CA3-862A-A820D7078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855A-D87B-4C39-8E6D-135B6409A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EBD0-DF8A-4472-93EC-9A8285529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2CA7-CE11-4A71-9C45-8FD7972D5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D03C-8966-45DD-BFCB-D596CE7A0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330-9BA6-49F4-9896-4C02B54BB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189E-BDA3-4270-8AAD-1A007A1364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0F42-7C0B-44E6-AC54-A2AD18212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54A7-C9C9-4F96-8BE3-AEE927916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8C4-9C6D-4BF5-8661-91CDDC308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EU logo PMS-NB-Neg"/>
          <p:cNvPicPr/>
          <p:nvPr/>
        </p:nvPicPr>
        <p:blipFill>
          <a:blip r:embed="rId2"/>
          <a:srcRect l="0" t="0" r="0" b="71097"/>
          <a:stretch/>
        </p:blipFill>
        <p:spPr>
          <a:xfrm>
            <a:off x="322200" y="5950080"/>
            <a:ext cx="1081080" cy="725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logo"/>
          <p:cNvPicPr/>
          <p:nvPr/>
        </p:nvPicPr>
        <p:blipFill>
          <a:blip r:embed="rId3"/>
          <a:stretch/>
        </p:blipFill>
        <p:spPr>
          <a:xfrm>
            <a:off x="7201080" y="5935680"/>
            <a:ext cx="1692000" cy="733320"/>
          </a:xfrm>
          <a:prstGeom prst="rect">
            <a:avLst/>
          </a:prstGeom>
          <a:ln w="0">
            <a:noFill/>
          </a:ln>
        </p:spPr>
      </p:pic>
      <p:sp>
        <p:nvSpPr>
          <p:cNvPr id="2" name="Line 6"/>
          <p:cNvSpPr/>
          <p:nvPr/>
        </p:nvSpPr>
        <p:spPr>
          <a:xfrm>
            <a:off x="612720" y="1484280"/>
            <a:ext cx="7920000" cy="0"/>
          </a:xfrm>
          <a:prstGeom prst="line">
            <a:avLst/>
          </a:prstGeom>
          <a:ln w="28440">
            <a:solidFill>
              <a:srgbClr val="a7ce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plogo"/>
          <p:cNvPicPr/>
          <p:nvPr/>
        </p:nvPicPr>
        <p:blipFill>
          <a:blip r:embed="rId2"/>
          <a:stretch/>
        </p:blipFill>
        <p:spPr>
          <a:xfrm>
            <a:off x="7201080" y="5935680"/>
            <a:ext cx="1692000" cy="73332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EU logo PMS-NB-Neg"/>
          <p:cNvPicPr/>
          <p:nvPr/>
        </p:nvPicPr>
        <p:blipFill>
          <a:blip r:embed="rId3"/>
          <a:srcRect l="0" t="0" r="0" b="71097"/>
          <a:stretch/>
        </p:blipFill>
        <p:spPr>
          <a:xfrm>
            <a:off x="322200" y="5950080"/>
            <a:ext cx="1081080" cy="7254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6"/>
          <p:cNvSpPr/>
          <p:nvPr/>
        </p:nvSpPr>
        <p:spPr>
          <a:xfrm>
            <a:off x="539640" y="981000"/>
            <a:ext cx="8229600" cy="1871640"/>
          </a:xfrm>
          <a:prstGeom prst="rect">
            <a:avLst/>
          </a:prstGeom>
          <a:solidFill>
            <a:srgbClr val="a7cee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ria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National Archives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CDL/XCEL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interface for ex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specification for compa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for extractor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43000"/>
            <a:ext cx="822960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3" descr="ExtractorGUI.bmp"/>
          <p:cNvPicPr/>
          <p:nvPr/>
        </p:nvPicPr>
        <p:blipFill>
          <a:blip r:embed="rId1"/>
          <a:stretch/>
        </p:blipFill>
        <p:spPr>
          <a:xfrm>
            <a:off x="914400" y="152280"/>
            <a:ext cx="73677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ation tool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-driven framework for automated deployment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tools impleme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H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OI (MS Office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XP (XML valid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:\Documents and Settings\All Users\Documents\DPC Awards\running_jhove.jpg"/>
          <p:cNvPicPr/>
          <p:nvPr/>
        </p:nvPicPr>
        <p:blipFill>
          <a:blip r:embed="rId1"/>
          <a:stretch/>
        </p:blipFill>
        <p:spPr>
          <a:xfrm>
            <a:off x="457200" y="0"/>
            <a:ext cx="8271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ed activities (Year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XC*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registry (iteration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Information Registries 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CDL extra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tool wrapper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technologi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ools and services to characterise the significant properties of digital objects,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preserva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preservation actions (evaluating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project consi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ent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s &amp;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li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ies for describing significant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and services for automating measurement and comparison of thes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 for improving the preservation characteristics of digital objec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s &amp;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Drawing1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83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hievements (Year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description and extraction methodology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ation too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ation reg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teration registry (bringing PRONOM to its next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t Unique Identifier scheme for regist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registry-driven characterisation too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Documents and Settings\All Users\Documents\DPC Awards\PRONOM.jpg"/>
          <p:cNvPicPr/>
          <p:nvPr/>
        </p:nvPicPr>
        <p:blipFill>
          <a:blip r:embed="rId1"/>
          <a:stretch/>
        </p:blipFill>
        <p:spPr>
          <a:xfrm>
            <a:off x="457200" y="304920"/>
            <a:ext cx="8271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ing and extracting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Characterisation Description Language (XC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Characterisation Extraction Language (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83"/>
          <p:cNvGrpSpPr/>
          <p:nvPr/>
        </p:nvGrpSpPr>
        <p:grpSpPr>
          <a:xfrm>
            <a:off x="276120" y="2836800"/>
            <a:ext cx="1658880" cy="1650960"/>
            <a:chOff x="276120" y="2836800"/>
            <a:chExt cx="1658880" cy="1650960"/>
          </a:xfrm>
        </p:grpSpPr>
        <p:sp>
          <p:nvSpPr>
            <p:cNvPr id="101" name="AutoShape 9"/>
            <p:cNvSpPr/>
            <p:nvPr/>
          </p:nvSpPr>
          <p:spPr>
            <a:xfrm>
              <a:off x="276120" y="2836800"/>
              <a:ext cx="1658880" cy="165096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412560 h 1650960"/>
                <a:gd name="textAreaBottom" fmla="*/ 12384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344880" y="3458880"/>
              <a:ext cx="158976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90600" indent="-293760">
                <a:lnSpc>
                  <a:spcPct val="101000"/>
                </a:lnSpc>
                <a:spcAft>
                  <a:spcPts val="1287"/>
                </a:spcAft>
                <a:tabLst>
                  <a:tab algn="l" pos="0"/>
                  <a:tab algn="l" pos="655560"/>
                  <a:tab algn="l" pos="1312920"/>
                  <a:tab algn="l" pos="1968480"/>
                  <a:tab algn="l" pos="2625840"/>
                  <a:tab algn="l" pos="3282840"/>
                  <a:tab algn="l" pos="3938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Verdana"/>
                </a:rPr>
                <a:t>Migrato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55"/>
          <p:cNvSpPr/>
          <p:nvPr/>
        </p:nvSpPr>
        <p:spPr>
          <a:xfrm>
            <a:off x="801720" y="1793880"/>
            <a:ext cx="622440" cy="76032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01360" y="1932120"/>
            <a:ext cx="7873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4308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801720" y="4770360"/>
            <a:ext cx="622440" cy="76032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33320" y="4905360"/>
            <a:ext cx="787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0600" indent="-293760">
              <a:lnSpc>
                <a:spcPct val="101000"/>
              </a:lnSpc>
              <a:spcAft>
                <a:spcPts val="1287"/>
              </a:spcAft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2"/>
          <p:cNvGrpSpPr/>
          <p:nvPr/>
        </p:nvGrpSpPr>
        <p:grpSpPr>
          <a:xfrm>
            <a:off x="1589040" y="1797120"/>
            <a:ext cx="4286160" cy="4354560"/>
            <a:chOff x="1589040" y="1797120"/>
            <a:chExt cx="4286160" cy="4354560"/>
          </a:xfrm>
        </p:grpSpPr>
        <p:grpSp>
          <p:nvGrpSpPr>
            <p:cNvPr id="108" name="Group 63"/>
            <p:cNvGrpSpPr/>
            <p:nvPr/>
          </p:nvGrpSpPr>
          <p:grpSpPr>
            <a:xfrm>
              <a:off x="3040560" y="1797120"/>
              <a:ext cx="2280600" cy="2557080"/>
              <a:chOff x="3040560" y="1797120"/>
              <a:chExt cx="2280600" cy="2557080"/>
            </a:xfrm>
          </p:grpSpPr>
          <p:grpSp>
            <p:nvGrpSpPr>
              <p:cNvPr id="109" name="Group 60"/>
              <p:cNvGrpSpPr/>
              <p:nvPr/>
            </p:nvGrpSpPr>
            <p:grpSpPr>
              <a:xfrm>
                <a:off x="3109680" y="2142360"/>
                <a:ext cx="2211480" cy="2211840"/>
                <a:chOff x="3109680" y="2142360"/>
                <a:chExt cx="2211480" cy="2211840"/>
              </a:xfrm>
            </p:grpSpPr>
            <p:sp>
              <p:nvSpPr>
                <p:cNvPr id="110" name="Rectangle 59"/>
                <p:cNvSpPr/>
                <p:nvPr/>
              </p:nvSpPr>
              <p:spPr>
                <a:xfrm>
                  <a:off x="3109680" y="2142360"/>
                  <a:ext cx="2211480" cy="2211840"/>
                </a:xfrm>
                <a:prstGeom prst="rect">
                  <a:avLst/>
                </a:prstGeom>
                <a:solidFill>
                  <a:srgbClr val="c0c0c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11" name="Picture 58" descr="zahnrad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57200" y="2155320"/>
                  <a:ext cx="2094840" cy="212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2" name="Rectangle 61"/>
              <p:cNvSpPr/>
              <p:nvPr/>
            </p:nvSpPr>
            <p:spPr>
              <a:xfrm>
                <a:off x="3040560" y="1797120"/>
                <a:ext cx="158976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Verdana"/>
                  </a:rPr>
                  <a:t>Extractor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70"/>
            <p:cNvSpPr/>
            <p:nvPr/>
          </p:nvSpPr>
          <p:spPr>
            <a:xfrm>
              <a:off x="1589040" y="2142720"/>
              <a:ext cx="1382760" cy="483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1"/>
            <p:cNvSpPr/>
            <p:nvPr/>
          </p:nvSpPr>
          <p:spPr>
            <a:xfrm flipV="1">
              <a:off x="1658160" y="3939840"/>
              <a:ext cx="1313280" cy="103680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73"/>
            <p:cNvGrpSpPr/>
            <p:nvPr/>
          </p:nvGrpSpPr>
          <p:grpSpPr>
            <a:xfrm>
              <a:off x="2833200" y="5045760"/>
              <a:ext cx="2972160" cy="829800"/>
              <a:chOff x="2833200" y="5045760"/>
              <a:chExt cx="2972160" cy="829800"/>
            </a:xfrm>
          </p:grpSpPr>
          <p:sp>
            <p:nvSpPr>
              <p:cNvPr id="116" name="Rectangle 23"/>
              <p:cNvSpPr/>
              <p:nvPr/>
            </p:nvSpPr>
            <p:spPr>
              <a:xfrm>
                <a:off x="2833200" y="5045760"/>
                <a:ext cx="1451520" cy="277200"/>
              </a:xfrm>
              <a:prstGeom prst="rect">
                <a:avLst/>
              </a:prstGeom>
              <a:solidFill>
                <a:srgbClr val="00ff00">
                  <a:alpha val="42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tiff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4"/>
              <p:cNvSpPr/>
              <p:nvPr/>
            </p:nvSpPr>
            <p:spPr>
              <a:xfrm>
                <a:off x="4353840" y="5045760"/>
                <a:ext cx="1451520" cy="277200"/>
              </a:xfrm>
              <a:prstGeom prst="rect">
                <a:avLst/>
              </a:prstGeom>
              <a:solidFill>
                <a:srgbClr val="00ccff">
                  <a:alpha val="5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png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66"/>
              <p:cNvSpPr/>
              <p:nvPr/>
            </p:nvSpPr>
            <p:spPr>
              <a:xfrm>
                <a:off x="4353840" y="5598360"/>
                <a:ext cx="1451520" cy="277200"/>
              </a:xfrm>
              <a:prstGeom prst="rect">
                <a:avLst/>
              </a:prstGeom>
              <a:solidFill>
                <a:srgbClr val="ffcc99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 algn="ctr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...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2"/>
              <p:cNvSpPr/>
              <p:nvPr/>
            </p:nvSpPr>
            <p:spPr>
              <a:xfrm>
                <a:off x="2833200" y="5598360"/>
                <a:ext cx="1451520" cy="277200"/>
              </a:xfrm>
              <a:prstGeom prst="rect">
                <a:avLst/>
              </a:prstGeom>
              <a:solidFill>
                <a:srgbClr val="ffcc99">
                  <a:alpha val="3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 algn="ctr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... XC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74"/>
            <p:cNvSpPr/>
            <p:nvPr/>
          </p:nvSpPr>
          <p:spPr>
            <a:xfrm>
              <a:off x="2764440" y="4907520"/>
              <a:ext cx="3110760" cy="12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5"/>
            <p:cNvSpPr/>
            <p:nvPr/>
          </p:nvSpPr>
          <p:spPr>
            <a:xfrm flipV="1">
              <a:off x="4328280" y="4354200"/>
              <a:ext cx="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4"/>
          <p:cNvGrpSpPr/>
          <p:nvPr/>
        </p:nvGrpSpPr>
        <p:grpSpPr>
          <a:xfrm>
            <a:off x="6842160" y="2833560"/>
            <a:ext cx="1866960" cy="1659240"/>
            <a:chOff x="6842160" y="2833560"/>
            <a:chExt cx="1866960" cy="1659240"/>
          </a:xfrm>
        </p:grpSpPr>
        <p:sp>
          <p:nvSpPr>
            <p:cNvPr id="123" name="AutoShape 32"/>
            <p:cNvSpPr/>
            <p:nvPr/>
          </p:nvSpPr>
          <p:spPr>
            <a:xfrm>
              <a:off x="6911280" y="2833560"/>
              <a:ext cx="1659240" cy="1659240"/>
            </a:xfrm>
            <a:custGeom>
              <a:avLst/>
              <a:gdLst>
                <a:gd name="textAreaLeft" fmla="*/ 0 w 1659240"/>
                <a:gd name="textAreaRight" fmla="*/ 1659600 w 1659240"/>
                <a:gd name="textAreaTop" fmla="*/ 414720 h 1659240"/>
                <a:gd name="textAreaBottom" fmla="*/ 1244520 h 165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0c0c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>
              <a:off x="6842160" y="3453120"/>
              <a:ext cx="186696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90600" indent="-293760">
                <a:lnSpc>
                  <a:spcPct val="101000"/>
                </a:lnSpc>
                <a:spcAft>
                  <a:spcPts val="1287"/>
                </a:spcAft>
                <a:tabLst>
                  <a:tab algn="l" pos="0"/>
                  <a:tab algn="l" pos="655560"/>
                  <a:tab algn="l" pos="1312920"/>
                  <a:tab algn="l" pos="1968480"/>
                  <a:tab algn="l" pos="2625840"/>
                  <a:tab algn="l" pos="3282840"/>
                  <a:tab algn="l" pos="3938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Comparer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5391000" y="1450800"/>
            <a:ext cx="3525840" cy="4424040"/>
            <a:chOff x="5391000" y="1450800"/>
            <a:chExt cx="3525840" cy="4424040"/>
          </a:xfrm>
        </p:grpSpPr>
        <p:grpSp>
          <p:nvGrpSpPr>
            <p:cNvPr id="126" name="Group 34"/>
            <p:cNvGrpSpPr/>
            <p:nvPr/>
          </p:nvGrpSpPr>
          <p:grpSpPr>
            <a:xfrm>
              <a:off x="6704640" y="4561560"/>
              <a:ext cx="2212200" cy="1313280"/>
              <a:chOff x="6704640" y="4561560"/>
              <a:chExt cx="2212200" cy="1313280"/>
            </a:xfrm>
          </p:grpSpPr>
          <p:sp>
            <p:nvSpPr>
              <p:cNvPr id="127" name="AutoShape 25"/>
              <p:cNvSpPr/>
              <p:nvPr/>
            </p:nvSpPr>
            <p:spPr>
              <a:xfrm>
                <a:off x="6704640" y="4561560"/>
                <a:ext cx="2212200" cy="1313280"/>
              </a:xfrm>
              <a:prstGeom prst="cube">
                <a:avLst>
                  <a:gd name="adj" fmla="val 250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9"/>
              <p:cNvSpPr/>
              <p:nvPr/>
            </p:nvSpPr>
            <p:spPr>
              <a:xfrm>
                <a:off x="6704640" y="4906800"/>
                <a:ext cx="18666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500" spc="-1" strike="noStrike">
                    <a:solidFill>
                      <a:srgbClr val="000000"/>
                    </a:solidFill>
                    <a:latin typeface="Verdana"/>
                  </a:rPr>
                  <a:t>png XCD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3"/>
            <p:cNvGrpSpPr/>
            <p:nvPr/>
          </p:nvGrpSpPr>
          <p:grpSpPr>
            <a:xfrm>
              <a:off x="6704640" y="1450800"/>
              <a:ext cx="2212200" cy="1313280"/>
              <a:chOff x="6704640" y="1450800"/>
              <a:chExt cx="2212200" cy="1313280"/>
            </a:xfrm>
          </p:grpSpPr>
          <p:sp>
            <p:nvSpPr>
              <p:cNvPr id="130" name="AutoShape 26"/>
              <p:cNvSpPr/>
              <p:nvPr/>
            </p:nvSpPr>
            <p:spPr>
              <a:xfrm>
                <a:off x="6704640" y="1450800"/>
                <a:ext cx="2212200" cy="1313280"/>
              </a:xfrm>
              <a:prstGeom prst="cube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6704640" y="1865520"/>
                <a:ext cx="18666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390600" indent="-293760">
                  <a:lnSpc>
                    <a:spcPct val="101000"/>
                  </a:lnSpc>
                  <a:spcAft>
                    <a:spcPts val="1287"/>
                  </a:spcAft>
                  <a:tabLst>
                    <a:tab algn="l" pos="0"/>
                    <a:tab algn="l" pos="655560"/>
                    <a:tab algn="l" pos="1312920"/>
                    <a:tab algn="l" pos="1968480"/>
                    <a:tab algn="l" pos="2625840"/>
                    <a:tab algn="l" pos="3282840"/>
                    <a:tab algn="l" pos="3938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Verdana"/>
                  </a:rPr>
                  <a:t>tiff XCD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76"/>
            <p:cNvSpPr/>
            <p:nvPr/>
          </p:nvSpPr>
          <p:spPr>
            <a:xfrm flipV="1">
              <a:off x="5460120" y="2349000"/>
              <a:ext cx="1175040" cy="276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7"/>
            <p:cNvSpPr/>
            <p:nvPr/>
          </p:nvSpPr>
          <p:spPr>
            <a:xfrm>
              <a:off x="5391000" y="3939480"/>
              <a:ext cx="1451520" cy="69120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AutoShape 46"/>
          <p:cNvSpPr/>
          <p:nvPr/>
        </p:nvSpPr>
        <p:spPr>
          <a:xfrm>
            <a:off x="5253120" y="2557440"/>
            <a:ext cx="1866960" cy="1244520"/>
          </a:xfrm>
          <a:prstGeom prst="cloudCallout">
            <a:avLst>
              <a:gd name="adj1" fmla="val 49768"/>
              <a:gd name="adj2" fmla="val 70023"/>
            </a:avLst>
          </a:prstGeom>
          <a:solidFill>
            <a:srgbClr val="ffcc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CDL &amp; X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2:07:47Z</dcterms:created>
  <dc:creator>Amanda Yarwood</dc:creator>
  <dc:description/>
  <dc:language>en-US</dc:language>
  <cp:lastModifiedBy>tsetup44</cp:lastModifiedBy>
  <dcterms:modified xsi:type="dcterms:W3CDTF">2007-09-06T13:56:01Z</dcterms:modified>
  <cp:revision>41</cp:revision>
  <dc:subject/>
  <dc:title>Slide 1</dc:title>
</cp:coreProperties>
</file>