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1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ftr" idx="2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 type="sldNum" idx="3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16294-06FA-4B41-A933-1805DE6C1F3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Foliennummernplatzhalt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D0F99-499D-42C7-91AF-09F1EAD1689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Foliennummernplatzhalt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6C360-0566-4F65-812B-A87ECB874C5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Foliennummernplatzhalt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6AB2A-1EE0-4198-B791-29960F85D10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Foliennummernplatzhalt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C0BE0-4E78-4D39-B1FF-6AA22A9E8BD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Foliennummernplatzhalt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6C109-5951-4A98-A59F-3A7DE10BBA5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Foliennummernplatzhalt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04B96-967B-4F9F-AEED-B404B2405A5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Foliennummernplatzhalt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42A19-67F2-44B0-95E5-34F80E61BC4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oliennummernplatzhalt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9C379-04F6-4B73-9FF6-6F3BDE92890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Foliennummernplatzhalt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14176-B872-44BD-9280-DF221485E7A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Foliennummernplatzhalt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1101B-F3CF-43CC-9531-2C38285E975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Foliennummernplatzhalt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6F934-9AFD-4285-A8D5-BC721EE2E22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Foliennummernplatzhalt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5E9A2-8B88-45FD-A6A0-3BD9FCA613A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Foliennummernplatzhalt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302C1-A35A-4F8E-9406-5D4C89CD54F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Foliennummernplatzhalt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317C3-7F3B-452C-B20F-4E82AF84DDE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6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BEB7A-DD7D-46C6-9392-227EFE8F7DD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915840" y="754200"/>
            <a:ext cx="4964400" cy="37242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EU logo PMS-NB-Neg"/>
          <p:cNvPicPr/>
          <p:nvPr/>
        </p:nvPicPr>
        <p:blipFill>
          <a:blip r:embed="rId2"/>
          <a:srcRect l="0" t="0" r="0" b="71097"/>
          <a:stretch/>
        </p:blipFill>
        <p:spPr>
          <a:xfrm>
            <a:off x="322200" y="5950080"/>
            <a:ext cx="1081080" cy="725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4" descr="plogo"/>
          <p:cNvPicPr/>
          <p:nvPr/>
        </p:nvPicPr>
        <p:blipFill>
          <a:blip r:embed="rId3"/>
          <a:stretch/>
        </p:blipFill>
        <p:spPr>
          <a:xfrm>
            <a:off x="7201080" y="5935680"/>
            <a:ext cx="1692000" cy="733320"/>
          </a:xfrm>
          <a:prstGeom prst="rect">
            <a:avLst/>
          </a:prstGeom>
          <a:ln w="0">
            <a:noFill/>
          </a:ln>
        </p:spPr>
      </p:pic>
      <p:sp>
        <p:nvSpPr>
          <p:cNvPr id="2" name="Line 6"/>
          <p:cNvSpPr/>
          <p:nvPr/>
        </p:nvSpPr>
        <p:spPr>
          <a:xfrm>
            <a:off x="612720" y="1484280"/>
            <a:ext cx="7920000" cy="0"/>
          </a:xfrm>
          <a:prstGeom prst="line">
            <a:avLst/>
          </a:prstGeom>
          <a:ln w="28440">
            <a:solidFill>
              <a:srgbClr val="a7ce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4" descr="plogo"/>
          <p:cNvPicPr/>
          <p:nvPr/>
        </p:nvPicPr>
        <p:blipFill>
          <a:blip r:embed="rId2"/>
          <a:stretch/>
        </p:blipFill>
        <p:spPr>
          <a:xfrm>
            <a:off x="7201080" y="5935680"/>
            <a:ext cx="1692000" cy="73332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5" descr="EU logo PMS-NB-Neg"/>
          <p:cNvPicPr/>
          <p:nvPr/>
        </p:nvPicPr>
        <p:blipFill>
          <a:blip r:embed="rId3"/>
          <a:srcRect l="0" t="0" r="0" b="71097"/>
          <a:stretch/>
        </p:blipFill>
        <p:spPr>
          <a:xfrm>
            <a:off x="322200" y="5950080"/>
            <a:ext cx="1081080" cy="725400"/>
          </a:xfrm>
          <a:prstGeom prst="rect">
            <a:avLst/>
          </a:prstGeom>
          <a:ln w="0">
            <a:noFill/>
          </a:ln>
        </p:spPr>
      </p:pic>
      <p:sp>
        <p:nvSpPr>
          <p:cNvPr id="41" name="Rectangle 6"/>
          <p:cNvSpPr/>
          <p:nvPr/>
        </p:nvSpPr>
        <p:spPr>
          <a:xfrm>
            <a:off x="539640" y="981000"/>
            <a:ext cx="8229600" cy="1871640"/>
          </a:xfrm>
          <a:prstGeom prst="rect">
            <a:avLst/>
          </a:prstGeom>
          <a:solidFill>
            <a:srgbClr val="a7cee1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5564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haracteris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0" y="388620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Adrian Br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The National Archives, U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XCDL/XCEL too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and line interface for extra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specification for compara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UI for extractor experi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UI 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57200" y="1143000"/>
            <a:ext cx="8229600" cy="641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Grafik 3" descr="ExtractorGUI.bmp"/>
          <p:cNvPicPr/>
          <p:nvPr/>
        </p:nvPicPr>
        <p:blipFill>
          <a:blip r:embed="rId1"/>
          <a:stretch/>
        </p:blipFill>
        <p:spPr>
          <a:xfrm>
            <a:off x="914400" y="152280"/>
            <a:ext cx="7367760" cy="574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ation tool framewor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gistry-driven framework for automated deployment of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itial tools implemente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O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H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va POI (MS Office document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XP (XML valid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4" descr="C:\Documents and Settings\All Users\Documents\DPC Awards\running_jhove.jpg"/>
          <p:cNvPicPr/>
          <p:nvPr/>
        </p:nvPicPr>
        <p:blipFill>
          <a:blip r:embed="rId1"/>
          <a:stretch/>
        </p:blipFill>
        <p:spPr>
          <a:xfrm>
            <a:off x="457200" y="0"/>
            <a:ext cx="8271000" cy="58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lanned activities (Year 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XC*L specif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racterisation registry (iteration 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resentation Information Registries White Pa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CDL extraction t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racterisation tool wrapper spec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erging technologies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54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 tools and services to characterise the significant properties of digital objects, to suppor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ment of preservation pl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lidation of preservation actions (evaluating chan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ubproject consider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resentation proper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herent proper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ims &amp; Objectiv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deliv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hodologies for describing significant proper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ols and services for automating measurement and comparison of these proper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mmendations for improving the preservation characteristics of digital object ty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ims &amp; Objectiv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Drawing1" descr=""/>
          <p:cNvPicPr/>
          <p:nvPr/>
        </p:nvPicPr>
        <p:blipFill>
          <a:blip r:embed="rId1"/>
          <a:stretch/>
        </p:blipFill>
        <p:spPr>
          <a:xfrm>
            <a:off x="457200" y="380880"/>
            <a:ext cx="8158320" cy="530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hievements (Year 1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racterisation regist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perty description and extraction methodology and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racterisation tool frame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ation regist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iteration registry (bringing PRONOM to its next genera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sistent Unique Identifier scheme for registry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registry-driven characterisation tool frame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4" descr="C:\Documents and Settings\All Users\Documents\DPC Awards\PRONOM.jpg"/>
          <p:cNvPicPr/>
          <p:nvPr/>
        </p:nvPicPr>
        <p:blipFill>
          <a:blip r:embed="rId1"/>
          <a:stretch/>
        </p:blipFill>
        <p:spPr>
          <a:xfrm>
            <a:off x="457200" y="304920"/>
            <a:ext cx="8271000" cy="50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scribing and extracting characteristic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tensible Characterisation Description Language (XCD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tensible Characterisation Extraction Language (XCE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Group 83"/>
          <p:cNvGrpSpPr/>
          <p:nvPr/>
        </p:nvGrpSpPr>
        <p:grpSpPr>
          <a:xfrm>
            <a:off x="276120" y="2836800"/>
            <a:ext cx="1658880" cy="1650960"/>
            <a:chOff x="276120" y="2836800"/>
            <a:chExt cx="1658880" cy="1650960"/>
          </a:xfrm>
        </p:grpSpPr>
        <p:sp>
          <p:nvSpPr>
            <p:cNvPr id="101" name="AutoShape 9"/>
            <p:cNvSpPr/>
            <p:nvPr/>
          </p:nvSpPr>
          <p:spPr>
            <a:xfrm>
              <a:off x="276120" y="2836800"/>
              <a:ext cx="1658880" cy="1650960"/>
            </a:xfrm>
            <a:custGeom>
              <a:avLst/>
              <a:gdLst>
                <a:gd name="textAreaLeft" fmla="*/ 0 w 1658880"/>
                <a:gd name="textAreaRight" fmla="*/ 1659240 w 1658880"/>
                <a:gd name="textAreaTop" fmla="*/ 412560 h 1650960"/>
                <a:gd name="textAreaBottom" fmla="*/ 1238400 h 1650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8100" y="16200"/>
                  </a:lnTo>
                  <a:lnTo>
                    <a:pt x="8100" y="18900"/>
                  </a:lnTo>
                  <a:lnTo>
                    <a:pt x="5500" y="18900"/>
                  </a:lnTo>
                  <a:lnTo>
                    <a:pt x="10800" y="21600"/>
                  </a:lnTo>
                  <a:lnTo>
                    <a:pt x="16100" y="18900"/>
                  </a:lnTo>
                  <a:lnTo>
                    <a:pt x="13500" y="18900"/>
                  </a:lnTo>
                  <a:lnTo>
                    <a:pt x="13500" y="16200"/>
                  </a:lnTo>
                  <a:lnTo>
                    <a:pt x="21600" y="16200"/>
                  </a:lnTo>
                  <a:lnTo>
                    <a:pt x="21600" y="5400"/>
                  </a:lnTo>
                  <a:lnTo>
                    <a:pt x="13500" y="5400"/>
                  </a:lnTo>
                  <a:lnTo>
                    <a:pt x="13500" y="2700"/>
                  </a:lnTo>
                  <a:lnTo>
                    <a:pt x="16100" y="2700"/>
                  </a:lnTo>
                  <a:lnTo>
                    <a:pt x="10800" y="0"/>
                  </a:lnTo>
                  <a:lnTo>
                    <a:pt x="5500" y="2700"/>
                  </a:lnTo>
                  <a:lnTo>
                    <a:pt x="8100" y="2700"/>
                  </a:lnTo>
                  <a:lnTo>
                    <a:pt x="8100" y="5400"/>
                  </a:lnTo>
                  <a:close/>
                </a:path>
              </a:pathLst>
            </a:custGeom>
            <a:solidFill>
              <a:srgbClr val="c0c0c0">
                <a:alpha val="48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Rectangle 10"/>
            <p:cNvSpPr/>
            <p:nvPr/>
          </p:nvSpPr>
          <p:spPr>
            <a:xfrm>
              <a:off x="344880" y="3458880"/>
              <a:ext cx="1589760" cy="38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390600" indent="-293760">
                <a:lnSpc>
                  <a:spcPct val="101000"/>
                </a:lnSpc>
                <a:spcAft>
                  <a:spcPts val="1287"/>
                </a:spcAft>
                <a:tabLst>
                  <a:tab algn="l" pos="0"/>
                  <a:tab algn="l" pos="655560"/>
                  <a:tab algn="l" pos="1312920"/>
                  <a:tab algn="l" pos="1968480"/>
                  <a:tab algn="l" pos="2625840"/>
                  <a:tab algn="l" pos="3282840"/>
                  <a:tab algn="l" pos="393876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500" spc="-1" strike="noStrike">
                  <a:solidFill>
                    <a:srgbClr val="000000"/>
                  </a:solidFill>
                  <a:latin typeface="Verdana"/>
                </a:rPr>
                <a:t>Migrator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AutoShape 55"/>
          <p:cNvSpPr/>
          <p:nvPr/>
        </p:nvSpPr>
        <p:spPr>
          <a:xfrm>
            <a:off x="801720" y="1793880"/>
            <a:ext cx="622440" cy="760320"/>
          </a:xfrm>
          <a:prstGeom prst="foldedCorner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01360" y="1932120"/>
            <a:ext cx="787320" cy="5191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marL="343080" indent="0">
              <a:lnSpc>
                <a:spcPct val="101000"/>
              </a:lnSpc>
              <a:spcBef>
                <a:spcPts val="700"/>
              </a:spcBef>
              <a:buNone/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i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56"/>
          <p:cNvSpPr/>
          <p:nvPr/>
        </p:nvSpPr>
        <p:spPr>
          <a:xfrm>
            <a:off x="801720" y="4770360"/>
            <a:ext cx="622440" cy="760320"/>
          </a:xfrm>
          <a:prstGeom prst="foldedCorner">
            <a:avLst>
              <a:gd name="adj" fmla="val 12500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33320" y="4905360"/>
            <a:ext cx="787680" cy="38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90600" indent="-293760">
              <a:lnSpc>
                <a:spcPct val="101000"/>
              </a:lnSpc>
              <a:spcAft>
                <a:spcPts val="1287"/>
              </a:spcAft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Verdana"/>
              </a:rPr>
              <a:t>png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Group 82"/>
          <p:cNvGrpSpPr/>
          <p:nvPr/>
        </p:nvGrpSpPr>
        <p:grpSpPr>
          <a:xfrm>
            <a:off x="1589040" y="1797120"/>
            <a:ext cx="4286160" cy="4354560"/>
            <a:chOff x="1589040" y="1797120"/>
            <a:chExt cx="4286160" cy="4354560"/>
          </a:xfrm>
        </p:grpSpPr>
        <p:grpSp>
          <p:nvGrpSpPr>
            <p:cNvPr id="108" name="Group 63"/>
            <p:cNvGrpSpPr/>
            <p:nvPr/>
          </p:nvGrpSpPr>
          <p:grpSpPr>
            <a:xfrm>
              <a:off x="3040560" y="1797120"/>
              <a:ext cx="2280600" cy="2557080"/>
              <a:chOff x="3040560" y="1797120"/>
              <a:chExt cx="2280600" cy="2557080"/>
            </a:xfrm>
          </p:grpSpPr>
          <p:grpSp>
            <p:nvGrpSpPr>
              <p:cNvPr id="109" name="Group 60"/>
              <p:cNvGrpSpPr/>
              <p:nvPr/>
            </p:nvGrpSpPr>
            <p:grpSpPr>
              <a:xfrm>
                <a:off x="3109680" y="2142360"/>
                <a:ext cx="2211480" cy="2211840"/>
                <a:chOff x="3109680" y="2142360"/>
                <a:chExt cx="2211480" cy="2211840"/>
              </a:xfrm>
            </p:grpSpPr>
            <p:sp>
              <p:nvSpPr>
                <p:cNvPr id="110" name="Rectangle 59"/>
                <p:cNvSpPr/>
                <p:nvPr/>
              </p:nvSpPr>
              <p:spPr>
                <a:xfrm>
                  <a:off x="3109680" y="2142360"/>
                  <a:ext cx="2211480" cy="2211840"/>
                </a:xfrm>
                <a:prstGeom prst="rect">
                  <a:avLst/>
                </a:prstGeom>
                <a:solidFill>
                  <a:srgbClr val="c0c0c0">
                    <a:alpha val="41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11" name="Picture 58" descr="zahnrad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3157200" y="2155320"/>
                  <a:ext cx="2094840" cy="21297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12" name="Rectangle 61"/>
              <p:cNvSpPr/>
              <p:nvPr/>
            </p:nvSpPr>
            <p:spPr>
              <a:xfrm>
                <a:off x="3040560" y="1797120"/>
                <a:ext cx="1589760" cy="384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marL="390600" indent="-293760">
                  <a:lnSpc>
                    <a:spcPct val="101000"/>
                  </a:lnSpc>
                  <a:spcAft>
                    <a:spcPts val="1287"/>
                  </a:spcAft>
                  <a:tabLst>
                    <a:tab algn="l" pos="0"/>
                    <a:tab algn="l" pos="655560"/>
                    <a:tab algn="l" pos="1312920"/>
                    <a:tab algn="l" pos="1968480"/>
                    <a:tab algn="l" pos="2625840"/>
                    <a:tab algn="l" pos="3282840"/>
                    <a:tab algn="l" pos="393876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500" spc="-1" strike="noStrike">
                    <a:solidFill>
                      <a:srgbClr val="000000"/>
                    </a:solidFill>
                    <a:latin typeface="Verdana"/>
                  </a:rPr>
                  <a:t>Extractor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3" name="Line 70"/>
            <p:cNvSpPr/>
            <p:nvPr/>
          </p:nvSpPr>
          <p:spPr>
            <a:xfrm>
              <a:off x="1589040" y="2142720"/>
              <a:ext cx="1382760" cy="48348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Line 71"/>
            <p:cNvSpPr/>
            <p:nvPr/>
          </p:nvSpPr>
          <p:spPr>
            <a:xfrm flipV="1">
              <a:off x="1658160" y="3939840"/>
              <a:ext cx="1313280" cy="1036800"/>
            </a:xfrm>
            <a:prstGeom prst="line">
              <a:avLst/>
            </a:prstGeom>
            <a:ln w="38160">
              <a:solidFill>
                <a:srgbClr val="00c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5" name="Group 73"/>
            <p:cNvGrpSpPr/>
            <p:nvPr/>
          </p:nvGrpSpPr>
          <p:grpSpPr>
            <a:xfrm>
              <a:off x="2833200" y="5045760"/>
              <a:ext cx="2972160" cy="829800"/>
              <a:chOff x="2833200" y="5045760"/>
              <a:chExt cx="2972160" cy="829800"/>
            </a:xfrm>
          </p:grpSpPr>
          <p:sp>
            <p:nvSpPr>
              <p:cNvPr id="116" name="Rectangle 23"/>
              <p:cNvSpPr/>
              <p:nvPr/>
            </p:nvSpPr>
            <p:spPr>
              <a:xfrm>
                <a:off x="2833200" y="5045760"/>
                <a:ext cx="1451520" cy="277200"/>
              </a:xfrm>
              <a:prstGeom prst="rect">
                <a:avLst/>
              </a:prstGeom>
              <a:solidFill>
                <a:srgbClr val="00ff00">
                  <a:alpha val="42000"/>
                </a:srgbClr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marL="390600" indent="-293760">
                  <a:lnSpc>
                    <a:spcPct val="101000"/>
                  </a:lnSpc>
                  <a:spcAft>
                    <a:spcPts val="1287"/>
                  </a:spcAft>
                  <a:tabLst>
                    <a:tab algn="l" pos="0"/>
                    <a:tab algn="l" pos="655560"/>
                    <a:tab algn="l" pos="1312920"/>
                    <a:tab algn="l" pos="1968480"/>
                    <a:tab algn="l" pos="2625840"/>
                    <a:tab algn="l" pos="3282840"/>
                    <a:tab algn="l" pos="393876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</a:rPr>
                  <a:t>tiff XCEL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Rectangle 24"/>
              <p:cNvSpPr/>
              <p:nvPr/>
            </p:nvSpPr>
            <p:spPr>
              <a:xfrm>
                <a:off x="4353840" y="5045760"/>
                <a:ext cx="1451520" cy="277200"/>
              </a:xfrm>
              <a:prstGeom prst="rect">
                <a:avLst/>
              </a:prstGeom>
              <a:solidFill>
                <a:srgbClr val="00ccff">
                  <a:alpha val="51000"/>
                </a:srgbClr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marL="390600" indent="-293760">
                  <a:lnSpc>
                    <a:spcPct val="101000"/>
                  </a:lnSpc>
                  <a:spcAft>
                    <a:spcPts val="1287"/>
                  </a:spcAft>
                  <a:tabLst>
                    <a:tab algn="l" pos="0"/>
                    <a:tab algn="l" pos="655560"/>
                    <a:tab algn="l" pos="1312920"/>
                    <a:tab algn="l" pos="1968480"/>
                    <a:tab algn="l" pos="2625840"/>
                    <a:tab algn="l" pos="3282840"/>
                    <a:tab algn="l" pos="393876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Verdana"/>
                  </a:rPr>
                  <a:t>png XCEL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Rectangle 66"/>
              <p:cNvSpPr/>
              <p:nvPr/>
            </p:nvSpPr>
            <p:spPr>
              <a:xfrm>
                <a:off x="4353840" y="5598360"/>
                <a:ext cx="1451520" cy="277200"/>
              </a:xfrm>
              <a:prstGeom prst="rect">
                <a:avLst/>
              </a:prstGeom>
              <a:solidFill>
                <a:srgbClr val="ffcc99">
                  <a:alpha val="35000"/>
                </a:srgbClr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marL="390600" indent="-293760" algn="ctr">
                  <a:lnSpc>
                    <a:spcPct val="101000"/>
                  </a:lnSpc>
                  <a:spcAft>
                    <a:spcPts val="1287"/>
                  </a:spcAft>
                  <a:tabLst>
                    <a:tab algn="l" pos="0"/>
                    <a:tab algn="l" pos="655560"/>
                    <a:tab algn="l" pos="1312920"/>
                    <a:tab algn="l" pos="1968480"/>
                    <a:tab algn="l" pos="2625840"/>
                    <a:tab algn="l" pos="3282840"/>
                    <a:tab algn="l" pos="393876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</a:rPr>
                  <a:t>... XCEL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Rectangle 72"/>
              <p:cNvSpPr/>
              <p:nvPr/>
            </p:nvSpPr>
            <p:spPr>
              <a:xfrm>
                <a:off x="2833200" y="5598360"/>
                <a:ext cx="1451520" cy="277200"/>
              </a:xfrm>
              <a:prstGeom prst="rect">
                <a:avLst/>
              </a:prstGeom>
              <a:solidFill>
                <a:srgbClr val="ffcc99">
                  <a:alpha val="35000"/>
                </a:srgbClr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marL="390600" indent="-293760" algn="ctr">
                  <a:lnSpc>
                    <a:spcPct val="101000"/>
                  </a:lnSpc>
                  <a:spcAft>
                    <a:spcPts val="1287"/>
                  </a:spcAft>
                  <a:tabLst>
                    <a:tab algn="l" pos="0"/>
                    <a:tab algn="l" pos="655560"/>
                    <a:tab algn="l" pos="1312920"/>
                    <a:tab algn="l" pos="1968480"/>
                    <a:tab algn="l" pos="2625840"/>
                    <a:tab algn="l" pos="3282840"/>
                    <a:tab algn="l" pos="393876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</a:rPr>
                  <a:t>... XCEL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" name="Rectangle 74"/>
            <p:cNvSpPr/>
            <p:nvPr/>
          </p:nvSpPr>
          <p:spPr>
            <a:xfrm>
              <a:off x="2764440" y="4907520"/>
              <a:ext cx="3110760" cy="1244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75"/>
            <p:cNvSpPr/>
            <p:nvPr/>
          </p:nvSpPr>
          <p:spPr>
            <a:xfrm flipV="1">
              <a:off x="4328280" y="4354200"/>
              <a:ext cx="0" cy="55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Group 84"/>
          <p:cNvGrpSpPr/>
          <p:nvPr/>
        </p:nvGrpSpPr>
        <p:grpSpPr>
          <a:xfrm>
            <a:off x="6842160" y="2833560"/>
            <a:ext cx="1866960" cy="1659240"/>
            <a:chOff x="6842160" y="2833560"/>
            <a:chExt cx="1866960" cy="1659240"/>
          </a:xfrm>
        </p:grpSpPr>
        <p:sp>
          <p:nvSpPr>
            <p:cNvPr id="123" name="AutoShape 32"/>
            <p:cNvSpPr/>
            <p:nvPr/>
          </p:nvSpPr>
          <p:spPr>
            <a:xfrm>
              <a:off x="6911280" y="2833560"/>
              <a:ext cx="1659240" cy="1659240"/>
            </a:xfrm>
            <a:custGeom>
              <a:avLst/>
              <a:gdLst>
                <a:gd name="textAreaLeft" fmla="*/ 0 w 1659240"/>
                <a:gd name="textAreaRight" fmla="*/ 1659600 w 1659240"/>
                <a:gd name="textAreaTop" fmla="*/ 414720 h 1659240"/>
                <a:gd name="textAreaBottom" fmla="*/ 1244520 h 1659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8100" y="16200"/>
                  </a:lnTo>
                  <a:lnTo>
                    <a:pt x="8100" y="18900"/>
                  </a:lnTo>
                  <a:lnTo>
                    <a:pt x="5500" y="18900"/>
                  </a:lnTo>
                  <a:lnTo>
                    <a:pt x="10800" y="21600"/>
                  </a:lnTo>
                  <a:lnTo>
                    <a:pt x="16100" y="18900"/>
                  </a:lnTo>
                  <a:lnTo>
                    <a:pt x="13500" y="18900"/>
                  </a:lnTo>
                  <a:lnTo>
                    <a:pt x="13500" y="16200"/>
                  </a:lnTo>
                  <a:lnTo>
                    <a:pt x="21600" y="16200"/>
                  </a:lnTo>
                  <a:lnTo>
                    <a:pt x="21600" y="5400"/>
                  </a:lnTo>
                  <a:lnTo>
                    <a:pt x="13500" y="5400"/>
                  </a:lnTo>
                  <a:lnTo>
                    <a:pt x="13500" y="2700"/>
                  </a:lnTo>
                  <a:lnTo>
                    <a:pt x="16100" y="2700"/>
                  </a:lnTo>
                  <a:lnTo>
                    <a:pt x="10800" y="0"/>
                  </a:lnTo>
                  <a:lnTo>
                    <a:pt x="5500" y="2700"/>
                  </a:lnTo>
                  <a:lnTo>
                    <a:pt x="8100" y="2700"/>
                  </a:lnTo>
                  <a:lnTo>
                    <a:pt x="8100" y="5400"/>
                  </a:lnTo>
                  <a:close/>
                </a:path>
              </a:pathLst>
            </a:custGeom>
            <a:solidFill>
              <a:srgbClr val="c0c0c0">
                <a:alpha val="49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27"/>
            <p:cNvSpPr/>
            <p:nvPr/>
          </p:nvSpPr>
          <p:spPr>
            <a:xfrm>
              <a:off x="6842160" y="3453120"/>
              <a:ext cx="1866960" cy="38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390600" indent="-293760">
                <a:lnSpc>
                  <a:spcPct val="101000"/>
                </a:lnSpc>
                <a:spcAft>
                  <a:spcPts val="1287"/>
                </a:spcAft>
                <a:tabLst>
                  <a:tab algn="l" pos="0"/>
                  <a:tab algn="l" pos="655560"/>
                  <a:tab algn="l" pos="1312920"/>
                  <a:tab algn="l" pos="1968480"/>
                  <a:tab algn="l" pos="2625840"/>
                  <a:tab algn="l" pos="3282840"/>
                  <a:tab algn="l" pos="393876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Verdana"/>
                </a:rPr>
                <a:t>Comparer 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Group 81"/>
          <p:cNvGrpSpPr/>
          <p:nvPr/>
        </p:nvGrpSpPr>
        <p:grpSpPr>
          <a:xfrm>
            <a:off x="5391000" y="1450800"/>
            <a:ext cx="3525840" cy="4424040"/>
            <a:chOff x="5391000" y="1450800"/>
            <a:chExt cx="3525840" cy="4424040"/>
          </a:xfrm>
        </p:grpSpPr>
        <p:grpSp>
          <p:nvGrpSpPr>
            <p:cNvPr id="126" name="Group 34"/>
            <p:cNvGrpSpPr/>
            <p:nvPr/>
          </p:nvGrpSpPr>
          <p:grpSpPr>
            <a:xfrm>
              <a:off x="6704640" y="4561560"/>
              <a:ext cx="2212200" cy="1313280"/>
              <a:chOff x="6704640" y="4561560"/>
              <a:chExt cx="2212200" cy="1313280"/>
            </a:xfrm>
          </p:grpSpPr>
          <p:sp>
            <p:nvSpPr>
              <p:cNvPr id="127" name="AutoShape 25"/>
              <p:cNvSpPr/>
              <p:nvPr/>
            </p:nvSpPr>
            <p:spPr>
              <a:xfrm>
                <a:off x="6704640" y="4561560"/>
                <a:ext cx="2212200" cy="1313280"/>
              </a:xfrm>
              <a:prstGeom prst="cube">
                <a:avLst>
                  <a:gd name="adj" fmla="val 25000"/>
                </a:avLst>
              </a:prstGeom>
              <a:solidFill>
                <a:srgbClr val="00b8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Rectangle 29"/>
              <p:cNvSpPr/>
              <p:nvPr/>
            </p:nvSpPr>
            <p:spPr>
              <a:xfrm>
                <a:off x="6704640" y="4906800"/>
                <a:ext cx="1866600" cy="384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marL="390600" indent="-293760">
                  <a:lnSpc>
                    <a:spcPct val="101000"/>
                  </a:lnSpc>
                  <a:spcAft>
                    <a:spcPts val="1287"/>
                  </a:spcAft>
                  <a:tabLst>
                    <a:tab algn="l" pos="0"/>
                    <a:tab algn="l" pos="655560"/>
                    <a:tab algn="l" pos="1312920"/>
                    <a:tab algn="l" pos="1968480"/>
                    <a:tab algn="l" pos="2625840"/>
                    <a:tab algn="l" pos="3282840"/>
                    <a:tab algn="l" pos="393876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500" spc="-1" strike="noStrike">
                    <a:solidFill>
                      <a:srgbClr val="000000"/>
                    </a:solidFill>
                    <a:latin typeface="Verdana"/>
                  </a:rPr>
                  <a:t>png XCDL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9" name="Group 33"/>
            <p:cNvGrpSpPr/>
            <p:nvPr/>
          </p:nvGrpSpPr>
          <p:grpSpPr>
            <a:xfrm>
              <a:off x="6704640" y="1450800"/>
              <a:ext cx="2212200" cy="1313280"/>
              <a:chOff x="6704640" y="1450800"/>
              <a:chExt cx="2212200" cy="1313280"/>
            </a:xfrm>
          </p:grpSpPr>
          <p:sp>
            <p:nvSpPr>
              <p:cNvPr id="130" name="AutoShape 26"/>
              <p:cNvSpPr/>
              <p:nvPr/>
            </p:nvSpPr>
            <p:spPr>
              <a:xfrm>
                <a:off x="6704640" y="1450800"/>
                <a:ext cx="2212200" cy="1313280"/>
              </a:xfrm>
              <a:prstGeom prst="cube">
                <a:avLst>
                  <a:gd name="adj" fmla="val 25000"/>
                </a:avLst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Rectangle 30"/>
              <p:cNvSpPr/>
              <p:nvPr/>
            </p:nvSpPr>
            <p:spPr>
              <a:xfrm>
                <a:off x="6704640" y="1865520"/>
                <a:ext cx="1866600" cy="384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marL="390600" indent="-293760">
                  <a:lnSpc>
                    <a:spcPct val="101000"/>
                  </a:lnSpc>
                  <a:spcAft>
                    <a:spcPts val="1287"/>
                  </a:spcAft>
                  <a:tabLst>
                    <a:tab algn="l" pos="0"/>
                    <a:tab algn="l" pos="655560"/>
                    <a:tab algn="l" pos="1312920"/>
                    <a:tab algn="l" pos="1968480"/>
                    <a:tab algn="l" pos="2625840"/>
                    <a:tab algn="l" pos="3282840"/>
                    <a:tab algn="l" pos="393876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500" spc="-1" strike="noStrike">
                    <a:solidFill>
                      <a:srgbClr val="000000"/>
                    </a:solidFill>
                    <a:latin typeface="Verdana"/>
                  </a:rPr>
                  <a:t>tiff XCDL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2" name="Line 76"/>
            <p:cNvSpPr/>
            <p:nvPr/>
          </p:nvSpPr>
          <p:spPr>
            <a:xfrm flipV="1">
              <a:off x="5460120" y="2349000"/>
              <a:ext cx="1175040" cy="27612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77"/>
            <p:cNvSpPr/>
            <p:nvPr/>
          </p:nvSpPr>
          <p:spPr>
            <a:xfrm>
              <a:off x="5391000" y="3939480"/>
              <a:ext cx="1451520" cy="691200"/>
            </a:xfrm>
            <a:prstGeom prst="line">
              <a:avLst/>
            </a:prstGeom>
            <a:ln w="38160">
              <a:solidFill>
                <a:srgbClr val="00c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AutoShape 46"/>
          <p:cNvSpPr/>
          <p:nvPr/>
        </p:nvSpPr>
        <p:spPr>
          <a:xfrm>
            <a:off x="5253120" y="2557440"/>
            <a:ext cx="1866960" cy="1244520"/>
          </a:xfrm>
          <a:prstGeom prst="cloudCallout">
            <a:avLst>
              <a:gd name="adj1" fmla="val 49768"/>
              <a:gd name="adj2" fmla="val 70023"/>
            </a:avLst>
          </a:prstGeom>
          <a:solidFill>
            <a:srgbClr val="ffcc99">
              <a:alpha val="5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Arial"/>
              </a:rPr>
              <a:t>93%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XCDL &amp; XC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6T12:07:47Z</dcterms:created>
  <dc:creator>Amanda Yarwood</dc:creator>
  <dc:description/>
  <dc:language>en-US</dc:language>
  <cp:lastModifiedBy>tsetup44</cp:lastModifiedBy>
  <dcterms:modified xsi:type="dcterms:W3CDTF">2007-09-06T13:56:01Z</dcterms:modified>
  <cp:revision>41</cp:revision>
  <dc:subject/>
  <dc:title>Slide 1</dc:title>
</cp:coreProperties>
</file>