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34.png" ContentType="image/png"/>
  <Override PartName="/ppt/media/image31.png" ContentType="image/png"/>
  <Override PartName="/ppt/media/image22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7.png" ContentType="image/png"/>
  <Override PartName="/ppt/media/image33.jpeg" ContentType="image/jpeg"/>
  <Override PartName="/ppt/media/image30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2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5D17F3-24C9-4818-BF76-DC6F293DD3C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0" y="7620120"/>
            <a:ext cx="4129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gital Preservatio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-directorate cross-site working within the D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weekly face-to-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in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ex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ible level of internal resource devoted to digital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tionships to key projects (DOM, MSD, WAP, Digitisation generally) in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ing profile in external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sible services for UK/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sible services for Libr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, i2010, Centre of Excellence, Proposal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a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168C-3AEB-40E4-8B6C-97EFCE1E7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6892-9E97-40C6-9255-76DE0C17D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7230-0B67-4680-815F-81CF488E7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24E8-258A-40F0-A643-9F3A69223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50E6-3FFC-42A7-8FA9-885AFD242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BFA7-7586-4FD9-B865-C047CAF13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A803-E147-4503-8E39-198D27DE8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1261-1BA2-4C46-8005-C295A025B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C30C-6B5A-4D90-997D-0027B060F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0EB4-9744-4FBD-A221-0C1403942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5074-E516-431C-88B0-CB464CBC6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5479-5EBC-4FCC-8891-81DAD100A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72960" y="6343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7D4B-127E-4FD5-AB7D-A44110301B94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80360" y="6226200"/>
            <a:ext cx="1466640" cy="59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rcRect l="0" t="0" r="0" b="71097"/>
          <a:stretch/>
        </p:blipFill>
        <p:spPr>
          <a:xfrm>
            <a:off x="179280" y="634356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.nationaalarchief.nl/default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hyperlink" Target="http://www.bl.uk/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statsbiblioteket.dk/" TargetMode="Externa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cs.ac.at/home_de.html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ibm.com/nl/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research.microsoft.com/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hyperlink" Target="http://www.hatii.arts.gla.ac.uk/index.html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www.gla.ac.uk/" TargetMode="External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The Planets Digital Preservation Projec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LF, April 2007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am Farquha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5013360"/>
            <a:ext cx="3924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rings together Archives, Libraries, researchers and technology companie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uilds on strong digital archiving and preservation programm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ddresses core challen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ocuses on needs of Libraries and Archive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ill provide an interoperable framework to enab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ird-parties to provide tools an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Vendors to integrate preservation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tent owners to ensure long-term access to their digital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ill use an empirical approach to gather evidenc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reach shows potential to make a differenc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A2E8-31ED-41F2-8714-7EEC08F35D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 partners I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1040" y="1598400"/>
            <a:ext cx="4422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, Netherlands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ustrian National Library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tate and University Library, Denmark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oyal Library, Denmark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Archives, UK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wiss Federal Archives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Archives, Netherla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66640" y="4406760"/>
            <a:ext cx="3961080" cy="1587600"/>
            <a:chOff x="566640" y="4406760"/>
            <a:chExt cx="3961080" cy="1587600"/>
          </a:xfrm>
        </p:grpSpPr>
        <p:pic>
          <p:nvPicPr>
            <p:cNvPr id="120" name="" descr="homepag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1640" y="5591160"/>
              <a:ext cx="3014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566640" y="4406760"/>
              <a:ext cx="18385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2546280" y="4419720"/>
              <a:ext cx="19814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566640" y="1449360"/>
            <a:ext cx="5608800" cy="2789280"/>
            <a:chOff x="566640" y="1449360"/>
            <a:chExt cx="5608800" cy="2789280"/>
          </a:xfrm>
        </p:grpSpPr>
        <p:pic>
          <p:nvPicPr>
            <p:cNvPr id="124" name="" descr="British Library Logo - www.bl.uk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6640" y="1449360"/>
              <a:ext cx="973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1781280" y="1449360"/>
              <a:ext cx="22003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1781280" y="2884320"/>
              <a:ext cx="238104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Statsbibliotekets logo. Klik for at gå til forsiden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1736640" y="2573280"/>
              <a:ext cx="197172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Det Kongelige Biblioteks logo"/>
            <p:cNvPicPr/>
            <p:nvPr/>
          </p:nvPicPr>
          <p:blipFill>
            <a:blip r:embed="rId11"/>
            <a:srcRect l="18892" t="-19764" r="0" b="0"/>
            <a:stretch/>
          </p:blipFill>
          <p:spPr>
            <a:xfrm>
              <a:off x="566640" y="3691080"/>
              <a:ext cx="560880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5FBD-4BB8-4F30-B9E6-D861A038EA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22360" y="1494000"/>
            <a:ext cx="4914720" cy="1753920"/>
            <a:chOff x="522360" y="1494000"/>
            <a:chExt cx="4914720" cy="1753920"/>
          </a:xfrm>
        </p:grpSpPr>
        <p:pic>
          <p:nvPicPr>
            <p:cNvPr id="130" name="" descr="Austrian Research Center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700360" y="2492280"/>
              <a:ext cx="273672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IBM®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952720" y="1494000"/>
              <a:ext cx="17096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Microsoft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8440" y="2502000"/>
              <a:ext cx="22492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522360" y="1538280"/>
              <a:ext cx="220500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 partners II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41300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essella Plc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BM Netherla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Microsoft Research, Cambridg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ustrian Research Cent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atii at University of Glasgow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niversity of Freibur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echnical University of Vienn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niversity at Cologn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7360" y="3790800"/>
            <a:ext cx="3598560" cy="2428920"/>
            <a:chOff x="657360" y="3790800"/>
            <a:chExt cx="3598560" cy="2428920"/>
          </a:xfrm>
        </p:grpSpPr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657360" y="5114880"/>
              <a:ext cx="2146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9"/>
            <a:stretch/>
          </p:blipFill>
          <p:spPr>
            <a:xfrm>
              <a:off x="2367000" y="3881520"/>
              <a:ext cx="1888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>
              <a:off x="2997360" y="5095800"/>
              <a:ext cx="123012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"/>
            <p:cNvGrpSpPr/>
            <p:nvPr/>
          </p:nvGrpSpPr>
          <p:grpSpPr>
            <a:xfrm>
              <a:off x="657360" y="3790800"/>
              <a:ext cx="1485360" cy="1169640"/>
              <a:chOff x="657360" y="3790800"/>
              <a:chExt cx="1485360" cy="1169640"/>
            </a:xfrm>
          </p:grpSpPr>
          <p:pic>
            <p:nvPicPr>
              <p:cNvPr id="141" name="hatiilogo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657360" y="3790800"/>
                <a:ext cx="1478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crest" descr="university of glasgow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657360" y="4266720"/>
                <a:ext cx="1485360" cy="69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F6AA-9C2A-4535-B71E-0D42DA0E12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Team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50920" y="1557360"/>
            <a:ext cx="5562720" cy="4514040"/>
            <a:chOff x="2050920" y="1557360"/>
            <a:chExt cx="5562720" cy="45140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050920" y="1557360"/>
              <a:ext cx="55627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112920" y="5734080"/>
              <a:ext cx="332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313"/>
                  </a:solidFill>
                  <a:latin typeface="Arial"/>
                </a:rPr>
                <a:t>Kick-off meeting, June 2006</a:t>
              </a:r>
              <a:endParaRPr b="0" lang="en-US" sz="16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440" y="1916280"/>
            <a:ext cx="9053640" cy="4369320"/>
            <a:chOff x="55440" y="1916280"/>
            <a:chExt cx="9053640" cy="436932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5440" y="1916280"/>
              <a:ext cx="905364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21040" y="5948280"/>
              <a:ext cx="33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313"/>
                  </a:solidFill>
                  <a:latin typeface="Arial"/>
                </a:rPr>
                <a:t>All Staff Meeting, Feb 2007</a:t>
              </a:r>
              <a:endParaRPr b="0" lang="en-US" sz="16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4D1C-0DE1-4C4E-842A-33113BED1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1313"/>
                </a:solidFill>
                <a:latin typeface="Arial"/>
              </a:rPr>
              <a:t>Planets approach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ning services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that empower organisations to define, evaluate, and execute preservation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hodologies, tools and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ervices for Characterisation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of digital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novative solutions for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A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ovides services  distribute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enables objective evaluation of protocols, tools, services and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utreach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, workshops and training to engage the user and vendor communit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3B45-0392-4687-A0A4-7439BADAF6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ject architecture reflects problem structur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33600" y="144936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13131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55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1313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13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13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046640" y="1763280"/>
            <a:ext cx="1646280" cy="9003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Digital</a:t>
            </a:r>
            <a:r>
              <a:rPr b="0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7046640" y="302436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Org.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7002000" y="437364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External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FB28-376B-4F72-8571-D88459F565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tat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all 06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t the team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Gathered initial requirem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Conducted workshops and survey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inter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t specificatio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valuated component technolog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pring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nalised many technical and implementation decisio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tarted to build tools and servi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ummer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Initial prototypes completed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rst experiments conducted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540D-C686-44A2-A9C3-E1A8A43376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Key technology choic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XML throughout architecture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web servi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Java and open source compon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SF (Java Server Faces) for user interfa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orkflow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PEL – Business process execution language to describe experiments and pla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clipse BPEL workflow design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Repository and interfa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SR-170 Repository API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Access to digital archiv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ackrabbit to manage intermediate storage and data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andbox technology for some third-party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Boss application serv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5F71-CAC7-41B3-8FE2-A75AB08832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s a foundation for objective evalu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a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xperiment: collect data, evaluate results, compare outcom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Validate preservation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enchmark tools an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sists o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ata storage, hardware, Planets software, testbed softwa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enchmark and other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s resources fo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project partn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preservation community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xternal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ool and service certific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342B-7300-407D-9C0C-9D21B54684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 – Screen Sho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484280"/>
            <a:ext cx="8569080" cy="4562640"/>
            <a:chOff x="324000" y="1484280"/>
            <a:chExt cx="8569080" cy="45626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195640" y="1484280"/>
              <a:ext cx="669744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24000" y="314172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313"/>
                  </a:solidFill>
                  <a:latin typeface="Arial"/>
                </a:rPr>
                <a:t>Design Experiment</a:t>
              </a:r>
              <a:endParaRPr b="0" lang="en-US" sz="2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33F5-2E6D-4F5F-878F-D31E6DE9F1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utli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Digital Preservation problem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projec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Goal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tatu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rchitectur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testb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interoperability framework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5C30-0B92-4DF5-8A98-676028760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 – Screen Sho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7021440" cy="5153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278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13"/>
                </a:solidFill>
                <a:latin typeface="Arial"/>
              </a:rPr>
              <a:t>Run Experiment</a:t>
            </a:r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0360-A31E-4D68-A3E3-AE43733174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the glue to hold the Planets tools and services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service registr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racterisa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eservation ac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shared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urity, authentication, authoris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Monitoring, logging, auditing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ntermediate data, repository, file system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xecute and manage workflow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nable third-parties to provide tools and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nable vendors to integrate preserva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9EBF-F50F-43F6-91C3-655795A45C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1989000"/>
            <a:ext cx="5616720" cy="4680000"/>
          </a:xfrm>
          <a:prstGeom prst="flowChartAlternateProcess">
            <a:avLst/>
          </a:prstGeom>
          <a:solidFill>
            <a:srgbClr val="ffe2c5"/>
          </a:solidFill>
          <a:ln w="9360">
            <a:solidFill>
              <a:srgbClr val="13131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endParaRPr b="0" lang="en-US" sz="16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75280" y="2133720"/>
            <a:ext cx="1512720" cy="4390920"/>
          </a:xfrm>
          <a:prstGeom prst="flowChartAlternateProcess">
            <a:avLst/>
          </a:prstGeom>
          <a:solidFill>
            <a:srgbClr val="a6d5f3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ervice Bu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2997360"/>
            <a:ext cx="3529080" cy="3382920"/>
          </a:xfrm>
          <a:prstGeom prst="rect">
            <a:avLst/>
          </a:prstGeom>
          <a:solidFill>
            <a:srgbClr val="addadd">
              <a:alpha val="50000"/>
            </a:srgbClr>
          </a:solidFill>
          <a:ln w="12600">
            <a:solidFill>
              <a:srgbClr val="1313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3284640"/>
            <a:ext cx="3240000" cy="2950920"/>
          </a:xfrm>
          <a:prstGeom prst="rect">
            <a:avLst/>
          </a:prstGeom>
          <a:solidFill>
            <a:srgbClr val="92cdd2">
              <a:alpha val="50000"/>
            </a:srgbClr>
          </a:solidFill>
          <a:ln w="12600">
            <a:solidFill>
              <a:srgbClr val="1313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3645000"/>
            <a:ext cx="2808360" cy="64764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flow Execution Engin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970520"/>
            <a:ext cx="2016000" cy="43164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Exception Handl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94160"/>
            <a:ext cx="2016000" cy="43200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Transaction Manag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92720" y="4233960"/>
            <a:ext cx="1150920" cy="1082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82920" y="3500280"/>
            <a:ext cx="2232360" cy="865440"/>
          </a:xfrm>
          <a:prstGeom prst="leftArrowCallout">
            <a:avLst>
              <a:gd name="adj1" fmla="val 36272"/>
              <a:gd name="adj2" fmla="val 26458"/>
              <a:gd name="adj3" fmla="val 31921"/>
              <a:gd name="adj4" fmla="val 60816"/>
            </a:avLst>
          </a:prstGeom>
          <a:solidFill>
            <a:srgbClr val="ccffff">
              <a:alpha val="70000"/>
            </a:srgbClr>
          </a:solidFill>
          <a:ln w="1260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15920"/>
            <a:ext cx="5111640" cy="1727280"/>
          </a:xfrm>
          <a:prstGeom prst="roundRect">
            <a:avLst>
              <a:gd name="adj" fmla="val 6708"/>
            </a:avLst>
          </a:pr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404640"/>
            <a:ext cx="5745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Testbed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3552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5632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Character’n</a:t>
            </a:r>
            <a:br>
              <a:rPr sz="1400"/>
            </a:b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7856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526160" y="4581360"/>
            <a:ext cx="1152720" cy="1082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28760" y="189000"/>
            <a:ext cx="4968720" cy="2376360"/>
          </a:xfrm>
          <a:prstGeom prst="downArrowCallout">
            <a:avLst>
              <a:gd name="adj1" fmla="val 20078"/>
              <a:gd name="adj2" fmla="val 22380"/>
              <a:gd name="adj3" fmla="val 21088"/>
              <a:gd name="adj4" fmla="val 64954"/>
            </a:avLst>
          </a:prstGeom>
          <a:noFill/>
          <a:ln w="19080">
            <a:solidFill>
              <a:srgbClr val="1313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74920" y="404640"/>
            <a:ext cx="5745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Design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93920" y="404640"/>
            <a:ext cx="5763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Admin</a:t>
            </a:r>
            <a:br>
              <a:rPr sz="1400"/>
            </a:b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Tool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560920"/>
            <a:ext cx="2808360" cy="57636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Database Lay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78200" y="4394160"/>
            <a:ext cx="647640" cy="100800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43480" y="3621240"/>
            <a:ext cx="1008000" cy="647640"/>
            <a:chOff x="5343480" y="3621240"/>
            <a:chExt cx="1008000" cy="647640"/>
          </a:xfrm>
        </p:grpSpPr>
        <p:sp>
          <p:nvSpPr>
            <p:cNvPr id="216" name=""/>
            <p:cNvSpPr/>
            <p:nvPr/>
          </p:nvSpPr>
          <p:spPr>
            <a:xfrm>
              <a:off x="5343480" y="3621240"/>
              <a:ext cx="1008000" cy="647640"/>
            </a:xfrm>
            <a:custGeom>
              <a:avLst/>
              <a:gdLst>
                <a:gd name="textAreaLeft" fmla="*/ 76320 w 1008000"/>
                <a:gd name="textAreaRight" fmla="*/ 931680 w 1008000"/>
                <a:gd name="textAreaTop" fmla="*/ 76320 h 647640"/>
                <a:gd name="textAreaBottom" fmla="*/ 571320 h 647640"/>
              </a:gdLst>
              <a:ahLst/>
              <a:rect l="textAreaLeft" t="textAreaTop" r="textAreaRight" b="textAreaBottom"/>
              <a:pathLst>
                <a:path w="3361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0012" y="21600"/>
                  </a:lnTo>
                  <a:arcTo wR="3600" hR="3600" stAng="10800000" swAng="5400000"/>
                  <a:lnTo>
                    <a:pt x="3361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4080" y="3692520"/>
              <a:ext cx="766800" cy="506160"/>
            </a:xfrm>
            <a:prstGeom prst="can">
              <a:avLst>
                <a:gd name="adj" fmla="val 25000"/>
              </a:avLst>
            </a:prstGeom>
            <a:solidFill>
              <a:srgbClr val="4eafb6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313"/>
                  </a:solidFill>
                  <a:latin typeface="Arial"/>
                </a:rPr>
                <a:t>Service </a:t>
              </a: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313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7451640" y="620640"/>
          <a:ext cx="80028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620640"/>
                    <a:ext cx="800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292720" y="2349360"/>
            <a:ext cx="1150920" cy="1084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282920" y="5373720"/>
            <a:ext cx="2232360" cy="1008000"/>
          </a:xfrm>
          <a:prstGeom prst="leftArrowCallout">
            <a:avLst>
              <a:gd name="adj1" fmla="val 36272"/>
              <a:gd name="adj2" fmla="val 26458"/>
              <a:gd name="adj3" fmla="val 27406"/>
              <a:gd name="adj4" fmla="val 60816"/>
            </a:avLst>
          </a:prstGeom>
          <a:solidFill>
            <a:srgbClr val="ccffff">
              <a:alpha val="70000"/>
            </a:srgbClr>
          </a:solidFill>
          <a:ln w="1260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72200" y="5442120"/>
            <a:ext cx="1152360" cy="862920"/>
            <a:chOff x="5272200" y="5442120"/>
            <a:chExt cx="1152360" cy="862920"/>
          </a:xfrm>
        </p:grpSpPr>
        <p:grpSp>
          <p:nvGrpSpPr>
            <p:cNvPr id="223" name=""/>
            <p:cNvGrpSpPr/>
            <p:nvPr/>
          </p:nvGrpSpPr>
          <p:grpSpPr>
            <a:xfrm>
              <a:off x="5272200" y="5442120"/>
              <a:ext cx="1008000" cy="647640"/>
              <a:chOff x="5272200" y="5442120"/>
              <a:chExt cx="1008000" cy="647640"/>
            </a:xfrm>
          </p:grpSpPr>
          <p:sp>
            <p:nvSpPr>
              <p:cNvPr id="224" name=""/>
              <p:cNvSpPr/>
              <p:nvPr/>
            </p:nvSpPr>
            <p:spPr>
              <a:xfrm>
                <a:off x="5272200" y="5442120"/>
                <a:ext cx="1008000" cy="647640"/>
              </a:xfrm>
              <a:custGeom>
                <a:avLst/>
                <a:gdLst>
                  <a:gd name="textAreaLeft" fmla="*/ 76320 w 1008000"/>
                  <a:gd name="textAreaRight" fmla="*/ 931680 w 1008000"/>
                  <a:gd name="textAreaTop" fmla="*/ 76320 h 647640"/>
                  <a:gd name="textAreaBottom" fmla="*/ 571320 h 647640"/>
                </a:gdLst>
                <a:ahLst/>
                <a:rect l="textAreaLeft" t="textAreaTop" r="textAreaRight" b="textAreaBottom"/>
                <a:pathLst>
                  <a:path w="33612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0012" y="21600"/>
                    </a:lnTo>
                    <a:arcTo wR="3600" hR="3600" stAng="10800000" swAng="5400000"/>
                    <a:lnTo>
                      <a:pt x="33612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2800" y="5513400"/>
                <a:ext cx="766800" cy="50616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Registry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16560" y="5657760"/>
              <a:ext cx="1008000" cy="647280"/>
              <a:chOff x="5416560" y="5657760"/>
              <a:chExt cx="1008000" cy="647280"/>
            </a:xfrm>
          </p:grpSpPr>
          <p:sp>
            <p:nvSpPr>
              <p:cNvPr id="227" name=""/>
              <p:cNvSpPr/>
              <p:nvPr/>
            </p:nvSpPr>
            <p:spPr>
              <a:xfrm>
                <a:off x="5416560" y="5657760"/>
                <a:ext cx="1008000" cy="647280"/>
              </a:xfrm>
              <a:custGeom>
                <a:avLst/>
                <a:gdLst>
                  <a:gd name="textAreaLeft" fmla="*/ 76320 w 1008000"/>
                  <a:gd name="textAreaRight" fmla="*/ 931680 w 1008000"/>
                  <a:gd name="textAreaTop" fmla="*/ 76320 h 647280"/>
                  <a:gd name="textAreaBottom" fmla="*/ 570960 h 647280"/>
                </a:gdLst>
                <a:ahLst/>
                <a:rect l="textAreaLeft" t="textAreaTop" r="textAreaRight" b="textAreaBottom"/>
                <a:pathLst>
                  <a:path w="33631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0031" y="21600"/>
                    </a:lnTo>
                    <a:arcTo wR="3600" hR="3600" stAng="10800000" swAng="5400000"/>
                    <a:lnTo>
                      <a:pt x="33631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37160" y="5729040"/>
                <a:ext cx="766800" cy="50580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Registry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7524720" y="2421000"/>
            <a:ext cx="1297080" cy="792000"/>
            <a:chOff x="7524720" y="2421000"/>
            <a:chExt cx="1297080" cy="792000"/>
          </a:xfrm>
        </p:grpSpPr>
        <p:sp>
          <p:nvSpPr>
            <p:cNvPr id="230" name=""/>
            <p:cNvSpPr/>
            <p:nvPr/>
          </p:nvSpPr>
          <p:spPr>
            <a:xfrm>
              <a:off x="7524720" y="2421000"/>
              <a:ext cx="1297080" cy="792000"/>
            </a:xfrm>
            <a:custGeom>
              <a:avLst/>
              <a:gdLst>
                <a:gd name="textAreaLeft" fmla="*/ 93240 w 1297080"/>
                <a:gd name="textAreaRight" fmla="*/ 1203840 w 1297080"/>
                <a:gd name="textAreaTop" fmla="*/ 93240 h 792000"/>
                <a:gd name="textAreaBottom" fmla="*/ 698760 h 792000"/>
              </a:gdLst>
              <a:ahLst/>
              <a:rect l="textAreaLeft" t="textAreaTop" r="textAreaRight" b="textAreaBottom"/>
              <a:pathLst>
                <a:path w="3536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1769" y="21600"/>
                  </a:lnTo>
                  <a:arcTo wR="3600" hR="3600" stAng="10800000" swAng="5400000"/>
                  <a:lnTo>
                    <a:pt x="3536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9080" y="2494080"/>
              <a:ext cx="1008360" cy="647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1313"/>
                  </a:solidFill>
                  <a:latin typeface="Arial"/>
                </a:rPr>
                <a:t>Repositories</a:t>
              </a: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524720" y="3538440"/>
            <a:ext cx="1297080" cy="792360"/>
            <a:chOff x="7524720" y="3538440"/>
            <a:chExt cx="1297080" cy="792360"/>
          </a:xfrm>
        </p:grpSpPr>
        <p:sp>
          <p:nvSpPr>
            <p:cNvPr id="233" name=""/>
            <p:cNvSpPr/>
            <p:nvPr/>
          </p:nvSpPr>
          <p:spPr>
            <a:xfrm>
              <a:off x="7524720" y="3538440"/>
              <a:ext cx="1297080" cy="792360"/>
            </a:xfrm>
            <a:custGeom>
              <a:avLst/>
              <a:gdLst>
                <a:gd name="textAreaLeft" fmla="*/ 93240 w 1297080"/>
                <a:gd name="textAreaRight" fmla="*/ 1203840 w 1297080"/>
                <a:gd name="textAreaTop" fmla="*/ 93240 h 792360"/>
                <a:gd name="textAreaBottom" fmla="*/ 699120 h 792360"/>
              </a:gdLst>
              <a:ahLst/>
              <a:rect l="textAreaLeft" t="textAreaTop" r="textAreaRight" b="textAreaBottom"/>
              <a:pathLst>
                <a:path w="3535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1753" y="21600"/>
                  </a:lnTo>
                  <a:arcTo wR="3600" hR="3600" stAng="10800000" swAng="5400000"/>
                  <a:lnTo>
                    <a:pt x="3535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9080" y="3610080"/>
              <a:ext cx="1009800" cy="647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1313"/>
                  </a:solidFill>
                  <a:latin typeface="Arial"/>
                </a:rPr>
                <a:t>Registries</a:t>
              </a: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cxnSp>
        <p:nvCxnSpPr>
          <p:cNvPr id="235" name=""/>
          <p:cNvCxnSpPr>
            <a:stCxn id="203" idx="0"/>
            <a:endCxn id="209" idx="1"/>
          </p:cNvCxnSpPr>
          <p:nvPr/>
        </p:nvCxnSpPr>
        <p:spPr>
          <a:xfrm>
            <a:off x="6515280" y="3933360"/>
            <a:ext cx="1011600" cy="1189800"/>
          </a:xfrm>
          <a:prstGeom prst="bentConnector3">
            <a:avLst>
              <a:gd name="adj1" fmla="val 49911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6" name=""/>
          <p:cNvCxnSpPr>
            <a:stCxn id="203" idx="1"/>
            <a:endCxn id="230" idx="1"/>
          </p:cNvCxnSpPr>
          <p:nvPr/>
        </p:nvCxnSpPr>
        <p:spPr>
          <a:xfrm flipV="1">
            <a:off x="6515280" y="2817360"/>
            <a:ext cx="1010160" cy="1116720"/>
          </a:xfrm>
          <a:prstGeom prst="bentConnector3">
            <a:avLst>
              <a:gd name="adj1" fmla="val 49982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7" name=""/>
          <p:cNvCxnSpPr>
            <a:stCxn id="203" idx="2"/>
            <a:endCxn id="233" idx="1"/>
          </p:cNvCxnSpPr>
          <p:nvPr/>
        </p:nvCxnSpPr>
        <p:spPr>
          <a:xfrm>
            <a:off x="6515280" y="3933360"/>
            <a:ext cx="1010160" cy="2520"/>
          </a:xfrm>
          <a:prstGeom prst="bentConnector3">
            <a:avLst>
              <a:gd name="adj1" fmla="val 49982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8" name=""/>
          <p:cNvCxnSpPr>
            <a:endCxn id="204" idx="3"/>
          </p:cNvCxnSpPr>
          <p:nvPr/>
        </p:nvCxnSpPr>
        <p:spPr>
          <a:xfrm flipH="1" flipV="1">
            <a:off x="6369840" y="979200"/>
            <a:ext cx="1081800" cy="326160"/>
          </a:xfrm>
          <a:prstGeom prst="straightConnector1">
            <a:avLst/>
          </a:prstGeom>
          <a:ln w="2844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3C87-BB7B-4F6C-9EF0-EB7A07F781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514760" cy="30384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 – Workflow desig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19888"/>
          <a:stretch/>
        </p:blipFill>
        <p:spPr>
          <a:xfrm>
            <a:off x="250920" y="1413000"/>
            <a:ext cx="8424720" cy="52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FACB-0C30-4C4F-B574-93041D5B8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7360" y="1628640"/>
            <a:ext cx="1665000" cy="103680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7360" y="2798640"/>
            <a:ext cx="1665000" cy="1036800"/>
          </a:xfrm>
          <a:prstGeom prst="flowChartDocument">
            <a:avLst/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7360" y="39686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97360" y="2708280"/>
            <a:ext cx="1844640" cy="12142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ne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6640" y="2664000"/>
            <a:ext cx="1486080" cy="1304640"/>
          </a:xfrm>
          <a:prstGeom prst="flowChartMulti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3"/>
            <a:endCxn id="247" idx="1"/>
          </p:cNvCxnSpPr>
          <p:nvPr/>
        </p:nvCxnSpPr>
        <p:spPr>
          <a:xfrm>
            <a:off x="4842000" y="3315960"/>
            <a:ext cx="40536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227720" y="2708280"/>
            <a:ext cx="1846440" cy="121428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 Evalua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0"/>
            <a:endCxn id="246" idx="0"/>
          </p:cNvCxnSpPr>
          <p:nvPr/>
        </p:nvCxnSpPr>
        <p:spPr>
          <a:xfrm rot="5400000">
            <a:off x="6034320" y="592920"/>
            <a:ext cx="2160" cy="423288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9" idx="1"/>
          </p:cNvCxnSpPr>
          <p:nvPr/>
        </p:nvCxnSpPr>
        <p:spPr>
          <a:xfrm>
            <a:off x="6732360" y="3315960"/>
            <a:ext cx="49572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086280" y="46418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6" idx="2"/>
            <a:endCxn id="252" idx="0"/>
          </p:cNvCxnSpPr>
          <p:nvPr/>
        </p:nvCxnSpPr>
        <p:spPr>
          <a:xfrm>
            <a:off x="3919320" y="3922560"/>
            <a:ext cx="1080" cy="7200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7292880" y="4373640"/>
            <a:ext cx="1737000" cy="1214280"/>
          </a:xfrm>
          <a:prstGeom prst="flowChartMagneticDisk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2"/>
            <a:endCxn id="254" idx="1"/>
          </p:cNvCxnSpPr>
          <p:nvPr/>
        </p:nvCxnSpPr>
        <p:spPr>
          <a:xfrm>
            <a:off x="8151840" y="3922200"/>
            <a:ext cx="10080" cy="4518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57360" y="5138640"/>
            <a:ext cx="1665000" cy="10368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322000" y="2147760"/>
            <a:ext cx="675360" cy="3510000"/>
            <a:chOff x="2322000" y="2147760"/>
            <a:chExt cx="675360" cy="3510000"/>
          </a:xfrm>
        </p:grpSpPr>
        <p:cxnSp>
          <p:nvCxnSpPr>
            <p:cNvPr id="258" name=""/>
            <p:cNvCxnSpPr>
              <a:stCxn id="243" idx="3"/>
              <a:endCxn id="246" idx="1"/>
            </p:cNvCxnSpPr>
            <p:nvPr/>
          </p:nvCxnSpPr>
          <p:spPr>
            <a:xfrm>
              <a:off x="2322000" y="2147760"/>
              <a:ext cx="675720" cy="116928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45" idx="3"/>
              <a:endCxn id="246" idx="1"/>
            </p:cNvCxnSpPr>
            <p:nvPr/>
          </p:nvCxnSpPr>
          <p:spPr>
            <a:xfrm flipV="1">
              <a:off x="2322000" y="3315960"/>
              <a:ext cx="675720" cy="117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  <a:endCxn id="246" idx="1"/>
            </p:cNvCxnSpPr>
            <p:nvPr/>
          </p:nvCxnSpPr>
          <p:spPr>
            <a:xfrm flipV="1">
              <a:off x="2322000" y="3315960"/>
              <a:ext cx="675720" cy="2160"/>
            </a:xfrm>
            <a:prstGeom prst="straightConnector1">
              <a:avLst/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6" idx="3"/>
              <a:endCxn id="246" idx="1"/>
            </p:cNvCxnSpPr>
            <p:nvPr/>
          </p:nvCxnSpPr>
          <p:spPr>
            <a:xfrm flipV="1">
              <a:off x="2322000" y="3315960"/>
              <a:ext cx="675720" cy="234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B881-6E2B-4760-BF79-C598EA3856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plan execu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27360" y="3701880"/>
            <a:ext cx="1844640" cy="94464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8440" y="3701880"/>
            <a:ext cx="1846080" cy="94464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2360" y="3747960"/>
            <a:ext cx="1665360" cy="85104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3"/>
            <a:endCxn id="263" idx="1"/>
          </p:cNvCxnSpPr>
          <p:nvPr/>
        </p:nvCxnSpPr>
        <p:spPr>
          <a:xfrm>
            <a:off x="2187360" y="4173120"/>
            <a:ext cx="540360" cy="252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292720" y="5005440"/>
            <a:ext cx="1736640" cy="94464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3" idx="3"/>
            <a:endCxn id="264" idx="1"/>
          </p:cNvCxnSpPr>
          <p:nvPr/>
        </p:nvCxnSpPr>
        <p:spPr>
          <a:xfrm>
            <a:off x="4571640" y="4174920"/>
            <a:ext cx="67716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5248440" y="2489040"/>
            <a:ext cx="1846080" cy="9003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27360" y="2714760"/>
            <a:ext cx="1846080" cy="4492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dap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3" idx="0"/>
            <a:endCxn id="270" idx="2"/>
          </p:cNvCxnSpPr>
          <p:nvPr/>
        </p:nvCxnSpPr>
        <p:spPr>
          <a:xfrm flipV="1">
            <a:off x="3649680" y="3163680"/>
            <a:ext cx="2160" cy="53856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70" idx="3"/>
            <a:endCxn id="269" idx="1"/>
          </p:cNvCxnSpPr>
          <p:nvPr/>
        </p:nvCxnSpPr>
        <p:spPr>
          <a:xfrm>
            <a:off x="4573080" y="2939760"/>
            <a:ext cx="67572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2"/>
            <a:endCxn id="267" idx="1"/>
          </p:cNvCxnSpPr>
          <p:nvPr/>
        </p:nvCxnSpPr>
        <p:spPr>
          <a:xfrm flipH="1">
            <a:off x="6160320" y="4646160"/>
            <a:ext cx="11880" cy="35964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4" idx="0"/>
            <a:endCxn id="269" idx="2"/>
          </p:cNvCxnSpPr>
          <p:nvPr/>
        </p:nvCxnSpPr>
        <p:spPr>
          <a:xfrm flipV="1">
            <a:off x="6171840" y="3389040"/>
            <a:ext cx="1080" cy="3132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830920" y="1403280"/>
            <a:ext cx="720720" cy="6303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4"/>
            <a:endCxn id="269" idx="0"/>
          </p:cNvCxnSpPr>
          <p:nvPr/>
        </p:nvCxnSpPr>
        <p:spPr>
          <a:xfrm flipH="1">
            <a:off x="6171480" y="2052720"/>
            <a:ext cx="19800" cy="43704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"/>
          <p:cNvCxnSpPr>
            <a:stCxn id="278" idx="4"/>
            <a:endCxn id="265" idx="0"/>
          </p:cNvCxnSpPr>
          <p:nvPr/>
        </p:nvCxnSpPr>
        <p:spPr>
          <a:xfrm>
            <a:off x="1353600" y="3114360"/>
            <a:ext cx="2520" cy="63396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1241280" y="2889360"/>
            <a:ext cx="225720" cy="225360"/>
          </a:xfrm>
          <a:prstGeom prst="flowChartConnector">
            <a:avLst/>
          </a:prstGeom>
          <a:gradFill rotWithShape="0">
            <a:gsLst>
              <a:gs pos="0">
                <a:srgbClr val="00ff00">
                  <a:alpha val="86274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6CF6-8A16-4F8C-8CA9-2D2BA671C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 characterisa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racterise content to support preserv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Reduce up-front metadata cos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.g., Harvard segmented images based on tool paramet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Build on TNAs PRONOM for file-format identific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 characterisation language (XCDL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n extraction language (XCEL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n pluggable interpret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xtend to measure loss due to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ll transformations cause lo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Leverage understanding to improve file forma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 a root cause of digital obsolescen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6B8-8D2D-4845-B130-E4156C5E8F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388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Transform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rap third-party transformation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ll gaps with new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eserve relational databas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eserve Office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MSFT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21040" y="1598400"/>
            <a:ext cx="3889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Transform environm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Modular emulation of the full hardware/software environm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Leverage Virtual Machine technology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Layered durable emulation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IBM Universal Virtual Computer (UVC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38B0-4B60-4985-A4B4-84606E4B36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lanets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s a major EU co-funded digital preservation projec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es the needs of Libraries and Archiv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Has made substantial progress towards a service-oriented preservation infrastructur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Looks forward to working with the international Digital Library community to test, evaluate, refine, impro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B440-6951-4328-8099-C1261500E2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Questions?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2276640"/>
            <a:ext cx="60483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31313"/>
                </a:solidFill>
                <a:latin typeface="Arial"/>
              </a:rPr>
              <a:t>Thanks!</a:t>
            </a:r>
            <a:endParaRPr b="0" lang="en-US" sz="36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131313"/>
                </a:solidFill>
                <a:latin typeface="Arial"/>
              </a:rPr>
              <a:t>http://www.planets-project.eu/</a:t>
            </a: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131313"/>
                </a:solidFill>
                <a:latin typeface="Arial"/>
              </a:rPr>
              <a:t>info@planets-project.eu</a:t>
            </a: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875B-71A1-403F-9367-F831C49B62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1313"/>
                </a:solidFill>
                <a:latin typeface="Arial"/>
              </a:rPr>
              <a:t>Digital information at risk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6735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ur society risks a gaping hole in the cultural and scientific record unless we act now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uropean National Libraries and Archiv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ust provide sustained access to cultural and scientific knowledg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35880" y="1314360"/>
            <a:ext cx="1176480" cy="499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7444-8C28-4D1D-A60C-2EF9081A8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31313"/>
                </a:solidFill>
                <a:latin typeface="Arial"/>
              </a:rPr>
              <a:t>EU Support for digital preserva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Major initiative in the Information Science and Technology (IST) Framework Programme 6 Call 5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wo Integrated Projects funded: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Planets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BL),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Caspar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CCLRC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oordinated action: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DPE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HATII at Glasgow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lanets builds on strong digital archiving and preservation programmes at European, National and institutional level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es core digital preservation challenges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Use an empirical approach to learn what works and wh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 year project starting June 2006 with 15me budge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71097"/>
          <a:stretch/>
        </p:blipFill>
        <p:spPr>
          <a:xfrm>
            <a:off x="7407360" y="0"/>
            <a:ext cx="141444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FB39-0543-46B7-A55D-9B65B55D5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hurts everyo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NHS doctor needs a 1987 clinical study found on Google Schola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he tries to open the ‘dvi’ file, but can’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 father shows his children the computer game he wrote in school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e wrote the game in PDP assembl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e stored the program on paper tap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 small business owner wants to market the energy saving device it developed in 1985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he carefully stored all of the fil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Now she doesn’t have the applications to read the documents, spread-sheets, and CAD drawing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 CAD company is long out of busines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3722-786A-48C5-9AFC-71547A7A5B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costs opportunit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university research lab has provided its data, technical reports, software on-line since 1984 and on the web since 1990.  The professor retires and closes the lab in 2004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university IP officer wants to defend a patent challeng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biographer wants review the unpublished work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former student wants to revive a line of research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digital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are damag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applications that are out-of-us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hardware that is unavailabl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an environment that no longer exis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information that no-one record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E541-5388-481C-A7F9-D43A5A54F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costs mone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388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oil company collected extensive data for a reservoir and want to exploit it in 2007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ll documents and data are held in v1.3 of an integrated management produc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y now use v9.0 and can’t read or access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oilfield services company collects dipmeter data in the 1970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ored on 7-Track tap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Recorded in optimised forma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fficult and expensive to repeat measurement dat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37000" y="4238640"/>
            <a:ext cx="441000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981B-B62F-4B14-BA8A-EFF23C0C2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How big is the problem?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ho is touched by digital preservation problems?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dividual consum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mall and medium sized enterpris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arge corpor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University libraries, faculties, institut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cal, regional, national governmen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very person or organisation that keeps digital material for more than 15 years!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stimates suggest Europe loses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  <a:ea typeface="Arial"/>
              </a:rPr>
              <a:t>€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3bn per year in business valu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32AB-D120-4877-8BA8-E4849D70C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our-year EU-Funded (FP6) Digital Preservation research and technology development project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uild practical solu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tegrate existing expertise, designs and too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hare and build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BF2D-F670-4886-A665-9E30197B6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24:13Z</dcterms:created>
  <dc:creator>Adam Farquhar</dc:creator>
  <dc:description/>
  <cp:keywords/>
  <dc:language>en-US</dc:language>
  <cp:lastModifiedBy>Amanda Yarwood</cp:lastModifiedBy>
  <dcterms:modified xsi:type="dcterms:W3CDTF">2007-06-12T13:45:00Z</dcterms:modified>
  <cp:revision>53</cp:revision>
  <dc:subject/>
  <dc:title>TITLE</dc:title>
</cp:coreProperties>
</file>