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4.png" ContentType="image/png"/>
  <Override PartName="/ppt/media/image34.png" ContentType="image/png"/>
  <Override PartName="/ppt/media/image31.png" ContentType="image/png"/>
  <Override PartName="/ppt/media/image22.jpeg" ContentType="image/jpe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11.png" ContentType="image/png"/>
  <Override PartName="/ppt/media/image9.jpeg" ContentType="image/jpeg"/>
  <Override PartName="/ppt/media/image27.png" ContentType="image/png"/>
  <Override PartName="/ppt/media/image33.jpeg" ContentType="image/jpeg"/>
  <Override PartName="/ppt/media/image30.wmf" ContentType="image/x-wmf"/>
  <Override PartName="/ppt/media/image1.jpeg" ContentType="image/jpeg"/>
  <Override PartName="/ppt/media/image10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9.png" ContentType="image/png"/>
  <Override PartName="/ppt/media/image2.wmf" ContentType="image/x-wmf"/>
  <Override PartName="/ppt/media/image17.png" ContentType="image/png"/>
  <Override PartName="/ppt/media/image32.jpeg" ContentType="image/jpeg"/>
  <Override PartName="/ppt/media/image35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304560" y="228600"/>
            <a:ext cx="4724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5257800" y="22860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1066680" y="43434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304560" y="8685000"/>
            <a:ext cx="48006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5257800" y="8685000"/>
            <a:ext cx="13716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B0AA6138-3AF7-47EF-8267-92324D12E7BC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49200" y="7620120"/>
            <a:ext cx="412920" cy="807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1066680" y="43434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igital Preservation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07880" indent="-22860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07880" indent="-22860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oss-directorate cross-site working within the D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07880" indent="-22860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 weekly face-to-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07880" indent="-22860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mary internal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mary external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rui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nsible level of internal resource devoted to digital pre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tionships to key projects (DOM, MSD, WAP, Digitisation generally) in h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reasing profile in external 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sible services for UK/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sible services for Libr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, i2010, Centre of Excellence, Proposal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pa o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6A52F-61C3-46A6-88C0-3E4C576CEE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1ED28-2441-4F71-8013-8E971CDC40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FE615-3BFD-4109-9A0D-CA3D3D8628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9A1B9-70D2-47A4-B030-A35EFA63C5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61760" y="3826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871D7-4558-43E9-94EF-D47EFD4EBF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6492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4476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44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6492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4476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01900-991A-404E-AA47-91F3872788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F4167-C940-4DD5-8BD5-4CDA5C9F6D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26EC0-9760-476B-840B-94437E156D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1760" y="3826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EDEC7-3B3F-430D-8150-6903EEED2F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84842-60D0-4BBB-B1AB-9F99842C22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96144-7C79-446C-BD4B-24C70928F9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88AC5-91C3-43DC-B22A-C65313367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35120" y="0"/>
            <a:ext cx="8408880" cy="1341360"/>
          </a:xfrm>
          <a:prstGeom prst="rect">
            <a:avLst/>
          </a:prstGeom>
          <a:solidFill>
            <a:srgbClr val="9cd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220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220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851040" indent="-279360">
              <a:spcBef>
                <a:spcPts val="220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4" marL="1244520" indent="-203040">
              <a:spcBef>
                <a:spcPts val="2200"/>
              </a:spcBef>
              <a:buClr>
                <a:srgbClr val="c6172c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5" marL="1244520" indent="-203040">
              <a:spcBef>
                <a:spcPts val="220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6" marL="1244520" indent="-203040">
              <a:spcBef>
                <a:spcPts val="220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072960" y="63432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3131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F182-688F-41B3-BB1C-1A0724C9E971}" type="slidenum">
              <a:rPr b="0" lang="en-GB" sz="1400" spc="-1" strike="noStrike">
                <a:solidFill>
                  <a:srgbClr val="13131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" cy="13413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380360" y="6226200"/>
            <a:ext cx="1466640" cy="5936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rcRect l="0" t="0" r="0" b="71097"/>
          <a:stretch/>
        </p:blipFill>
        <p:spPr>
          <a:xfrm>
            <a:off x="179280" y="6343560"/>
            <a:ext cx="720720" cy="47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cd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19280" y="1268280"/>
            <a:ext cx="7524720" cy="16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0560" y="1701720"/>
            <a:ext cx="6634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17480" y="1268280"/>
            <a:ext cx="846360" cy="1654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144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291960" algn="ctr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571680" algn="ctr">
              <a:spcBef>
                <a:spcPts val="55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4" marL="1041480" algn="ctr">
              <a:spcBef>
                <a:spcPts val="550"/>
              </a:spcBef>
              <a:buClr>
                <a:srgbClr val="c6172c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Fif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  <a:p>
            <a:pPr lvl="5" marL="1041480">
              <a:spcBef>
                <a:spcPts val="55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Six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  <a:p>
            <a:pPr lvl="6" marL="1041480">
              <a:spcBef>
                <a:spcPts val="55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Seven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n.nationaalarchief.nl/default.asp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hyperlink" Target="http://www.bl.uk/" TargetMode="External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hyperlink" Target="http://www.statsbiblioteket.dk/" TargetMode="External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rcs.ac.at/home_de.html" TargetMode="External"/><Relationship Id="rId2" Type="http://schemas.openxmlformats.org/officeDocument/2006/relationships/image" Target="../media/image15.png"/><Relationship Id="rId3" Type="http://schemas.openxmlformats.org/officeDocument/2006/relationships/hyperlink" Target="http://www.ibm.com/nl/" TargetMode="External"/><Relationship Id="rId4" Type="http://schemas.openxmlformats.org/officeDocument/2006/relationships/image" Target="../media/image16.png"/><Relationship Id="rId5" Type="http://schemas.openxmlformats.org/officeDocument/2006/relationships/hyperlink" Target="http://research.microsoft.com/" TargetMode="External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hyperlink" Target="http://www.hatii.arts.gla.ac.uk/index.html" TargetMode="External"/><Relationship Id="rId12" Type="http://schemas.openxmlformats.org/officeDocument/2006/relationships/image" Target="../media/image22.jpeg"/><Relationship Id="rId13" Type="http://schemas.openxmlformats.org/officeDocument/2006/relationships/hyperlink" Target="http://www.gla.ac.uk/" TargetMode="External"/><Relationship Id="rId14" Type="http://schemas.openxmlformats.org/officeDocument/2006/relationships/image" Target="../media/image23.pn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0.wmf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0560" y="1701720"/>
            <a:ext cx="6634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1313"/>
                </a:solidFill>
                <a:latin typeface="Arial"/>
              </a:rPr>
              <a:t>The Planets Digital Preservation Project</a:t>
            </a:r>
            <a:endParaRPr b="1" lang="en-US" sz="28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050560" y="3429000"/>
            <a:ext cx="6634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DLF, April 2007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Adam Farquhar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932360" y="5013360"/>
            <a:ext cx="392436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Planet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Brings together Archives, Libraries, researchers and technology companies 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Builds on strong digital archiving and preservation programm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Addresses core challeng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Focuses on needs of Libraries and Archives 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Will provide an interoperable framework to enabl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Third-parties to provide tools and servic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Vendors to integrate preservation servic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Content owners to ensure long-term access to their digital content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Will use an empirical approach to gather evidenc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Outreach shows potential to make a differenc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88FE8-331C-4F34-810F-D8EF5250F2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Planets partners I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21040" y="1598400"/>
            <a:ext cx="44226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The British Library</a:t>
            </a:r>
            <a:br>
              <a:rPr sz="2000"/>
            </a:b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National Library, Netherlands</a:t>
            </a:r>
            <a:br>
              <a:rPr sz="2000"/>
            </a:b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Austrian National Library</a:t>
            </a:r>
            <a:br>
              <a:rPr sz="2000"/>
            </a:b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State and University Library, Denmark</a:t>
            </a:r>
            <a:br>
              <a:rPr sz="2000"/>
            </a:b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Royal Library, Denmark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National Archives, UK</a:t>
            </a:r>
            <a:br>
              <a:rPr sz="2000"/>
            </a:b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Swiss Federal Archives</a:t>
            </a:r>
            <a:br>
              <a:rPr sz="2000"/>
            </a:b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National Archives, Netherland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66640" y="4406760"/>
            <a:ext cx="3961080" cy="1587600"/>
            <a:chOff x="566640" y="4406760"/>
            <a:chExt cx="3961080" cy="1587600"/>
          </a:xfrm>
        </p:grpSpPr>
        <p:pic>
          <p:nvPicPr>
            <p:cNvPr id="120" name="" descr="homepage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01640" y="5591160"/>
              <a:ext cx="301464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566640" y="4406760"/>
              <a:ext cx="183852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4"/>
            <a:stretch/>
          </p:blipFill>
          <p:spPr>
            <a:xfrm>
              <a:off x="2546280" y="4419720"/>
              <a:ext cx="1981440" cy="75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"/>
          <p:cNvGrpSpPr/>
          <p:nvPr/>
        </p:nvGrpSpPr>
        <p:grpSpPr>
          <a:xfrm>
            <a:off x="566640" y="1449360"/>
            <a:ext cx="5608800" cy="2789280"/>
            <a:chOff x="566640" y="1449360"/>
            <a:chExt cx="5608800" cy="2789280"/>
          </a:xfrm>
        </p:grpSpPr>
        <p:pic>
          <p:nvPicPr>
            <p:cNvPr id="124" name="" descr="British Library Logo - www.bl.uk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566640" y="1449360"/>
              <a:ext cx="973080" cy="188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7"/>
            <a:stretch/>
          </p:blipFill>
          <p:spPr>
            <a:xfrm>
              <a:off x="1781280" y="1449360"/>
              <a:ext cx="2200320" cy="9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8"/>
            <a:stretch/>
          </p:blipFill>
          <p:spPr>
            <a:xfrm>
              <a:off x="1781280" y="2884320"/>
              <a:ext cx="2381040" cy="72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Statsbibliotekets logo. Klik for at gå til forsiden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1736640" y="2573280"/>
              <a:ext cx="1971720" cy="2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Det Kongelige Biblioteks logo"/>
            <p:cNvPicPr/>
            <p:nvPr/>
          </p:nvPicPr>
          <p:blipFill>
            <a:blip r:embed="rId11"/>
            <a:srcRect l="18892" t="-19764" r="0" b="0"/>
            <a:stretch/>
          </p:blipFill>
          <p:spPr>
            <a:xfrm>
              <a:off x="566640" y="3691080"/>
              <a:ext cx="5608800" cy="54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5F863-FF66-457E-ABF2-0D3B7D4C0B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522360" y="1494000"/>
            <a:ext cx="4914720" cy="1753920"/>
            <a:chOff x="522360" y="1494000"/>
            <a:chExt cx="4914720" cy="1753920"/>
          </a:xfrm>
        </p:grpSpPr>
        <p:pic>
          <p:nvPicPr>
            <p:cNvPr id="130" name="" descr="Austrian Research Centers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2700360" y="2492280"/>
              <a:ext cx="2736720" cy="7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IBM®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2952720" y="1494000"/>
              <a:ext cx="1709640" cy="80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Microsoft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568440" y="2502000"/>
              <a:ext cx="2249280" cy="69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7"/>
            <a:stretch/>
          </p:blipFill>
          <p:spPr>
            <a:xfrm>
              <a:off x="522360" y="1538280"/>
              <a:ext cx="2205000" cy="80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Planets partners II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05520" y="1413000"/>
            <a:ext cx="40384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Tessella Plc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IBM Netherland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Microsoft Research, Cambridg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Austrian Research Center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Hatii at University of Glasgow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University of Freiburg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Technical University of Vienna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University at Cologn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57360" y="3790800"/>
            <a:ext cx="3598560" cy="2428920"/>
            <a:chOff x="657360" y="3790800"/>
            <a:chExt cx="3598560" cy="2428920"/>
          </a:xfrm>
        </p:grpSpPr>
        <p:pic>
          <p:nvPicPr>
            <p:cNvPr id="137" name="" descr=""/>
            <p:cNvPicPr/>
            <p:nvPr/>
          </p:nvPicPr>
          <p:blipFill>
            <a:blip r:embed="rId8"/>
            <a:stretch/>
          </p:blipFill>
          <p:spPr>
            <a:xfrm>
              <a:off x="657360" y="5114880"/>
              <a:ext cx="214632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9"/>
            <a:stretch/>
          </p:blipFill>
          <p:spPr>
            <a:xfrm>
              <a:off x="2367000" y="3881520"/>
              <a:ext cx="188892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10"/>
            <a:stretch/>
          </p:blipFill>
          <p:spPr>
            <a:xfrm>
              <a:off x="2997360" y="5095800"/>
              <a:ext cx="1230120" cy="1123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0" name=""/>
            <p:cNvGrpSpPr/>
            <p:nvPr/>
          </p:nvGrpSpPr>
          <p:grpSpPr>
            <a:xfrm>
              <a:off x="657360" y="3790800"/>
              <a:ext cx="1485360" cy="1169640"/>
              <a:chOff x="657360" y="3790800"/>
              <a:chExt cx="1485360" cy="1169640"/>
            </a:xfrm>
          </p:grpSpPr>
          <p:pic>
            <p:nvPicPr>
              <p:cNvPr id="141" name="hatiilogo" descr="">
                <a:hlinkClick r:id="rId11"/>
              </p:cNvPr>
              <p:cNvPicPr/>
              <p:nvPr/>
            </p:nvPicPr>
            <p:blipFill>
              <a:blip r:embed="rId12"/>
              <a:stretch/>
            </p:blipFill>
            <p:spPr>
              <a:xfrm>
                <a:off x="657360" y="3790800"/>
                <a:ext cx="1478880" cy="47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crest" descr="university of glasgow">
                <a:hlinkClick r:id="rId13"/>
              </p:cNvPr>
              <p:cNvPicPr/>
              <p:nvPr/>
            </p:nvPicPr>
            <p:blipFill>
              <a:blip r:embed="rId14"/>
              <a:stretch/>
            </p:blipFill>
            <p:spPr>
              <a:xfrm>
                <a:off x="657360" y="4266720"/>
                <a:ext cx="1485360" cy="693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27C94-6EB4-4433-8424-131DB96E57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he Team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050920" y="1557360"/>
            <a:ext cx="5562720" cy="4514040"/>
            <a:chOff x="2050920" y="1557360"/>
            <a:chExt cx="5562720" cy="451404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2050920" y="1557360"/>
              <a:ext cx="5562720" cy="41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112920" y="5734080"/>
              <a:ext cx="332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31313"/>
                  </a:solidFill>
                  <a:latin typeface="Arial"/>
                </a:rPr>
                <a:t>Kick-off meeting, June 2006</a:t>
              </a:r>
              <a:endParaRPr b="0" lang="en-US" sz="1600" spc="-1" strike="noStrike">
                <a:solidFill>
                  <a:srgbClr val="131313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5440" y="1916280"/>
            <a:ext cx="9053640" cy="4369320"/>
            <a:chOff x="55440" y="1916280"/>
            <a:chExt cx="9053640" cy="4369320"/>
          </a:xfrm>
        </p:grpSpPr>
        <p:pic>
          <p:nvPicPr>
            <p:cNvPr id="148" name="" descr=""/>
            <p:cNvPicPr/>
            <p:nvPr/>
          </p:nvPicPr>
          <p:blipFill>
            <a:blip r:embed="rId2"/>
            <a:stretch/>
          </p:blipFill>
          <p:spPr>
            <a:xfrm>
              <a:off x="55440" y="1916280"/>
              <a:ext cx="9053640" cy="40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921040" y="5948280"/>
              <a:ext cx="332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31313"/>
                  </a:solidFill>
                  <a:latin typeface="Arial"/>
                </a:rPr>
                <a:t>All Staff Meeting, Feb 2007</a:t>
              </a:r>
              <a:endParaRPr b="0" lang="en-US" sz="1600" spc="-1" strike="noStrike">
                <a:solidFill>
                  <a:srgbClr val="131313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9936A-B967-43A4-945F-D99C2AB279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131313"/>
                </a:solidFill>
                <a:latin typeface="Arial"/>
              </a:rPr>
              <a:t>Planets approach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Planning services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 that empower organisations to define, evaluate, and execute preservation plan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Methodologies, tools and </a:t>
            </a: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services for Characterisation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 of digital object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Innovative solutions for </a:t>
            </a: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Preservation Action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An </a:t>
            </a: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Interoperability Framework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 provides services  distributed servic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estbed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 enables objective evaluation of protocols, tools, services and plan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utreach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, workshops and training to engage the user and vendor communiti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F82A2-8242-44A4-B656-ADAE54AF82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Project architecture reflects problem structure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33600" y="1449360"/>
            <a:ext cx="5421240" cy="4933800"/>
          </a:xfrm>
          <a:prstGeom prst="rect">
            <a:avLst/>
          </a:prstGeom>
          <a:solidFill>
            <a:srgbClr val="ffe2c5"/>
          </a:solidFill>
          <a:ln w="9360">
            <a:solidFill>
              <a:srgbClr val="131313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971000" y="1855800"/>
            <a:ext cx="1983600" cy="1753920"/>
            <a:chOff x="1971000" y="1855800"/>
            <a:chExt cx="1983600" cy="1753920"/>
          </a:xfrm>
        </p:grpSpPr>
        <p:sp>
          <p:nvSpPr>
            <p:cNvPr id="155" name=""/>
            <p:cNvSpPr/>
            <p:nvPr/>
          </p:nvSpPr>
          <p:spPr>
            <a:xfrm>
              <a:off x="2009880" y="1855800"/>
              <a:ext cx="1944720" cy="1753920"/>
            </a:xfrm>
            <a:custGeom>
              <a:avLst/>
              <a:gdLst/>
              <a:ahLst/>
              <a:rect l="l" t="t" r="r" b="b"/>
              <a:pathLst>
                <a:path w="1089" h="862">
                  <a:moveTo>
                    <a:pt x="0" y="317"/>
                  </a:moveTo>
                  <a:lnTo>
                    <a:pt x="0" y="862"/>
                  </a:lnTo>
                  <a:lnTo>
                    <a:pt x="771" y="862"/>
                  </a:lnTo>
                  <a:lnTo>
                    <a:pt x="771" y="590"/>
                  </a:lnTo>
                  <a:lnTo>
                    <a:pt x="1089" y="590"/>
                  </a:lnTo>
                  <a:lnTo>
                    <a:pt x="1089" y="0"/>
                  </a:lnTo>
                  <a:lnTo>
                    <a:pt x="0" y="0"/>
                  </a:lnTo>
                  <a:lnTo>
                    <a:pt x="0" y="408"/>
                  </a:lnTo>
                </a:path>
              </a:pathLst>
            </a:custGeom>
            <a:solidFill>
              <a:srgbClr val="ffff66"/>
            </a:solidFill>
            <a:ln w="9360">
              <a:solidFill>
                <a:srgbClr val="13131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13131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71000" y="1986120"/>
              <a:ext cx="1694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31313"/>
                  </a:solidFill>
                  <a:latin typeface="Tahoma"/>
                  <a:ea typeface="Arial"/>
                </a:rPr>
                <a:t>Preservation</a:t>
              </a:r>
              <a:br>
                <a:rPr sz="2000"/>
              </a:br>
              <a:r>
                <a:rPr b="0" lang="en-GB" sz="2000" spc="-1" strike="noStrike">
                  <a:solidFill>
                    <a:srgbClr val="131313"/>
                  </a:solidFill>
                  <a:latin typeface="Tahoma"/>
                  <a:ea typeface="Arial"/>
                </a:rPr>
                <a:t>Planning</a:t>
              </a:r>
              <a:endParaRPr b="0" lang="en-US" sz="2000" spc="-1" strike="noStrike">
                <a:solidFill>
                  <a:srgbClr val="13131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31313"/>
                  </a:solidFill>
                  <a:latin typeface="Tahoma"/>
                  <a:ea typeface="Arial"/>
                </a:rPr>
                <a:t>Services</a:t>
              </a:r>
              <a:endParaRPr b="0" lang="en-US" sz="2000" spc="-1" strike="noStrike">
                <a:solidFill>
                  <a:srgbClr val="131313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2111400" y="3138480"/>
            <a:ext cx="488880" cy="1055520"/>
          </a:xfrm>
          <a:prstGeom prst="upArrow">
            <a:avLst>
              <a:gd name="adj1" fmla="val 50000"/>
              <a:gd name="adj2" fmla="val 53976"/>
            </a:avLst>
          </a:prstGeom>
          <a:solidFill>
            <a:srgbClr val="ccff99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014560" y="4175280"/>
            <a:ext cx="1944720" cy="1753920"/>
          </a:xfrm>
          <a:custGeom>
            <a:avLst/>
            <a:gdLst/>
            <a:ahLst/>
            <a:rect l="l" t="t" r="r" b="b"/>
            <a:pathLst>
              <a:path w="1089" h="862">
                <a:moveTo>
                  <a:pt x="0" y="317"/>
                </a:moveTo>
                <a:lnTo>
                  <a:pt x="0" y="862"/>
                </a:lnTo>
                <a:lnTo>
                  <a:pt x="771" y="862"/>
                </a:lnTo>
                <a:lnTo>
                  <a:pt x="771" y="590"/>
                </a:lnTo>
                <a:lnTo>
                  <a:pt x="1089" y="590"/>
                </a:lnTo>
                <a:lnTo>
                  <a:pt x="1089" y="0"/>
                </a:lnTo>
                <a:lnTo>
                  <a:pt x="0" y="0"/>
                </a:lnTo>
                <a:lnTo>
                  <a:pt x="0" y="408"/>
                </a:lnTo>
              </a:path>
            </a:pathLst>
          </a:custGeom>
          <a:solidFill>
            <a:srgbClr val="ccff99"/>
          </a:solidFill>
          <a:ln w="9360">
            <a:solidFill>
              <a:srgbClr val="13131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44000" y="4795920"/>
            <a:ext cx="215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Tahoma"/>
                <a:ea typeface="Arial"/>
              </a:rPr>
              <a:t>Characterisation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Tahoma"/>
                <a:ea typeface="Arial"/>
              </a:rPr>
              <a:t>Services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860560" y="3607560"/>
            <a:ext cx="489240" cy="1055880"/>
          </a:xfrm>
          <a:prstGeom prst="upArrow">
            <a:avLst>
              <a:gd name="adj1" fmla="val 50000"/>
              <a:gd name="adj2" fmla="val 53955"/>
            </a:avLst>
          </a:prstGeom>
          <a:solidFill>
            <a:srgbClr val="ffff66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37080" y="1859040"/>
            <a:ext cx="1944720" cy="4068720"/>
          </a:xfrm>
          <a:custGeom>
            <a:avLst/>
            <a:gdLst/>
            <a:ahLst/>
            <a:rect l="l" t="t" r="r" b="b"/>
            <a:pathLst>
              <a:path w="1225" h="2563">
                <a:moveTo>
                  <a:pt x="8" y="754"/>
                </a:moveTo>
                <a:lnTo>
                  <a:pt x="8" y="0"/>
                </a:lnTo>
                <a:lnTo>
                  <a:pt x="1225" y="0"/>
                </a:lnTo>
                <a:lnTo>
                  <a:pt x="1225" y="2563"/>
                </a:lnTo>
                <a:lnTo>
                  <a:pt x="0" y="2563"/>
                </a:lnTo>
                <a:lnTo>
                  <a:pt x="0" y="1809"/>
                </a:lnTo>
                <a:lnTo>
                  <a:pt x="430" y="1809"/>
                </a:lnTo>
                <a:lnTo>
                  <a:pt x="430" y="754"/>
                </a:lnTo>
                <a:lnTo>
                  <a:pt x="8" y="75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13131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17160" y="1919160"/>
            <a:ext cx="169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Tahoma"/>
                <a:ea typeface="Arial"/>
              </a:rPr>
              <a:t>Preservation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Tahoma"/>
                <a:ea typeface="Arial"/>
              </a:rPr>
              <a:t>Action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Tahoma"/>
                <a:ea typeface="Arial"/>
              </a:rPr>
              <a:t>Services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11360" y="3076560"/>
            <a:ext cx="1787760" cy="1631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Tahoma"/>
                <a:ea typeface="Arial"/>
              </a:rPr>
              <a:t>Test Bed:</a:t>
            </a:r>
            <a:br>
              <a:rPr sz="2000"/>
            </a:br>
            <a:r>
              <a:rPr b="0" lang="en-GB" sz="2000" spc="-1" strike="noStrike">
                <a:solidFill>
                  <a:srgbClr val="131313"/>
                </a:solidFill>
                <a:latin typeface="Tahoma"/>
                <a:ea typeface="Arial"/>
              </a:rPr>
              <a:t>evaluation and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Tahoma"/>
                <a:ea typeface="Arial"/>
              </a:rPr>
              <a:t>validation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Tahoma"/>
                <a:ea typeface="Arial"/>
              </a:rPr>
              <a:t>services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241720" y="4171680"/>
            <a:ext cx="222120" cy="6120"/>
          </a:xfrm>
          <a:prstGeom prst="line">
            <a:avLst/>
          </a:prstGeom>
          <a:ln w="381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990880" y="3600360"/>
            <a:ext cx="222120" cy="648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4243680" y="4453560"/>
            <a:ext cx="488880" cy="1055880"/>
          </a:xfrm>
          <a:prstGeom prst="upArrow">
            <a:avLst>
              <a:gd name="adj1" fmla="val 50000"/>
              <a:gd name="adj2" fmla="val 53995"/>
            </a:avLst>
          </a:prstGeom>
          <a:solidFill>
            <a:srgbClr val="ccff99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 rot="5400000">
            <a:off x="3780720" y="5088960"/>
            <a:ext cx="488880" cy="1055520"/>
          </a:xfrm>
          <a:prstGeom prst="upArrow">
            <a:avLst>
              <a:gd name="adj1" fmla="val 50000"/>
              <a:gd name="adj2" fmla="val 53976"/>
            </a:avLst>
          </a:prstGeom>
          <a:solidFill>
            <a:srgbClr val="ccccff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62520" y="4863960"/>
            <a:ext cx="6120" cy="222480"/>
          </a:xfrm>
          <a:prstGeom prst="line">
            <a:avLst/>
          </a:prstGeom>
          <a:ln w="381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59400" y="5499000"/>
            <a:ext cx="6120" cy="22248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4231440" y="1672560"/>
            <a:ext cx="488880" cy="1055520"/>
          </a:xfrm>
          <a:prstGeom prst="upArrow">
            <a:avLst>
              <a:gd name="adj1" fmla="val 50000"/>
              <a:gd name="adj2" fmla="val 53976"/>
            </a:avLst>
          </a:prstGeom>
          <a:solidFill>
            <a:srgbClr val="ffff66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 rot="5400000">
            <a:off x="3786840" y="2204640"/>
            <a:ext cx="489240" cy="1055880"/>
          </a:xfrm>
          <a:prstGeom prst="upArrow">
            <a:avLst>
              <a:gd name="adj1" fmla="val 50000"/>
              <a:gd name="adj2" fmla="val 53955"/>
            </a:avLst>
          </a:prstGeom>
          <a:solidFill>
            <a:srgbClr val="ccccff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56160" y="2616120"/>
            <a:ext cx="6480" cy="22248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40200" y="2089080"/>
            <a:ext cx="6480" cy="22248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68760" y="2473200"/>
            <a:ext cx="0" cy="47952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51480" y="5378400"/>
            <a:ext cx="0" cy="47952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17680" y="5989680"/>
            <a:ext cx="38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Tahoma"/>
                <a:ea typeface="Arial"/>
              </a:rPr>
              <a:t>Interoperability Framework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0800000">
            <a:off x="7046640" y="1763280"/>
            <a:ext cx="1646280" cy="900360"/>
          </a:xfrm>
          <a:custGeom>
            <a:avLst/>
            <a:gdLst>
              <a:gd name="textAreaLeft" fmla="*/ 0 w 1646280"/>
              <a:gd name="textAreaRight" fmla="*/ 1646640 w 1646280"/>
              <a:gd name="textAreaTop" fmla="*/ 0 h 900360"/>
              <a:gd name="textAreaBottom" fmla="*/ 900720 h 9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6d5f3"/>
          </a:solidFill>
          <a:ln w="255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Tahoma"/>
                <a:ea typeface="Arial"/>
              </a:rPr>
              <a:t>Digital</a:t>
            </a:r>
            <a:r>
              <a:rPr b="0" lang="en-US" sz="1400" spc="-1" strike="noStrike">
                <a:solidFill>
                  <a:srgbClr val="13131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Tahoma"/>
                <a:ea typeface="Arial"/>
              </a:rPr>
              <a:t>Content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0800000">
            <a:off x="7046640" y="3024360"/>
            <a:ext cx="1646280" cy="900000"/>
          </a:xfrm>
          <a:custGeom>
            <a:avLst/>
            <a:gdLst>
              <a:gd name="textAreaLeft" fmla="*/ 0 w 1646280"/>
              <a:gd name="textAreaRight" fmla="*/ 1646640 w 164628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6d5f3"/>
          </a:solidFill>
          <a:ln w="255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Tahoma"/>
                <a:ea typeface="Arial"/>
              </a:rPr>
              <a:t>Org.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Tahoma"/>
                <a:ea typeface="Arial"/>
              </a:rPr>
              <a:t>Context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0800000">
            <a:off x="7002000" y="4373640"/>
            <a:ext cx="1646280" cy="900000"/>
          </a:xfrm>
          <a:custGeom>
            <a:avLst/>
            <a:gdLst>
              <a:gd name="textAreaLeft" fmla="*/ 0 w 1646280"/>
              <a:gd name="textAreaRight" fmla="*/ 1646640 w 164628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6d5f3"/>
          </a:solidFill>
          <a:ln w="255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Tahoma"/>
                <a:ea typeface="Arial"/>
              </a:rPr>
              <a:t>External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Tahoma"/>
                <a:ea typeface="Arial"/>
              </a:rPr>
              <a:t>Context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99891-CA0B-4220-8F0E-57AC8B5533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Statu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Fall 06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Built the team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Gathered initial requirement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Conducted workshops and survey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Winter 07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Built specification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Evaluated component technologie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Spring 07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Finalised many technical and implementation decision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Started to build tools and service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Summer 07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Initial prototypes completed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First experiments conducted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4E6A0-A011-4191-98F3-C46AA3AD66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Key technology choice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lnSpc>
                <a:spcPct val="9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Extensive use of XML throughout architecture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Extensive use of web service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Extensive use of Java and open source component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JSF (Java Server Faces) for user interface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Workflow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451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BPEL – Business process execution language to describe experiments and plan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451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Eclipse BPEL workflow designer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Repository and interface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451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JSR-170 Repository API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451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Access to digital archive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451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Jackrabbit to manage intermediate storage and data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451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Sandbox technology for some third-party tool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JBoss application server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E5385-C9A8-497E-957B-4C50AB16C2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estbed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Provides a foundation for objective evaluation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Load content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Experiment: collect data, evaluate results, compare outcom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Validate preservation plan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Benchmark tools and servic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Consists of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Data storage, hardware, Planets software, testbed softwar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Benchmark and other content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Provides resources for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The project partner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The preservation community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External organisation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Tool and service certification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1554E-CD05-4170-8DFF-F0214FAEC8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estbed – Screen Sho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24000" y="1484280"/>
            <a:ext cx="8569080" cy="4562640"/>
            <a:chOff x="324000" y="1484280"/>
            <a:chExt cx="8569080" cy="4562640"/>
          </a:xfrm>
        </p:grpSpPr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2195640" y="1484280"/>
              <a:ext cx="6697440" cy="456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324000" y="3141720"/>
              <a:ext cx="187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31313"/>
                  </a:solidFill>
                  <a:latin typeface="Arial"/>
                </a:rPr>
                <a:t>Design Experiment</a:t>
              </a:r>
              <a:endParaRPr b="0" lang="en-US" sz="2400" spc="-1" strike="noStrike">
                <a:solidFill>
                  <a:srgbClr val="131313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E0E7D-28A3-4A0E-A860-C068F21F0C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Outline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e Digital Preservation problem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e Planets projec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Goal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tatu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Architectur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e Planets testbed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e Planets interoperability framework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Preservation planning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4D434-A821-4F07-9ACC-BD9A44FCBC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estbed – Screen Sho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7021440" cy="51530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0" y="278136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1313"/>
                </a:solidFill>
                <a:latin typeface="Arial"/>
              </a:rPr>
              <a:t>Run Experiment</a:t>
            </a:r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42CC7-ECEC-43B4-A99E-5EC181EC3C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Interoperability Framework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Provide the glue to hold the Planets tools and services together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Provide service registri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haracterisation servic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Preservation action servic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Provide shared servic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curity, authentication, authorisation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Monitoring, logging, auditing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Intermediate data, repository, file system spac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Execute and manage workflow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Enable third-parties to provide tools and servic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Enable vendors to integrate preservation servic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459B4-6E4B-463C-8F24-5ADE301743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116000" y="1989000"/>
            <a:ext cx="5616720" cy="4680000"/>
          </a:xfrm>
          <a:prstGeom prst="flowChartAlternateProcess">
            <a:avLst/>
          </a:prstGeom>
          <a:solidFill>
            <a:srgbClr val="ffe2c5"/>
          </a:solidFill>
          <a:ln w="9360">
            <a:solidFill>
              <a:srgbClr val="131313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31313"/>
                </a:solidFill>
                <a:latin typeface="Arial"/>
              </a:rPr>
              <a:t>Interoperability Framework</a:t>
            </a:r>
            <a:endParaRPr b="0" lang="en-US" sz="16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75280" y="2133720"/>
            <a:ext cx="1512720" cy="4390920"/>
          </a:xfrm>
          <a:prstGeom prst="flowChartAlternateProcess">
            <a:avLst/>
          </a:prstGeom>
          <a:solidFill>
            <a:srgbClr val="a6d5f3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1313"/>
                </a:solidFill>
                <a:latin typeface="Arial"/>
              </a:rPr>
              <a:t>Service Bus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58920" y="2997360"/>
            <a:ext cx="3529080" cy="3382920"/>
          </a:xfrm>
          <a:prstGeom prst="rect">
            <a:avLst/>
          </a:prstGeom>
          <a:solidFill>
            <a:srgbClr val="addadd">
              <a:alpha val="50000"/>
            </a:srgbClr>
          </a:solidFill>
          <a:ln w="12600">
            <a:solidFill>
              <a:srgbClr val="1313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131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131313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03280" y="3284640"/>
            <a:ext cx="3240000" cy="2950920"/>
          </a:xfrm>
          <a:prstGeom prst="rect">
            <a:avLst/>
          </a:prstGeom>
          <a:solidFill>
            <a:srgbClr val="92cdd2">
              <a:alpha val="50000"/>
            </a:srgbClr>
          </a:solidFill>
          <a:ln w="12600">
            <a:solidFill>
              <a:srgbClr val="1313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131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131313"/>
                </a:solidFill>
                <a:latin typeface="Arial"/>
              </a:rPr>
              <a:t>Monitoring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19280" y="3645000"/>
            <a:ext cx="2808360" cy="647640"/>
          </a:xfrm>
          <a:prstGeom prst="rect">
            <a:avLst/>
          </a:prstGeom>
          <a:solidFill>
            <a:srgbClr val="4eafb6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1313"/>
                </a:solidFill>
                <a:latin typeface="Arial"/>
              </a:rPr>
              <a:t>Workflow Execution Engine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19280" y="4970520"/>
            <a:ext cx="2016000" cy="431640"/>
          </a:xfrm>
          <a:prstGeom prst="rect">
            <a:avLst/>
          </a:prstGeom>
          <a:solidFill>
            <a:srgbClr val="4eafb6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1313"/>
                </a:solidFill>
                <a:latin typeface="Arial"/>
              </a:rPr>
              <a:t>Exception Handling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19280" y="4394160"/>
            <a:ext cx="2016000" cy="432000"/>
          </a:xfrm>
          <a:prstGeom prst="rect">
            <a:avLst/>
          </a:prstGeom>
          <a:solidFill>
            <a:srgbClr val="4eafb6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1313"/>
                </a:solidFill>
                <a:latin typeface="Arial"/>
              </a:rPr>
              <a:t>Transaction Manager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292720" y="4233960"/>
            <a:ext cx="1150920" cy="10825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282920" y="3500280"/>
            <a:ext cx="2232360" cy="865440"/>
          </a:xfrm>
          <a:prstGeom prst="leftArrowCallout">
            <a:avLst>
              <a:gd name="adj1" fmla="val 36272"/>
              <a:gd name="adj2" fmla="val 26458"/>
              <a:gd name="adj3" fmla="val 31921"/>
              <a:gd name="adj4" fmla="val 60816"/>
            </a:avLst>
          </a:prstGeom>
          <a:solidFill>
            <a:srgbClr val="ccffff">
              <a:alpha val="70000"/>
            </a:srgbClr>
          </a:solidFill>
          <a:ln w="1260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58920" y="115920"/>
            <a:ext cx="5111640" cy="1727280"/>
          </a:xfrm>
          <a:prstGeom prst="roundRect">
            <a:avLst>
              <a:gd name="adj" fmla="val 6708"/>
            </a:avLst>
          </a:prstGeom>
          <a:solidFill>
            <a:srgbClr val="99ccff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1313"/>
                </a:solidFill>
                <a:latin typeface="Arial"/>
              </a:rPr>
              <a:t>Applications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14720" y="404640"/>
            <a:ext cx="574560" cy="1224000"/>
          </a:xfrm>
          <a:prstGeom prst="rect">
            <a:avLst/>
          </a:prstGeom>
          <a:solidFill>
            <a:srgbClr val="1ecee6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1313"/>
                </a:solidFill>
                <a:latin typeface="Arial"/>
              </a:rPr>
              <a:t>Testbed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35520" y="404640"/>
            <a:ext cx="576000" cy="1224000"/>
          </a:xfrm>
          <a:prstGeom prst="rect">
            <a:avLst/>
          </a:prstGeom>
          <a:solidFill>
            <a:srgbClr val="1ecee6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1313"/>
                </a:solidFill>
                <a:latin typeface="Arial"/>
              </a:rPr>
              <a:t>Preservation Planning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756320" y="404640"/>
            <a:ext cx="576000" cy="1224000"/>
          </a:xfrm>
          <a:prstGeom prst="rect">
            <a:avLst/>
          </a:prstGeom>
          <a:solidFill>
            <a:srgbClr val="1ecee6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31313"/>
                </a:solidFill>
                <a:latin typeface="Arial"/>
              </a:rPr>
              <a:t>Character’n</a:t>
            </a:r>
            <a:br>
              <a:rPr sz="1400"/>
            </a:br>
            <a:r>
              <a:rPr b="1" lang="en-GB" sz="1400" spc="-1" strike="noStrike">
                <a:solidFill>
                  <a:srgbClr val="131313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78560" y="404640"/>
            <a:ext cx="576000" cy="1224000"/>
          </a:xfrm>
          <a:prstGeom prst="rect">
            <a:avLst/>
          </a:prstGeom>
          <a:solidFill>
            <a:srgbClr val="1ecee6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1313"/>
                </a:solidFill>
                <a:latin typeface="Arial"/>
              </a:rPr>
              <a:t>…</a:t>
            </a:r>
            <a:r>
              <a:rPr b="1" lang="en-US" sz="1400" spc="-1" strike="noStrike">
                <a:solidFill>
                  <a:srgbClr val="131313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7526160" y="4581360"/>
            <a:ext cx="1152720" cy="10828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328760" y="189000"/>
            <a:ext cx="4968720" cy="2376360"/>
          </a:xfrm>
          <a:prstGeom prst="downArrowCallout">
            <a:avLst>
              <a:gd name="adj1" fmla="val 20078"/>
              <a:gd name="adj2" fmla="val 22380"/>
              <a:gd name="adj3" fmla="val 21088"/>
              <a:gd name="adj4" fmla="val 64954"/>
            </a:avLst>
          </a:prstGeom>
          <a:noFill/>
          <a:ln w="19080">
            <a:solidFill>
              <a:srgbClr val="13131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74920" y="404640"/>
            <a:ext cx="574560" cy="1224000"/>
          </a:xfrm>
          <a:prstGeom prst="rect">
            <a:avLst/>
          </a:prstGeom>
          <a:solidFill>
            <a:srgbClr val="1ecee6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1313"/>
                </a:solidFill>
                <a:latin typeface="Arial"/>
              </a:rPr>
              <a:t>Workflow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1313"/>
                </a:solidFill>
                <a:latin typeface="Arial"/>
              </a:rPr>
              <a:t>Designer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93920" y="404640"/>
            <a:ext cx="576360" cy="1224000"/>
          </a:xfrm>
          <a:prstGeom prst="rect">
            <a:avLst/>
          </a:prstGeom>
          <a:solidFill>
            <a:srgbClr val="1ecee6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1313"/>
                </a:solidFill>
                <a:latin typeface="Arial"/>
              </a:rPr>
              <a:t>Admin</a:t>
            </a:r>
            <a:br>
              <a:rPr sz="1400"/>
            </a:br>
            <a:r>
              <a:rPr b="1" lang="en-US" sz="1400" spc="-1" strike="noStrike">
                <a:solidFill>
                  <a:srgbClr val="131313"/>
                </a:solidFill>
                <a:latin typeface="Arial"/>
              </a:rPr>
              <a:t> Tool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19280" y="5560920"/>
            <a:ext cx="2808360" cy="576360"/>
          </a:xfrm>
          <a:prstGeom prst="rect">
            <a:avLst/>
          </a:prstGeom>
          <a:solidFill>
            <a:srgbClr val="4eafb6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1313"/>
                </a:solidFill>
                <a:latin typeface="Arial"/>
              </a:rPr>
              <a:t>Database Layer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78200" y="4394160"/>
            <a:ext cx="647640" cy="1008000"/>
          </a:xfrm>
          <a:prstGeom prst="rect">
            <a:avLst/>
          </a:prstGeom>
          <a:solidFill>
            <a:srgbClr val="4eafb6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1313"/>
                </a:solidFill>
                <a:latin typeface="Arial"/>
              </a:rPr>
              <a:t>Work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1313"/>
                </a:solidFill>
                <a:latin typeface="Arial"/>
              </a:rPr>
              <a:t>Space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343480" y="3621240"/>
            <a:ext cx="1008000" cy="647640"/>
            <a:chOff x="5343480" y="3621240"/>
            <a:chExt cx="1008000" cy="647640"/>
          </a:xfrm>
        </p:grpSpPr>
        <p:sp>
          <p:nvSpPr>
            <p:cNvPr id="216" name=""/>
            <p:cNvSpPr/>
            <p:nvPr/>
          </p:nvSpPr>
          <p:spPr>
            <a:xfrm>
              <a:off x="5343480" y="3621240"/>
              <a:ext cx="1008000" cy="647640"/>
            </a:xfrm>
            <a:custGeom>
              <a:avLst/>
              <a:gdLst>
                <a:gd name="textAreaLeft" fmla="*/ 76320 w 1008000"/>
                <a:gd name="textAreaRight" fmla="*/ 931680 w 1008000"/>
                <a:gd name="textAreaTop" fmla="*/ 76320 h 647640"/>
                <a:gd name="textAreaBottom" fmla="*/ 571320 h 647640"/>
              </a:gdLst>
              <a:ahLst/>
              <a:rect l="textAreaLeft" t="textAreaTop" r="textAreaRight" b="textAreaBottom"/>
              <a:pathLst>
                <a:path w="33612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30012" y="21600"/>
                  </a:lnTo>
                  <a:arcTo wR="3600" hR="3600" stAng="10800000" swAng="5400000"/>
                  <a:lnTo>
                    <a:pt x="33612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1313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13131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13131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13131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13131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13131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13131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13131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131313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64080" y="3692520"/>
              <a:ext cx="766800" cy="506160"/>
            </a:xfrm>
            <a:prstGeom prst="can">
              <a:avLst>
                <a:gd name="adj" fmla="val 25000"/>
              </a:avLst>
            </a:prstGeom>
            <a:solidFill>
              <a:srgbClr val="4eafb6"/>
            </a:solidFill>
            <a:ln w="9360">
              <a:solidFill>
                <a:srgbClr val="1313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31313"/>
                  </a:solidFill>
                  <a:latin typeface="Arial"/>
                </a:rPr>
                <a:t>Service </a:t>
              </a:r>
              <a:endParaRPr b="0" lang="en-US" sz="1400" spc="-1" strike="noStrike">
                <a:solidFill>
                  <a:srgbClr val="13131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31313"/>
                  </a:solidFill>
                  <a:latin typeface="Arial"/>
                </a:rPr>
                <a:t>Registry</a:t>
              </a:r>
              <a:endParaRPr b="0" lang="en-US" sz="1400" spc="-1" strike="noStrike">
                <a:solidFill>
                  <a:srgbClr val="131313"/>
                </a:solidFill>
                <a:latin typeface="Times New Roman"/>
              </a:endParaRPr>
            </a:p>
          </p:txBody>
        </p:sp>
      </p:grpSp>
      <p:graphicFrame>
        <p:nvGraphicFramePr>
          <p:cNvPr id="218" name=""/>
          <p:cNvGraphicFramePr/>
          <p:nvPr/>
        </p:nvGraphicFramePr>
        <p:xfrm>
          <a:off x="7451640" y="620640"/>
          <a:ext cx="800280" cy="13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51640" y="620640"/>
                    <a:ext cx="800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5292720" y="2349360"/>
            <a:ext cx="1150920" cy="1084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282920" y="5373720"/>
            <a:ext cx="2232360" cy="1008000"/>
          </a:xfrm>
          <a:prstGeom prst="leftArrowCallout">
            <a:avLst>
              <a:gd name="adj1" fmla="val 36272"/>
              <a:gd name="adj2" fmla="val 26458"/>
              <a:gd name="adj3" fmla="val 27406"/>
              <a:gd name="adj4" fmla="val 60816"/>
            </a:avLst>
          </a:prstGeom>
          <a:solidFill>
            <a:srgbClr val="ccffff">
              <a:alpha val="70000"/>
            </a:srgbClr>
          </a:solidFill>
          <a:ln w="1260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272200" y="5442120"/>
            <a:ext cx="1152360" cy="862920"/>
            <a:chOff x="5272200" y="5442120"/>
            <a:chExt cx="1152360" cy="862920"/>
          </a:xfrm>
        </p:grpSpPr>
        <p:grpSp>
          <p:nvGrpSpPr>
            <p:cNvPr id="223" name=""/>
            <p:cNvGrpSpPr/>
            <p:nvPr/>
          </p:nvGrpSpPr>
          <p:grpSpPr>
            <a:xfrm>
              <a:off x="5272200" y="5442120"/>
              <a:ext cx="1008000" cy="647640"/>
              <a:chOff x="5272200" y="5442120"/>
              <a:chExt cx="1008000" cy="647640"/>
            </a:xfrm>
          </p:grpSpPr>
          <p:sp>
            <p:nvSpPr>
              <p:cNvPr id="224" name=""/>
              <p:cNvSpPr/>
              <p:nvPr/>
            </p:nvSpPr>
            <p:spPr>
              <a:xfrm>
                <a:off x="5272200" y="5442120"/>
                <a:ext cx="1008000" cy="647640"/>
              </a:xfrm>
              <a:custGeom>
                <a:avLst/>
                <a:gdLst>
                  <a:gd name="textAreaLeft" fmla="*/ 76320 w 1008000"/>
                  <a:gd name="textAreaRight" fmla="*/ 931680 w 1008000"/>
                  <a:gd name="textAreaTop" fmla="*/ 76320 h 647640"/>
                  <a:gd name="textAreaBottom" fmla="*/ 571320 h 647640"/>
                </a:gdLst>
                <a:ahLst/>
                <a:rect l="textAreaLeft" t="textAreaTop" r="textAreaRight" b="textAreaBottom"/>
                <a:pathLst>
                  <a:path w="33612" h="21600">
                    <a:moveTo>
                      <a:pt x="3600" y="0"/>
                    </a:moveTo>
                    <a:arcTo wR="3600" hR="3600" stAng="0" swAng="5400000"/>
                    <a:lnTo>
                      <a:pt x="0" y="18000"/>
                    </a:lnTo>
                    <a:arcTo wR="3600" hR="3600" stAng="16200000" swAng="5400000"/>
                    <a:lnTo>
                      <a:pt x="30012" y="21600"/>
                    </a:lnTo>
                    <a:arcTo wR="3600" hR="3600" stAng="10800000" swAng="5400000"/>
                    <a:lnTo>
                      <a:pt x="33612" y="3600"/>
                    </a:lnTo>
                    <a:arcTo wR="3600" hR="3600" stAng="5400000" swAng="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1313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31313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392800" y="5513400"/>
                <a:ext cx="766800" cy="506160"/>
              </a:xfrm>
              <a:prstGeom prst="can">
                <a:avLst>
                  <a:gd name="adj" fmla="val 25000"/>
                </a:avLst>
              </a:prstGeom>
              <a:solidFill>
                <a:srgbClr val="4eafb6"/>
              </a:solidFill>
              <a:ln w="9360">
                <a:solidFill>
                  <a:srgbClr val="1313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31313"/>
                    </a:solidFill>
                    <a:latin typeface="Arial"/>
                  </a:rPr>
                  <a:t>Registry</a:t>
                </a:r>
                <a:endParaRPr b="0" lang="en-US" sz="1400" spc="-1" strike="noStrike">
                  <a:solidFill>
                    <a:srgbClr val="131313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31313"/>
                    </a:solidFill>
                    <a:latin typeface="Arial"/>
                  </a:rPr>
                  <a:t>Services</a:t>
                </a:r>
                <a:endParaRPr b="0" lang="en-US" sz="1400" spc="-1" strike="noStrike">
                  <a:solidFill>
                    <a:srgbClr val="131313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416560" y="5657760"/>
              <a:ext cx="1008000" cy="647280"/>
              <a:chOff x="5416560" y="5657760"/>
              <a:chExt cx="1008000" cy="647280"/>
            </a:xfrm>
          </p:grpSpPr>
          <p:sp>
            <p:nvSpPr>
              <p:cNvPr id="227" name=""/>
              <p:cNvSpPr/>
              <p:nvPr/>
            </p:nvSpPr>
            <p:spPr>
              <a:xfrm>
                <a:off x="5416560" y="5657760"/>
                <a:ext cx="1008000" cy="647280"/>
              </a:xfrm>
              <a:custGeom>
                <a:avLst/>
                <a:gdLst>
                  <a:gd name="textAreaLeft" fmla="*/ 76320 w 1008000"/>
                  <a:gd name="textAreaRight" fmla="*/ 931680 w 1008000"/>
                  <a:gd name="textAreaTop" fmla="*/ 76320 h 647280"/>
                  <a:gd name="textAreaBottom" fmla="*/ 570960 h 647280"/>
                </a:gdLst>
                <a:ahLst/>
                <a:rect l="textAreaLeft" t="textAreaTop" r="textAreaRight" b="textAreaBottom"/>
                <a:pathLst>
                  <a:path w="33631" h="21600">
                    <a:moveTo>
                      <a:pt x="3600" y="0"/>
                    </a:moveTo>
                    <a:arcTo wR="3600" hR="3600" stAng="0" swAng="5400000"/>
                    <a:lnTo>
                      <a:pt x="0" y="18000"/>
                    </a:lnTo>
                    <a:arcTo wR="3600" hR="3600" stAng="16200000" swAng="5400000"/>
                    <a:lnTo>
                      <a:pt x="30031" y="21600"/>
                    </a:lnTo>
                    <a:arcTo wR="3600" hR="3600" stAng="10800000" swAng="5400000"/>
                    <a:lnTo>
                      <a:pt x="33631" y="3600"/>
                    </a:lnTo>
                    <a:arcTo wR="3600" hR="3600" stAng="5400000" swAng="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1313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131313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537160" y="5729040"/>
                <a:ext cx="766800" cy="505800"/>
              </a:xfrm>
              <a:prstGeom prst="can">
                <a:avLst>
                  <a:gd name="adj" fmla="val 25000"/>
                </a:avLst>
              </a:prstGeom>
              <a:solidFill>
                <a:srgbClr val="4eafb6"/>
              </a:solidFill>
              <a:ln w="9360">
                <a:solidFill>
                  <a:srgbClr val="1313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31313"/>
                    </a:solidFill>
                    <a:latin typeface="Arial"/>
                  </a:rPr>
                  <a:t>Registry</a:t>
                </a:r>
                <a:endParaRPr b="0" lang="en-US" sz="1400" spc="-1" strike="noStrike">
                  <a:solidFill>
                    <a:srgbClr val="131313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31313"/>
                    </a:solidFill>
                    <a:latin typeface="Arial"/>
                  </a:rPr>
                  <a:t>Services</a:t>
                </a:r>
                <a:endParaRPr b="0" lang="en-US" sz="1400" spc="-1" strike="noStrike">
                  <a:solidFill>
                    <a:srgbClr val="131313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9" name=""/>
          <p:cNvGrpSpPr/>
          <p:nvPr/>
        </p:nvGrpSpPr>
        <p:grpSpPr>
          <a:xfrm>
            <a:off x="7524720" y="2421000"/>
            <a:ext cx="1297080" cy="792000"/>
            <a:chOff x="7524720" y="2421000"/>
            <a:chExt cx="1297080" cy="792000"/>
          </a:xfrm>
        </p:grpSpPr>
        <p:sp>
          <p:nvSpPr>
            <p:cNvPr id="230" name=""/>
            <p:cNvSpPr/>
            <p:nvPr/>
          </p:nvSpPr>
          <p:spPr>
            <a:xfrm>
              <a:off x="7524720" y="2421000"/>
              <a:ext cx="1297080" cy="792000"/>
            </a:xfrm>
            <a:custGeom>
              <a:avLst/>
              <a:gdLst>
                <a:gd name="textAreaLeft" fmla="*/ 93240 w 1297080"/>
                <a:gd name="textAreaRight" fmla="*/ 1203840 w 1297080"/>
                <a:gd name="textAreaTop" fmla="*/ 93240 h 792000"/>
                <a:gd name="textAreaBottom" fmla="*/ 698760 h 792000"/>
              </a:gdLst>
              <a:ahLst/>
              <a:rect l="textAreaLeft" t="textAreaTop" r="textAreaRight" b="textAreaBottom"/>
              <a:pathLst>
                <a:path w="35369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31769" y="21600"/>
                  </a:lnTo>
                  <a:arcTo wR="3600" hR="3600" stAng="10800000" swAng="5400000"/>
                  <a:lnTo>
                    <a:pt x="35369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1313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3131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3131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3131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3131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3131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3131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3131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31313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69080" y="2494080"/>
              <a:ext cx="1008360" cy="64764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1313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31313"/>
                  </a:solidFill>
                  <a:latin typeface="Arial"/>
                </a:rPr>
                <a:t>Repositories</a:t>
              </a:r>
              <a:endParaRPr b="0" lang="en-US" sz="1200" spc="-1" strike="noStrike">
                <a:solidFill>
                  <a:srgbClr val="131313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7524720" y="3538440"/>
            <a:ext cx="1297080" cy="792360"/>
            <a:chOff x="7524720" y="3538440"/>
            <a:chExt cx="1297080" cy="792360"/>
          </a:xfrm>
        </p:grpSpPr>
        <p:sp>
          <p:nvSpPr>
            <p:cNvPr id="233" name=""/>
            <p:cNvSpPr/>
            <p:nvPr/>
          </p:nvSpPr>
          <p:spPr>
            <a:xfrm>
              <a:off x="7524720" y="3538440"/>
              <a:ext cx="1297080" cy="792360"/>
            </a:xfrm>
            <a:custGeom>
              <a:avLst/>
              <a:gdLst>
                <a:gd name="textAreaLeft" fmla="*/ 93240 w 1297080"/>
                <a:gd name="textAreaRight" fmla="*/ 1203840 w 1297080"/>
                <a:gd name="textAreaTop" fmla="*/ 93240 h 792360"/>
                <a:gd name="textAreaBottom" fmla="*/ 699120 h 792360"/>
              </a:gdLst>
              <a:ahLst/>
              <a:rect l="textAreaLeft" t="textAreaTop" r="textAreaRight" b="textAreaBottom"/>
              <a:pathLst>
                <a:path w="3535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31753" y="21600"/>
                  </a:lnTo>
                  <a:arcTo wR="3600" hR="3600" stAng="10800000" swAng="5400000"/>
                  <a:lnTo>
                    <a:pt x="3535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1313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3131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3131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3131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3131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3131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3131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3131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31313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69080" y="3610080"/>
              <a:ext cx="1009800" cy="64764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1313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31313"/>
                  </a:solidFill>
                  <a:latin typeface="Arial"/>
                </a:rPr>
                <a:t>Registries</a:t>
              </a:r>
              <a:endParaRPr b="0" lang="en-US" sz="1200" spc="-1" strike="noStrike">
                <a:solidFill>
                  <a:srgbClr val="131313"/>
                </a:solidFill>
                <a:latin typeface="Times New Roman"/>
              </a:endParaRPr>
            </a:p>
          </p:txBody>
        </p:sp>
      </p:grpSp>
      <p:cxnSp>
        <p:nvCxnSpPr>
          <p:cNvPr id="235" name=""/>
          <p:cNvCxnSpPr>
            <a:stCxn id="203" idx="0"/>
            <a:endCxn id="209" idx="1"/>
          </p:cNvCxnSpPr>
          <p:nvPr/>
        </p:nvCxnSpPr>
        <p:spPr>
          <a:xfrm>
            <a:off x="6515280" y="3933360"/>
            <a:ext cx="1011600" cy="1189800"/>
          </a:xfrm>
          <a:prstGeom prst="bentConnector3">
            <a:avLst>
              <a:gd name="adj1" fmla="val 49911"/>
            </a:avLst>
          </a:prstGeom>
          <a:ln w="28440">
            <a:solidFill>
              <a:srgbClr val="131313"/>
            </a:solidFill>
            <a:miter/>
          </a:ln>
        </p:spPr>
      </p:cxnSp>
      <p:cxnSp>
        <p:nvCxnSpPr>
          <p:cNvPr id="236" name=""/>
          <p:cNvCxnSpPr>
            <a:stCxn id="203" idx="1"/>
            <a:endCxn id="230" idx="1"/>
          </p:cNvCxnSpPr>
          <p:nvPr/>
        </p:nvCxnSpPr>
        <p:spPr>
          <a:xfrm flipV="1">
            <a:off x="6515280" y="2817360"/>
            <a:ext cx="1010160" cy="1116720"/>
          </a:xfrm>
          <a:prstGeom prst="bentConnector3">
            <a:avLst>
              <a:gd name="adj1" fmla="val 49982"/>
            </a:avLst>
          </a:prstGeom>
          <a:ln w="28440">
            <a:solidFill>
              <a:srgbClr val="131313"/>
            </a:solidFill>
            <a:miter/>
          </a:ln>
        </p:spPr>
      </p:cxnSp>
      <p:cxnSp>
        <p:nvCxnSpPr>
          <p:cNvPr id="237" name=""/>
          <p:cNvCxnSpPr>
            <a:stCxn id="203" idx="2"/>
            <a:endCxn id="233" idx="1"/>
          </p:cNvCxnSpPr>
          <p:nvPr/>
        </p:nvCxnSpPr>
        <p:spPr>
          <a:xfrm>
            <a:off x="6515280" y="3933360"/>
            <a:ext cx="1010160" cy="2520"/>
          </a:xfrm>
          <a:prstGeom prst="bentConnector3">
            <a:avLst>
              <a:gd name="adj1" fmla="val 49982"/>
            </a:avLst>
          </a:prstGeom>
          <a:ln w="28440">
            <a:solidFill>
              <a:srgbClr val="131313"/>
            </a:solidFill>
            <a:miter/>
          </a:ln>
        </p:spPr>
      </p:cxnSp>
      <p:cxnSp>
        <p:nvCxnSpPr>
          <p:cNvPr id="238" name=""/>
          <p:cNvCxnSpPr>
            <a:endCxn id="204" idx="3"/>
          </p:cNvCxnSpPr>
          <p:nvPr/>
        </p:nvCxnSpPr>
        <p:spPr>
          <a:xfrm flipH="1" flipV="1">
            <a:off x="6369840" y="979200"/>
            <a:ext cx="1081800" cy="326160"/>
          </a:xfrm>
          <a:prstGeom prst="straightConnector1">
            <a:avLst/>
          </a:prstGeom>
          <a:ln w="28440">
            <a:solidFill>
              <a:srgbClr val="131313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C3BA9-52A6-43AD-8346-A7DCC6FE39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24000" y="2565360"/>
            <a:ext cx="4514760" cy="30384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Interoperability Framework – Workflow design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rcRect l="0" t="0" r="0" b="19888"/>
          <a:stretch/>
        </p:blipFill>
        <p:spPr>
          <a:xfrm>
            <a:off x="250920" y="1413000"/>
            <a:ext cx="8424720" cy="52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EAD10-907C-467E-BDC0-4E135E4AB1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Preservation planning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7360" y="1628640"/>
            <a:ext cx="1665000" cy="1036800"/>
          </a:xfrm>
          <a:prstGeom prst="flowChartDocument">
            <a:avLst/>
          </a:prstGeom>
          <a:solidFill>
            <a:srgbClr val="ffff66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Preservation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Policy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57360" y="2798640"/>
            <a:ext cx="1665000" cy="1036800"/>
          </a:xfrm>
          <a:prstGeom prst="flowChartDocument">
            <a:avLst/>
          </a:prstGeom>
          <a:solidFill>
            <a:srgbClr val="ccff99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ontent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Profile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57360" y="3968640"/>
            <a:ext cx="1665000" cy="1036800"/>
          </a:xfrm>
          <a:prstGeom prst="flowChartDocument">
            <a:avLst/>
          </a:prstGeom>
          <a:solidFill>
            <a:srgbClr val="ffff00">
              <a:alpha val="68000"/>
            </a:srgbClr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Usage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Profile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97360" y="2708280"/>
            <a:ext cx="1844640" cy="1214280"/>
          </a:xfrm>
          <a:prstGeom prst="flowChartAlternateProcess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Preservation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Planner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46640" y="2664000"/>
            <a:ext cx="1486080" cy="1304640"/>
          </a:xfrm>
          <a:prstGeom prst="flowChartMultidocument">
            <a:avLst/>
          </a:prstGeom>
          <a:solidFill>
            <a:srgbClr val="ffff00">
              <a:alpha val="68000"/>
            </a:srgbClr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Plans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6" idx="3"/>
            <a:endCxn id="247" idx="1"/>
          </p:cNvCxnSpPr>
          <p:nvPr/>
        </p:nvCxnSpPr>
        <p:spPr>
          <a:xfrm>
            <a:off x="4842000" y="3315960"/>
            <a:ext cx="405360" cy="1080"/>
          </a:xfrm>
          <a:prstGeom prst="straightConnector1">
            <a:avLst/>
          </a:prstGeom>
          <a:ln w="25560">
            <a:solidFill>
              <a:srgbClr val="131313"/>
            </a:solidFill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7227720" y="2708280"/>
            <a:ext cx="1846440" cy="1214280"/>
          </a:xfrm>
          <a:prstGeom prst="flowChartAlternateProcess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Plan Evaluator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cxnSp>
        <p:nvCxnSpPr>
          <p:cNvPr id="250" name=""/>
          <p:cNvCxnSpPr>
            <a:stCxn id="249" idx="0"/>
            <a:endCxn id="246" idx="0"/>
          </p:cNvCxnSpPr>
          <p:nvPr/>
        </p:nvCxnSpPr>
        <p:spPr>
          <a:xfrm rot="5400000">
            <a:off x="6034320" y="592920"/>
            <a:ext cx="2160" cy="4232880"/>
          </a:xfrm>
          <a:prstGeom prst="curvedConnector5">
            <a:avLst>
              <a:gd name="adj1" fmla="val -14400000"/>
              <a:gd name="adj2" fmla="val 49995"/>
              <a:gd name="adj3" fmla="val -14400000"/>
            </a:avLst>
          </a:prstGeom>
          <a:ln w="25560">
            <a:solidFill>
              <a:srgbClr val="131313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47" idx="3"/>
            <a:endCxn id="249" idx="1"/>
          </p:cNvCxnSpPr>
          <p:nvPr/>
        </p:nvCxnSpPr>
        <p:spPr>
          <a:xfrm>
            <a:off x="6732360" y="3315960"/>
            <a:ext cx="495720" cy="1080"/>
          </a:xfrm>
          <a:prstGeom prst="straightConnector1">
            <a:avLst/>
          </a:prstGeom>
          <a:ln w="25560">
            <a:solidFill>
              <a:srgbClr val="131313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3086280" y="4641840"/>
            <a:ext cx="1665000" cy="1036800"/>
          </a:xfrm>
          <a:prstGeom prst="flowChartDocument">
            <a:avLst/>
          </a:prstGeom>
          <a:solidFill>
            <a:srgbClr val="ffff00">
              <a:alpha val="68000"/>
            </a:srgbClr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Plan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46" idx="2"/>
            <a:endCxn id="252" idx="0"/>
          </p:cNvCxnSpPr>
          <p:nvPr/>
        </p:nvCxnSpPr>
        <p:spPr>
          <a:xfrm>
            <a:off x="3919320" y="3922560"/>
            <a:ext cx="1080" cy="720000"/>
          </a:xfrm>
          <a:prstGeom prst="straightConnector1">
            <a:avLst/>
          </a:prstGeom>
          <a:ln w="25560">
            <a:solidFill>
              <a:srgbClr val="131313"/>
            </a:solidFill>
            <a:miter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7292880" y="4373640"/>
            <a:ext cx="1737000" cy="1214280"/>
          </a:xfrm>
          <a:prstGeom prst="flowChartMagneticDisk">
            <a:avLst/>
          </a:prstGeom>
          <a:solidFill>
            <a:srgbClr val="ffff00">
              <a:alpha val="68000"/>
            </a:srgbClr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Sample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ontent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49" idx="2"/>
            <a:endCxn id="254" idx="1"/>
          </p:cNvCxnSpPr>
          <p:nvPr/>
        </p:nvCxnSpPr>
        <p:spPr>
          <a:xfrm>
            <a:off x="8151840" y="3922200"/>
            <a:ext cx="10080" cy="451800"/>
          </a:xfrm>
          <a:prstGeom prst="straightConnector1">
            <a:avLst/>
          </a:prstGeom>
          <a:ln w="25560">
            <a:solidFill>
              <a:srgbClr val="131313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56" name=""/>
          <p:cNvSpPr/>
          <p:nvPr/>
        </p:nvSpPr>
        <p:spPr>
          <a:xfrm>
            <a:off x="657360" y="5138640"/>
            <a:ext cx="1665000" cy="1036800"/>
          </a:xfrm>
          <a:prstGeom prst="flowChartDocument">
            <a:avLst/>
          </a:prstGeom>
          <a:solidFill>
            <a:srgbClr val="ccccff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Actions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322000" y="2147760"/>
            <a:ext cx="675360" cy="3510000"/>
            <a:chOff x="2322000" y="2147760"/>
            <a:chExt cx="675360" cy="3510000"/>
          </a:xfrm>
        </p:grpSpPr>
        <p:cxnSp>
          <p:nvCxnSpPr>
            <p:cNvPr id="258" name=""/>
            <p:cNvCxnSpPr>
              <a:stCxn id="243" idx="3"/>
              <a:endCxn id="246" idx="1"/>
            </p:cNvCxnSpPr>
            <p:nvPr/>
          </p:nvCxnSpPr>
          <p:spPr>
            <a:xfrm>
              <a:off x="2322000" y="2147760"/>
              <a:ext cx="675720" cy="1169280"/>
            </a:xfrm>
            <a:prstGeom prst="bentConnector3">
              <a:avLst>
                <a:gd name="adj1" fmla="val 49840"/>
              </a:avLst>
            </a:prstGeom>
            <a:ln w="25560">
              <a:solidFill>
                <a:srgbClr val="131313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45" idx="3"/>
              <a:endCxn id="246" idx="1"/>
            </p:cNvCxnSpPr>
            <p:nvPr/>
          </p:nvCxnSpPr>
          <p:spPr>
            <a:xfrm flipV="1">
              <a:off x="2322000" y="3315960"/>
              <a:ext cx="675720" cy="1172160"/>
            </a:xfrm>
            <a:prstGeom prst="bentConnector3">
              <a:avLst>
                <a:gd name="adj1" fmla="val 49840"/>
              </a:avLst>
            </a:prstGeom>
            <a:ln w="25560">
              <a:solidFill>
                <a:srgbClr val="131313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4" idx="3"/>
              <a:endCxn id="246" idx="1"/>
            </p:cNvCxnSpPr>
            <p:nvPr/>
          </p:nvCxnSpPr>
          <p:spPr>
            <a:xfrm flipV="1">
              <a:off x="2322000" y="3315960"/>
              <a:ext cx="675720" cy="2160"/>
            </a:xfrm>
            <a:prstGeom prst="straightConnector1">
              <a:avLst/>
            </a:prstGeom>
            <a:ln w="25560">
              <a:solidFill>
                <a:srgbClr val="131313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6" idx="3"/>
              <a:endCxn id="246" idx="1"/>
            </p:cNvCxnSpPr>
            <p:nvPr/>
          </p:nvCxnSpPr>
          <p:spPr>
            <a:xfrm flipV="1">
              <a:off x="2322000" y="3315960"/>
              <a:ext cx="675720" cy="2342160"/>
            </a:xfrm>
            <a:prstGeom prst="bentConnector3">
              <a:avLst>
                <a:gd name="adj1" fmla="val 49840"/>
              </a:avLst>
            </a:prstGeom>
            <a:ln w="25560">
              <a:solidFill>
                <a:srgbClr val="131313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1F52F-4963-4C9A-9981-0C5CE15B0E8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Preservation plan execution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27360" y="3701880"/>
            <a:ext cx="1844640" cy="944640"/>
          </a:xfrm>
          <a:prstGeom prst="flowChartAlternateProcess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Executor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48440" y="3701880"/>
            <a:ext cx="1846080" cy="944640"/>
          </a:xfrm>
          <a:prstGeom prst="flowChartAlternateProcess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Repository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2360" y="3747960"/>
            <a:ext cx="1665360" cy="851040"/>
          </a:xfrm>
          <a:prstGeom prst="flowChartDocument">
            <a:avLst/>
          </a:prstGeom>
          <a:solidFill>
            <a:srgbClr val="ffff00">
              <a:alpha val="68000"/>
            </a:srgbClr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Plan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65" idx="3"/>
            <a:endCxn id="263" idx="1"/>
          </p:cNvCxnSpPr>
          <p:nvPr/>
        </p:nvCxnSpPr>
        <p:spPr>
          <a:xfrm>
            <a:off x="2187360" y="4173120"/>
            <a:ext cx="540360" cy="2520"/>
          </a:xfrm>
          <a:prstGeom prst="straightConnector1">
            <a:avLst/>
          </a:prstGeom>
          <a:ln w="25560">
            <a:solidFill>
              <a:srgbClr val="131313"/>
            </a:solidFill>
            <a:miter/>
            <a:tailEnd len="med" type="triangle" w="med"/>
          </a:ln>
        </p:spPr>
      </p:cxnSp>
      <p:sp>
        <p:nvSpPr>
          <p:cNvPr id="267" name=""/>
          <p:cNvSpPr/>
          <p:nvPr/>
        </p:nvSpPr>
        <p:spPr>
          <a:xfrm>
            <a:off x="5292720" y="5005440"/>
            <a:ext cx="1736640" cy="944640"/>
          </a:xfrm>
          <a:prstGeom prst="flowChartMagneticDisk">
            <a:avLst/>
          </a:prstGeom>
          <a:solidFill>
            <a:srgbClr val="ccff99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ontent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3" idx="3"/>
            <a:endCxn id="264" idx="1"/>
          </p:cNvCxnSpPr>
          <p:nvPr/>
        </p:nvCxnSpPr>
        <p:spPr>
          <a:xfrm>
            <a:off x="4571640" y="4174920"/>
            <a:ext cx="677160" cy="1080"/>
          </a:xfrm>
          <a:prstGeom prst="straightConnector1">
            <a:avLst/>
          </a:prstGeom>
          <a:ln w="25560">
            <a:solidFill>
              <a:srgbClr val="131313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9" name=""/>
          <p:cNvSpPr/>
          <p:nvPr/>
        </p:nvSpPr>
        <p:spPr>
          <a:xfrm>
            <a:off x="5248440" y="2489040"/>
            <a:ext cx="1846080" cy="900360"/>
          </a:xfrm>
          <a:prstGeom prst="flowChartAlternateProcess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Delivery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27360" y="2714760"/>
            <a:ext cx="1846080" cy="449280"/>
          </a:xfrm>
          <a:prstGeom prst="flowChartAlternateProcess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Adaptor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263" idx="0"/>
            <a:endCxn id="270" idx="2"/>
          </p:cNvCxnSpPr>
          <p:nvPr/>
        </p:nvCxnSpPr>
        <p:spPr>
          <a:xfrm flipV="1">
            <a:off x="3649680" y="3163680"/>
            <a:ext cx="2160" cy="538560"/>
          </a:xfrm>
          <a:prstGeom prst="straightConnector1">
            <a:avLst/>
          </a:prstGeom>
          <a:ln w="25560">
            <a:solidFill>
              <a:srgbClr val="131313"/>
            </a:solidFill>
            <a:miter/>
            <a:tailEnd len="med" type="triangle" w="med"/>
          </a:ln>
        </p:spPr>
      </p:cxnSp>
      <p:cxnSp>
        <p:nvCxnSpPr>
          <p:cNvPr id="272" name=""/>
          <p:cNvCxnSpPr>
            <a:stCxn id="270" idx="3"/>
            <a:endCxn id="269" idx="1"/>
          </p:cNvCxnSpPr>
          <p:nvPr/>
        </p:nvCxnSpPr>
        <p:spPr>
          <a:xfrm>
            <a:off x="4573080" y="2939760"/>
            <a:ext cx="675720" cy="1080"/>
          </a:xfrm>
          <a:prstGeom prst="straightConnector1">
            <a:avLst/>
          </a:prstGeom>
          <a:ln w="25560">
            <a:solidFill>
              <a:srgbClr val="131313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64" idx="2"/>
            <a:endCxn id="267" idx="1"/>
          </p:cNvCxnSpPr>
          <p:nvPr/>
        </p:nvCxnSpPr>
        <p:spPr>
          <a:xfrm flipH="1">
            <a:off x="6160320" y="4646160"/>
            <a:ext cx="11880" cy="359640"/>
          </a:xfrm>
          <a:prstGeom prst="straightConnector1">
            <a:avLst/>
          </a:prstGeom>
          <a:ln w="25560">
            <a:solidFill>
              <a:srgbClr val="13131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4" name=""/>
          <p:cNvCxnSpPr>
            <a:stCxn id="264" idx="0"/>
            <a:endCxn id="269" idx="2"/>
          </p:cNvCxnSpPr>
          <p:nvPr/>
        </p:nvCxnSpPr>
        <p:spPr>
          <a:xfrm flipV="1">
            <a:off x="6171840" y="3389040"/>
            <a:ext cx="1080" cy="313200"/>
          </a:xfrm>
          <a:prstGeom prst="straightConnector1">
            <a:avLst/>
          </a:prstGeom>
          <a:ln w="25560">
            <a:solidFill>
              <a:srgbClr val="131313"/>
            </a:solidFill>
            <a:miter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5830920" y="1403280"/>
            <a:ext cx="720720" cy="630360"/>
          </a:xfrm>
          <a:prstGeom prst="smileyFace">
            <a:avLst>
              <a:gd name="adj" fmla="val 9282"/>
            </a:avLst>
          </a:prstGeom>
          <a:noFill/>
          <a:ln w="381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75" idx="4"/>
            <a:endCxn id="269" idx="0"/>
          </p:cNvCxnSpPr>
          <p:nvPr/>
        </p:nvCxnSpPr>
        <p:spPr>
          <a:xfrm flipH="1">
            <a:off x="6171480" y="2052720"/>
            <a:ext cx="19800" cy="437040"/>
          </a:xfrm>
          <a:prstGeom prst="straightConnector1">
            <a:avLst/>
          </a:prstGeom>
          <a:ln w="25560">
            <a:solidFill>
              <a:srgbClr val="13131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7" name=""/>
          <p:cNvCxnSpPr>
            <a:stCxn id="278" idx="4"/>
            <a:endCxn id="265" idx="0"/>
          </p:cNvCxnSpPr>
          <p:nvPr/>
        </p:nvCxnSpPr>
        <p:spPr>
          <a:xfrm>
            <a:off x="1353600" y="3114360"/>
            <a:ext cx="2520" cy="633960"/>
          </a:xfrm>
          <a:prstGeom prst="straightConnector1">
            <a:avLst/>
          </a:prstGeom>
          <a:ln w="25560">
            <a:solidFill>
              <a:srgbClr val="131313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1241280" y="2889360"/>
            <a:ext cx="225720" cy="225360"/>
          </a:xfrm>
          <a:prstGeom prst="flowChartConnector">
            <a:avLst/>
          </a:prstGeom>
          <a:gradFill rotWithShape="0">
            <a:gsLst>
              <a:gs pos="0">
                <a:srgbClr val="00ff00">
                  <a:alpha val="86274"/>
                </a:srgbClr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C5688-2524-40E8-9B43-576588EB8B5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ontent characterisation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haracterise content to support preservation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49840" indent="-24840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Reduce up-front metadata cost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49840" indent="-24840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E.g., Harvard segmented images based on tool parameter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Build on TNAs PRONOM for file-format identification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49840" indent="-24840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Define a characterisation language (XCDL)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49840" indent="-24840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Define an extraction language (XCEL)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49840" indent="-24840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Define an pluggable interpreter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Extend to measure loss due to action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49840" indent="-24840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All transformations cause los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Leverage understanding to improve file format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49840" indent="-24840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Address a root cause of digital obsolescenc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49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EDAF8-DC6A-4FC8-8A81-C78B367E32C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Preservation action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598400"/>
            <a:ext cx="38894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Transform content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Wrap third-party transformation tool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Fill gaps with new tool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Preserve relational database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Build on Swiss Archive work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Preserve Office content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Build on MSFT tool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21040" y="1598400"/>
            <a:ext cx="38890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Transform environment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Modular emulation of the full hardware/software environment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Provides full look-and feel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Superb for highly dynamic content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Leverage Virtual Machine technology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Layered durable emulation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Build on IBM Universal Virtual Computer (UVC)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5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Establish abstract device driver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A7B35-AE8B-4E3C-B824-E426DEE0DB2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onclusion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Planets 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Is a major EU co-funded digital preservation projec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Addresses the needs of Libraries and Archiv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Has made substantial progress towards a service-oriented preservation infrastructur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Looks forward to working with the international Digital Library community to test, evaluate, refine, improv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0FA81-84AD-42BA-A3D1-76600773609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Questions?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03280" y="2276640"/>
            <a:ext cx="604836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31313"/>
                </a:solidFill>
                <a:latin typeface="Arial"/>
              </a:rPr>
              <a:t>Thanks!</a:t>
            </a:r>
            <a:endParaRPr b="0" lang="en-US" sz="36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131313"/>
                </a:solidFill>
                <a:latin typeface="Arial"/>
              </a:rPr>
              <a:t>http://www.planets-project.eu/</a:t>
            </a:r>
            <a:endParaRPr b="0" lang="en-US" sz="32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131313"/>
                </a:solidFill>
                <a:latin typeface="Arial"/>
              </a:rPr>
              <a:t>info@planets-project.eu</a:t>
            </a:r>
            <a:endParaRPr b="0" lang="en-US" sz="32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F2266-5908-45A7-9F0F-02D76CFF6D9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131313"/>
                </a:solidFill>
                <a:latin typeface="Arial"/>
              </a:rPr>
              <a:t>Digital information at risk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98400"/>
            <a:ext cx="67356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Our society risks a gaping hole in the cultural and scientific record unless we act now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European National Libraries and Archiv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78640" indent="-27720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Have the legal responsibility and the legislative framework to safeguard digital information 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78640" indent="-27720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Must provide sustained access to cultural and scientific knowledg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78640" indent="-27720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Have limited ability to ensure that today’s digital information will be accessible for future generation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31313"/>
                </a:solidFill>
                <a:latin typeface="Arial"/>
              </a:rPr>
              <a:t>Meeting the challenge of preserving access goes beyond the capabilities of any single institution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535880" y="1314360"/>
            <a:ext cx="1176480" cy="499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70D25-F33B-4AF9-BC70-DD81BEDED1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31313"/>
                </a:solidFill>
                <a:latin typeface="Arial"/>
              </a:rPr>
              <a:t>EU Support for digital preservation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Major initiative in the Information Science and Technology (IST) Framework Programme 6 Call 5 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wo Integrated Projects funded: </a:t>
            </a:r>
            <a:r>
              <a:rPr b="1" lang="en-US" sz="2200" spc="-1" strike="noStrike">
                <a:solidFill>
                  <a:srgbClr val="131313"/>
                </a:solidFill>
                <a:latin typeface="Arial"/>
              </a:rPr>
              <a:t>Planets</a:t>
            </a: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 (BL), </a:t>
            </a:r>
            <a:r>
              <a:rPr b="1" lang="en-US" sz="2200" spc="-1" strike="noStrike">
                <a:solidFill>
                  <a:srgbClr val="131313"/>
                </a:solidFill>
                <a:latin typeface="Arial"/>
              </a:rPr>
              <a:t>Caspar</a:t>
            </a: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 (CCLRC)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oordinated action: </a:t>
            </a:r>
            <a:r>
              <a:rPr b="1" lang="en-US" sz="2200" spc="-1" strike="noStrike">
                <a:solidFill>
                  <a:srgbClr val="131313"/>
                </a:solidFill>
                <a:latin typeface="Arial"/>
              </a:rPr>
              <a:t>DPE</a:t>
            </a: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 (HATII at Glasgow)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Planets builds on strong digital archiving and preservation programmes at European, National and institutional level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Addresses core digital preservation challenges 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Use an empirical approach to learn what works and why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our year project starting June 2006 with 15me budge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0" r="0" b="71097"/>
          <a:stretch/>
        </p:blipFill>
        <p:spPr>
          <a:xfrm>
            <a:off x="7407360" y="0"/>
            <a:ext cx="1414440" cy="93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9A85E-D896-4B40-8EE8-57F7483745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Losing digital information hurts everyone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An NHS doctor needs a 1987 clinical study found on Google Scholar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She tries to open the ‘dvi’ file, but can’t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A father shows his children the computer game he wrote in school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He wrote the game in PDP assembler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He stored the program on paper tap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A small business owner wants to market the energy saving device it developed in 1985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She carefully stored all of the fil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Now she doesn’t have the applications to read the documents, spread-sheets, and CAD drawing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499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The CAD company is long out of busines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69A82-C9BD-4A0C-A238-F123B9C794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Losing digital information costs opportunity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A university research lab has provided its data, technical reports, software on-line since 1984 and on the web since 1990.  The professor retires and closes the lab in 2004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A university IP officer wants to defend a patent challeng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A biographer wants review the unpublished work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A former student wants to revive a line of research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e digital file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851040" indent="-27936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ome are damaged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851040" indent="-27936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ome rely on applications that are out-of-us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851040" indent="-27936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ome rely on hardware that is unavailabl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851040" indent="-27936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ome rely on an environment that no longer exists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851040" indent="-27936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ome rely on information that no-one recorded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A0738-C190-427A-8B44-BA33BD3047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Losing digital information costs money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98400"/>
            <a:ext cx="38894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An oil company collected extensive data for a reservoir and want to exploit it in 2007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70000" indent="-26856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All documents and data are held in v1.3 of an integrated management product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70000" indent="-26856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They now use v9.0 and can’t read or access it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An oilfield services company collects dipmeter data in the 1970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70000" indent="-26856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Stored on 7-Track tap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70000" indent="-26856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Recorded in optimised format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70000" indent="-26856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Difficult and expensive to repeat measurement data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246640" y="1403280"/>
            <a:ext cx="3586320" cy="2689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437000" y="4238640"/>
            <a:ext cx="4410000" cy="217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61C66-F1E1-4CB6-AFD1-4BD325D0CA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How big is the problem?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Who is touched by digital preservation problems? 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Individual consumer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Small and medium sized enterpris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Large corporation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University libraries, faculties, institut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Publisher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Librarie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Local, regional, national government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every person or organisation that keeps digital material for more than 15 years!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Estimates suggest Europe loses 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  <a:ea typeface="Arial"/>
              </a:rPr>
              <a:t>€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3bn per year in business valu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DD536-28B0-4C2B-8E3C-863CE71D4F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Planet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Four-year EU-Funded (FP6) Digital Preservation research and technology development project.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Increase Europe’s ability to ensure long-term access to its cultural and scientific heritag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Improve decision-making about long term preservation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Ensure long-term access to valued digital content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Control the costs of preservation actions through increased automation, scaleable infrastructur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Ensure wide adoption across the user community and establish market place for preservation services and tool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Build practical solution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Integrate existing expertise, designs and tool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lnSpc>
                <a:spcPct val="8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Share and build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DF7D7-E059-480F-82DD-F5ADBFFE4B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21:24:13Z</dcterms:created>
  <dc:creator>Adam Farquhar</dc:creator>
  <dc:description/>
  <cp:keywords/>
  <dc:language>en-US</dc:language>
  <cp:lastModifiedBy>Amanda Yarwood</cp:lastModifiedBy>
  <dcterms:modified xsi:type="dcterms:W3CDTF">2007-06-12T13:45:00Z</dcterms:modified>
  <cp:revision>53</cp:revision>
  <dc:subject/>
  <dc:title>TITLE</dc:title>
</cp:coreProperties>
</file>