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863280" y="685440"/>
            <a:ext cx="50864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4"/>
          </p:nvPr>
        </p:nvSpPr>
        <p:spPr>
          <a:xfrm>
            <a:off x="0" y="8712000"/>
            <a:ext cx="58593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5"/>
          </p:nvPr>
        </p:nvSpPr>
        <p:spPr>
          <a:xfrm>
            <a:off x="5994000" y="8686800"/>
            <a:ext cx="86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D3C6C-38FB-4060-8535-75BF6E4AC278}" type="slidenum">
              <a:rPr b="1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5994000" y="8686800"/>
            <a:ext cx="86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E7BC6-C6D8-4462-9479-19D4BEB42F8E}" type="slidenum">
              <a:rPr b="1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0" y="8712000"/>
            <a:ext cx="58593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2068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5994000" y="8686800"/>
            <a:ext cx="86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FF880-34E3-4C49-AFD6-DA485378C786}" type="slidenum">
              <a:rPr b="1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0" y="8712000"/>
            <a:ext cx="58593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80920" y="1628640"/>
            <a:ext cx="75312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80560" y="3428640"/>
            <a:ext cx="760572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80560" y="4698360"/>
            <a:ext cx="760572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80920" y="1628640"/>
            <a:ext cx="75312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80560" y="3428640"/>
            <a:ext cx="371124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77920" y="3428640"/>
            <a:ext cx="371124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80560" y="4698360"/>
            <a:ext cx="371124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77920" y="4698360"/>
            <a:ext cx="371124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80920" y="1628640"/>
            <a:ext cx="75312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80560" y="3428640"/>
            <a:ext cx="244872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52040" y="3428640"/>
            <a:ext cx="244872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3520" y="3428640"/>
            <a:ext cx="244872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80560" y="4698360"/>
            <a:ext cx="244872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52040" y="4698360"/>
            <a:ext cx="244872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3520" y="4698360"/>
            <a:ext cx="244872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47A30-9F38-44A8-B894-F0E1DAA6ACA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80920" y="1628640"/>
            <a:ext cx="75312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80560" y="3428640"/>
            <a:ext cx="760572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AE12B-270E-4F5C-AC8A-CEEFA78DB31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80920" y="1628640"/>
            <a:ext cx="75312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80560" y="3428640"/>
            <a:ext cx="7605720" cy="24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51B2D-CC60-4FD3-AAC9-38BFE00F7B0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80920" y="1628640"/>
            <a:ext cx="75312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80560" y="3428640"/>
            <a:ext cx="3711240" cy="24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77920" y="3428640"/>
            <a:ext cx="3711240" cy="24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28E40-F7E7-4FA8-AAA1-EFC4117B0DC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80920" y="1628640"/>
            <a:ext cx="75312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E7C8D-4947-40EF-95EA-E829586FBB0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5312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C2A19-33C7-439B-B0C5-ED8C2554BA5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80920" y="1628640"/>
            <a:ext cx="75312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80560" y="3428640"/>
            <a:ext cx="371124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77920" y="3428640"/>
            <a:ext cx="3711240" cy="24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80560" y="4698360"/>
            <a:ext cx="371124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C5F88-EE22-4C3F-80C7-49B66E263C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80920" y="1628640"/>
            <a:ext cx="75312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80560" y="3428640"/>
            <a:ext cx="760572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80920" y="1628640"/>
            <a:ext cx="75312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80560" y="3428640"/>
            <a:ext cx="3711240" cy="24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77920" y="3428640"/>
            <a:ext cx="371124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77920" y="4698360"/>
            <a:ext cx="371124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ED6BA-56B2-4096-B6DE-3A0C1BA4BA8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80920" y="1628640"/>
            <a:ext cx="75312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80560" y="3428640"/>
            <a:ext cx="371124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77920" y="3428640"/>
            <a:ext cx="371124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80560" y="4698360"/>
            <a:ext cx="760572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3653D-1B1A-41CC-9D87-2AF547320EF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80920" y="1628640"/>
            <a:ext cx="75312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80560" y="3428640"/>
            <a:ext cx="760572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80560" y="4698360"/>
            <a:ext cx="760572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7EF4B-5980-4A17-9782-4D005521F36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80920" y="1628640"/>
            <a:ext cx="75312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80560" y="3428640"/>
            <a:ext cx="371124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77920" y="3428640"/>
            <a:ext cx="371124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80560" y="4698360"/>
            <a:ext cx="371124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77920" y="4698360"/>
            <a:ext cx="371124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FEA70-C11C-45DB-A015-60AA3F4729D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80920" y="1628640"/>
            <a:ext cx="75312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80560" y="3428640"/>
            <a:ext cx="244872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52040" y="3428640"/>
            <a:ext cx="244872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3520" y="3428640"/>
            <a:ext cx="244872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80560" y="4698360"/>
            <a:ext cx="244872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52040" y="4698360"/>
            <a:ext cx="244872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3520" y="4698360"/>
            <a:ext cx="244872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DAB53-2D0E-461A-9A9E-55C25144C2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80920" y="1628640"/>
            <a:ext cx="75312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80560" y="3428640"/>
            <a:ext cx="7605720" cy="24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80920" y="1628640"/>
            <a:ext cx="75312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80560" y="3428640"/>
            <a:ext cx="3711240" cy="24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77920" y="3428640"/>
            <a:ext cx="3711240" cy="24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80920" y="1628640"/>
            <a:ext cx="75312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5312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80920" y="1628640"/>
            <a:ext cx="75312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80560" y="3428640"/>
            <a:ext cx="371124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77920" y="3428640"/>
            <a:ext cx="3711240" cy="24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80560" y="4698360"/>
            <a:ext cx="371124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80920" y="1628640"/>
            <a:ext cx="75312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80560" y="3428640"/>
            <a:ext cx="3711240" cy="24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77920" y="3428640"/>
            <a:ext cx="371124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77920" y="4698360"/>
            <a:ext cx="371124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80920" y="1628640"/>
            <a:ext cx="75312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80560" y="3428640"/>
            <a:ext cx="371124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77920" y="3428640"/>
            <a:ext cx="371124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80560" y="4698360"/>
            <a:ext cx="760572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52480" y="0"/>
            <a:ext cx="8291520" cy="6858000"/>
          </a:xfrm>
          <a:prstGeom prst="rect">
            <a:avLst/>
          </a:prstGeom>
          <a:solidFill>
            <a:srgbClr val="e3f1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80920" y="1089000"/>
            <a:ext cx="7786800" cy="0"/>
          </a:xfrm>
          <a:prstGeom prst="line">
            <a:avLst/>
          </a:prstGeom>
          <a:ln w="47520">
            <a:solidFill>
              <a:srgbClr val="409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20720" y="0"/>
            <a:ext cx="14436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720720" cy="6858000"/>
          </a:xfrm>
          <a:prstGeom prst="rect">
            <a:avLst/>
          </a:prstGeom>
          <a:solidFill>
            <a:srgbClr val="60b7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80560" y="324000"/>
            <a:ext cx="6031080" cy="6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880560" y="1224000"/>
            <a:ext cx="780588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137360" y="279360"/>
            <a:ext cx="1575000" cy="63828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rcRect l="0" t="0" r="0" b="71097"/>
          <a:stretch/>
        </p:blipFill>
        <p:spPr>
          <a:xfrm>
            <a:off x="0" y="6381720"/>
            <a:ext cx="720720" cy="47628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7272360" y="6310440"/>
            <a:ext cx="1690560" cy="54756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5"/>
          <a:stretch/>
        </p:blipFill>
        <p:spPr>
          <a:xfrm>
            <a:off x="0" y="5950080"/>
            <a:ext cx="701640" cy="37620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3"/>
          <p:cNvSpPr>
            <a:spLocks noGrp="1"/>
          </p:cNvSpPr>
          <p:nvPr>
            <p:ph type="ftr" idx="1"/>
          </p:nvPr>
        </p:nvSpPr>
        <p:spPr>
          <a:xfrm>
            <a:off x="867960" y="6454440"/>
            <a:ext cx="59403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0808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08080"/>
                </a:solidFill>
                <a:latin typeface="Arial"/>
                <a:ea typeface="Arial"/>
              </a:rPr>
              <a:t>&lt;footer&gt;</a:t>
            </a:r>
            <a:r>
              <a:rPr b="0" lang="en-US" sz="1100" spc="-1" strike="noStrike">
                <a:solidFill>
                  <a:srgbClr val="808080"/>
                </a:solidFill>
                <a:latin typeface="Arial"/>
                <a:ea typeface="Arial"/>
              </a:rPr>
              <a:t>Max Kaiser (Austrian National Library, Vienna): The PLANETS Testb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08080"/>
                </a:solidFill>
                <a:latin typeface="Arial"/>
                <a:ea typeface="Arial"/>
              </a:rPr>
              <a:t>DPE, PLANETS and CASPAR 2nd Annual Conference, Lisbon, 5–6 September, 200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3f1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0720" y="0"/>
            <a:ext cx="14436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720720" cy="6858000"/>
          </a:xfrm>
          <a:prstGeom prst="rect">
            <a:avLst/>
          </a:prstGeom>
          <a:solidFill>
            <a:srgbClr val="60b7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80920" y="1628640"/>
            <a:ext cx="75312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20A96-A979-4AEE-861C-595B31A8D3B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80920" y="1089000"/>
            <a:ext cx="7786800" cy="0"/>
          </a:xfrm>
          <a:prstGeom prst="line">
            <a:avLst/>
          </a:prstGeom>
          <a:ln w="47520">
            <a:solidFill>
              <a:srgbClr val="409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272360" y="6310440"/>
            <a:ext cx="1690560" cy="547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0" y="5950080"/>
            <a:ext cx="701640" cy="376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rcRect l="0" t="0" r="0" b="71097"/>
          <a:stretch/>
        </p:blipFill>
        <p:spPr>
          <a:xfrm>
            <a:off x="0" y="6381720"/>
            <a:ext cx="720720" cy="4762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max.kaiser@onb.ac.at" TargetMode="External"/><Relationship Id="rId2" Type="http://schemas.openxmlformats.org/officeDocument/2006/relationships/hyperlink" Target="http://www.onb.ac.at/" TargetMode="External"/><Relationship Id="rId3" Type="http://schemas.openxmlformats.org/officeDocument/2006/relationships/hyperlink" Target="http://www.onb.ac.at/" TargetMode="External"/><Relationship Id="rId4" Type="http://schemas.openxmlformats.org/officeDocument/2006/relationships/image" Target="../media/image1.wmf"/><Relationship Id="rId5" Type="http://schemas.openxmlformats.org/officeDocument/2006/relationships/hyperlink" Target="http://www.wepreserve.eu/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127.0.0.1:4001/testbed/" TargetMode="External"/><Relationship Id="rId2" Type="http://schemas.openxmlformats.org/officeDocument/2006/relationships/hyperlink" Target="http://www.planets-project.eu/private/testbed-ui/" TargetMode="External"/><Relationship Id="rId3" Type="http://schemas.openxmlformats.org/officeDocument/2006/relationships/hyperlink" Target="http://www.planets-project.eu/private/testbed-ui/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mailto:max.kaiser@onb.ac.at" TargetMode="External"/><Relationship Id="rId2" Type="http://schemas.openxmlformats.org/officeDocument/2006/relationships/hyperlink" Target="http://www.onb.ac.at/" TargetMode="External"/><Relationship Id="rId3" Type="http://schemas.openxmlformats.org/officeDocument/2006/relationships/hyperlink" Target="http://www.onb.ac.at/" TargetMode="External"/><Relationship Id="rId4" Type="http://schemas.openxmlformats.org/officeDocument/2006/relationships/image" Target="../media/image1.wmf"/><Relationship Id="rId5" Type="http://schemas.openxmlformats.org/officeDocument/2006/relationships/hyperlink" Target="http://www.wepreserve.eu/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80920" y="1628640"/>
            <a:ext cx="75312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80920" y="3384360"/>
            <a:ext cx="8056800" cy="31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PLANETS Testb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DPE, PLANETS and CASPAR 2nd Annual Conference</a:t>
            </a:r>
            <a:br>
              <a:rPr sz="2500"/>
            </a:b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Lisbon, 5–6 September, 200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x Kaiser, Austrian National Library</a:t>
            </a:r>
            <a:br>
              <a:rPr sz="2400"/>
            </a:b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ax.kaiser@onb.ac.a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onb.ac.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927000" y="1224000"/>
            <a:ext cx="3924360" cy="15858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wePreserv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292720" y="233280"/>
            <a:ext cx="33336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80560" y="324000"/>
            <a:ext cx="6031080" cy="6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TS Testbed: Fou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80920" y="1224000"/>
            <a:ext cx="779472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work undertaken by the Dutch Digital Preservation Testbed and DELOS Testbed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ion in PLANETS Interoperability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on formalisation of testing process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ng focus on comparability and traceability of resul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80560" y="324000"/>
            <a:ext cx="6031080" cy="6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80560" y="1224000"/>
            <a:ext cx="780588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ustrian National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umanities Advanced Technology and Information Institute at the University of Glasgow (HATII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ustrian Research Centers (AR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tional Archives of the Nether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itish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ienna University of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iversity of Colog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80560" y="324000"/>
            <a:ext cx="6031080" cy="6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TS Testbed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80560" y="1224000"/>
            <a:ext cx="780588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based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a consistent and coherent evidence base for the objective evaluation of different tools, services, and complete preservation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bed system provid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rly structured and formal process for preparing, executing, and evaluating experi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ability of experiments, comparability and traceability of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stance in planning preservation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chmarking of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 of ongoing experiments will improve strength of preservation plans by means of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provide essential feedback for the development of PLANETS tools, services and preservation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80560" y="324000"/>
            <a:ext cx="6031080" cy="6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bed Method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80560" y="1224000"/>
            <a:ext cx="780588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 Proc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ined to a focused 6-step process that each formal experiment must fol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ETS Testbed experiment: consist of a consistent methodology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ng its metadata (exploration area, scope, criteria, references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ing or creating a workflow of (orchestrated) preservation servi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ing the results against the experiment’s initial go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98480" y="0"/>
            <a:ext cx="8263080" cy="6858000"/>
          </a:xfrm>
          <a:prstGeom prst="rect">
            <a:avLst/>
          </a:prstGeom>
          <a:solidFill>
            <a:srgbClr val="e3f1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5528880" y="103320"/>
            <a:ext cx="2911680" cy="988920"/>
            <a:chOff x="5528880" y="103320"/>
            <a:chExt cx="2911680" cy="988920"/>
          </a:xfrm>
        </p:grpSpPr>
        <p:sp>
          <p:nvSpPr>
            <p:cNvPr id="130" name=""/>
            <p:cNvSpPr/>
            <p:nvPr/>
          </p:nvSpPr>
          <p:spPr>
            <a:xfrm>
              <a:off x="6505560" y="103320"/>
              <a:ext cx="1935000" cy="988920"/>
            </a:xfrm>
            <a:prstGeom prst="flowChartDocument">
              <a:avLst/>
            </a:prstGeom>
            <a:solidFill>
              <a:srgbClr val="fcd7a6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asic Experiment Properties 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1" name=""/>
            <p:cNvCxnSpPr>
              <a:stCxn id="132" idx="3"/>
              <a:endCxn id="130" idx="1"/>
            </p:cNvCxnSpPr>
            <p:nvPr/>
          </p:nvCxnSpPr>
          <p:spPr>
            <a:xfrm>
              <a:off x="5528880" y="596880"/>
              <a:ext cx="96444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3" name=""/>
          <p:cNvGrpSpPr/>
          <p:nvPr/>
        </p:nvGrpSpPr>
        <p:grpSpPr>
          <a:xfrm>
            <a:off x="5528880" y="1743120"/>
            <a:ext cx="2913480" cy="988920"/>
            <a:chOff x="5528880" y="1743120"/>
            <a:chExt cx="2913480" cy="988920"/>
          </a:xfrm>
        </p:grpSpPr>
        <p:sp>
          <p:nvSpPr>
            <p:cNvPr id="134" name=""/>
            <p:cNvSpPr/>
            <p:nvPr/>
          </p:nvSpPr>
          <p:spPr>
            <a:xfrm>
              <a:off x="6507000" y="1743120"/>
              <a:ext cx="1935360" cy="988920"/>
            </a:xfrm>
            <a:prstGeom prst="flowChartDocument">
              <a:avLst/>
            </a:prstGeom>
            <a:solidFill>
              <a:srgbClr val="fcd7a6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ools and Data Specif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5" name=""/>
            <p:cNvCxnSpPr>
              <a:stCxn id="136" idx="3"/>
              <a:endCxn id="134" idx="1"/>
            </p:cNvCxnSpPr>
            <p:nvPr/>
          </p:nvCxnSpPr>
          <p:spPr>
            <a:xfrm>
              <a:off x="5528880" y="2236320"/>
              <a:ext cx="965880" cy="2520"/>
            </a:xfrm>
            <a:prstGeom prst="bentConnector3">
              <a:avLst>
                <a:gd name="adj1" fmla="val 50000"/>
              </a:avLst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7" name=""/>
          <p:cNvGrpSpPr/>
          <p:nvPr/>
        </p:nvGrpSpPr>
        <p:grpSpPr>
          <a:xfrm>
            <a:off x="5462280" y="5788080"/>
            <a:ext cx="2968920" cy="988920"/>
            <a:chOff x="5462280" y="5788080"/>
            <a:chExt cx="2968920" cy="988920"/>
          </a:xfrm>
        </p:grpSpPr>
        <p:sp>
          <p:nvSpPr>
            <p:cNvPr id="138" name=""/>
            <p:cNvSpPr/>
            <p:nvPr/>
          </p:nvSpPr>
          <p:spPr>
            <a:xfrm>
              <a:off x="6496200" y="5788080"/>
              <a:ext cx="1935000" cy="988920"/>
            </a:xfrm>
            <a:prstGeom prst="flowChartDocument">
              <a:avLst/>
            </a:prstGeom>
            <a:solidFill>
              <a:srgbClr val="fcd7a6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claration of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o / No g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9" name=""/>
            <p:cNvCxnSpPr>
              <a:stCxn id="140" idx="3"/>
              <a:endCxn id="138" idx="1"/>
            </p:cNvCxnSpPr>
            <p:nvPr/>
          </p:nvCxnSpPr>
          <p:spPr>
            <a:xfrm>
              <a:off x="5462280" y="6271920"/>
              <a:ext cx="1021320" cy="11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41" name=""/>
          <p:cNvGrpSpPr/>
          <p:nvPr/>
        </p:nvGrpSpPr>
        <p:grpSpPr>
          <a:xfrm>
            <a:off x="3716280" y="1080720"/>
            <a:ext cx="1800360" cy="1627560"/>
            <a:chOff x="3716280" y="1080720"/>
            <a:chExt cx="1800360" cy="1627560"/>
          </a:xfrm>
        </p:grpSpPr>
        <p:sp>
          <p:nvSpPr>
            <p:cNvPr id="136" name=""/>
            <p:cNvSpPr/>
            <p:nvPr/>
          </p:nvSpPr>
          <p:spPr>
            <a:xfrm>
              <a:off x="3716280" y="1763640"/>
              <a:ext cx="1800360" cy="9446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. Design Experi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2" name=""/>
            <p:cNvCxnSpPr>
              <a:stCxn id="132" idx="2"/>
              <a:endCxn id="136" idx="0"/>
            </p:cNvCxnSpPr>
            <p:nvPr/>
          </p:nvCxnSpPr>
          <p:spPr>
            <a:xfrm>
              <a:off x="4615920" y="1080720"/>
              <a:ext cx="1080" cy="670680"/>
            </a:xfrm>
            <a:prstGeom prst="straightConnector1">
              <a:avLst/>
            </a:prstGeom>
            <a:ln w="57240">
              <a:solidFill>
                <a:srgbClr val="53b2b9"/>
              </a:solidFill>
              <a:miter/>
              <a:tailEnd len="med" type="triangle" w="med"/>
            </a:ln>
          </p:spPr>
        </p:cxnSp>
      </p:grpSp>
      <p:grpSp>
        <p:nvGrpSpPr>
          <p:cNvPr id="143" name=""/>
          <p:cNvGrpSpPr/>
          <p:nvPr/>
        </p:nvGrpSpPr>
        <p:grpSpPr>
          <a:xfrm>
            <a:off x="3716280" y="2720520"/>
            <a:ext cx="1800360" cy="2013480"/>
            <a:chOff x="3716280" y="2720520"/>
            <a:chExt cx="1800360" cy="2013480"/>
          </a:xfrm>
        </p:grpSpPr>
        <p:sp>
          <p:nvSpPr>
            <p:cNvPr id="144" name=""/>
            <p:cNvSpPr/>
            <p:nvPr/>
          </p:nvSpPr>
          <p:spPr>
            <a:xfrm>
              <a:off x="3716280" y="3789360"/>
              <a:ext cx="1800360" cy="9446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. Specify Resources &amp; Outcom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5" name=""/>
            <p:cNvCxnSpPr>
              <a:stCxn id="136" idx="2"/>
              <a:endCxn id="144" idx="0"/>
            </p:cNvCxnSpPr>
            <p:nvPr/>
          </p:nvCxnSpPr>
          <p:spPr>
            <a:xfrm>
              <a:off x="4615920" y="2720520"/>
              <a:ext cx="1080" cy="1056600"/>
            </a:xfrm>
            <a:prstGeom prst="straightConnector1">
              <a:avLst/>
            </a:prstGeom>
            <a:ln w="57240">
              <a:solidFill>
                <a:srgbClr val="53b2b9"/>
              </a:solidFill>
              <a:miter/>
              <a:tailEnd len="med" type="triangle" w="med"/>
            </a:ln>
          </p:spPr>
        </p:cxnSp>
      </p:grpSp>
      <p:grpSp>
        <p:nvGrpSpPr>
          <p:cNvPr id="146" name=""/>
          <p:cNvGrpSpPr/>
          <p:nvPr/>
        </p:nvGrpSpPr>
        <p:grpSpPr>
          <a:xfrm>
            <a:off x="3784680" y="4746600"/>
            <a:ext cx="1665360" cy="2001960"/>
            <a:chOff x="3784680" y="4746600"/>
            <a:chExt cx="1665360" cy="2001960"/>
          </a:xfrm>
        </p:grpSpPr>
        <p:sp>
          <p:nvSpPr>
            <p:cNvPr id="140" name=""/>
            <p:cNvSpPr/>
            <p:nvPr/>
          </p:nvSpPr>
          <p:spPr>
            <a:xfrm>
              <a:off x="3784680" y="5796000"/>
              <a:ext cx="1665360" cy="952560"/>
            </a:xfrm>
            <a:prstGeom prst="diamond">
              <a:avLst/>
            </a:prstGeom>
            <a:solidFill>
              <a:srgbClr val="ff6600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. Go / No g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7" name=""/>
            <p:cNvCxnSpPr>
              <a:stCxn id="144" idx="2"/>
              <a:endCxn id="140" idx="0"/>
            </p:cNvCxnSpPr>
            <p:nvPr/>
          </p:nvCxnSpPr>
          <p:spPr>
            <a:xfrm>
              <a:off x="4615920" y="4746600"/>
              <a:ext cx="2520" cy="1037520"/>
            </a:xfrm>
            <a:prstGeom prst="straightConnector1">
              <a:avLst/>
            </a:prstGeom>
            <a:ln w="57240">
              <a:solidFill>
                <a:srgbClr val="53b2b9"/>
              </a:solidFill>
              <a:miter/>
              <a:tailEnd len="med" type="triangle" w="med"/>
            </a:ln>
          </p:spPr>
        </p:cxnSp>
      </p:grpSp>
      <p:sp>
        <p:nvSpPr>
          <p:cNvPr id="148" name=""/>
          <p:cNvSpPr/>
          <p:nvPr/>
        </p:nvSpPr>
        <p:spPr>
          <a:xfrm>
            <a:off x="884160" y="115920"/>
            <a:ext cx="1395360" cy="404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276640" y="123840"/>
            <a:ext cx="3240000" cy="944640"/>
            <a:chOff x="2276640" y="123840"/>
            <a:chExt cx="3240000" cy="944640"/>
          </a:xfrm>
        </p:grpSpPr>
        <p:sp>
          <p:nvSpPr>
            <p:cNvPr id="132" name=""/>
            <p:cNvSpPr/>
            <p:nvPr/>
          </p:nvSpPr>
          <p:spPr>
            <a:xfrm>
              <a:off x="3716280" y="123840"/>
              <a:ext cx="1800360" cy="9446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. Define Basic Experiment Propert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76640" y="279360"/>
              <a:ext cx="1439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5528880" y="3063960"/>
            <a:ext cx="2913480" cy="2388960"/>
            <a:chOff x="5528880" y="3063960"/>
            <a:chExt cx="2913480" cy="2388960"/>
          </a:xfrm>
        </p:grpSpPr>
        <p:sp>
          <p:nvSpPr>
            <p:cNvPr id="152" name=""/>
            <p:cNvSpPr/>
            <p:nvPr/>
          </p:nvSpPr>
          <p:spPr>
            <a:xfrm>
              <a:off x="6507000" y="4464000"/>
              <a:ext cx="1935360" cy="988920"/>
            </a:xfrm>
            <a:prstGeom prst="flowChartDocument">
              <a:avLst/>
            </a:prstGeom>
            <a:solidFill>
              <a:srgbClr val="fcd7a6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valuation Checkli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3" name=""/>
            <p:cNvCxnSpPr>
              <a:stCxn id="144" idx="3"/>
              <a:endCxn id="152" idx="1"/>
            </p:cNvCxnSpPr>
            <p:nvPr/>
          </p:nvCxnSpPr>
          <p:spPr>
            <a:xfrm>
              <a:off x="5528880" y="4262400"/>
              <a:ext cx="965880" cy="697680"/>
            </a:xfrm>
            <a:prstGeom prst="bentConnector3">
              <a:avLst>
                <a:gd name="adj1" fmla="val 50000"/>
              </a:avLst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" name=""/>
            <p:cNvSpPr/>
            <p:nvPr/>
          </p:nvSpPr>
          <p:spPr>
            <a:xfrm>
              <a:off x="6507000" y="3063960"/>
              <a:ext cx="1935360" cy="988920"/>
            </a:xfrm>
            <a:prstGeom prst="flowChartDocument">
              <a:avLst/>
            </a:prstGeom>
            <a:solidFill>
              <a:srgbClr val="fcd7a6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ource Specif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5" name=""/>
            <p:cNvCxnSpPr>
              <a:stCxn id="144" idx="3"/>
              <a:endCxn id="154" idx="1"/>
            </p:cNvCxnSpPr>
            <p:nvPr/>
          </p:nvCxnSpPr>
          <p:spPr>
            <a:xfrm flipV="1">
              <a:off x="5528880" y="3558600"/>
              <a:ext cx="965880" cy="703800"/>
            </a:xfrm>
            <a:prstGeom prst="bentConnector3">
              <a:avLst>
                <a:gd name="adj1" fmla="val 50000"/>
              </a:avLst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56" name=""/>
          <p:cNvGrpSpPr/>
          <p:nvPr/>
        </p:nvGrpSpPr>
        <p:grpSpPr>
          <a:xfrm>
            <a:off x="162000" y="549360"/>
            <a:ext cx="3541680" cy="2520720"/>
            <a:chOff x="162000" y="549360"/>
            <a:chExt cx="3541680" cy="2520720"/>
          </a:xfrm>
        </p:grpSpPr>
        <p:sp>
          <p:nvSpPr>
            <p:cNvPr id="157" name=""/>
            <p:cNvSpPr/>
            <p:nvPr/>
          </p:nvSpPr>
          <p:spPr>
            <a:xfrm>
              <a:off x="162000" y="549360"/>
              <a:ext cx="2611440" cy="2520720"/>
            </a:xfrm>
            <a:prstGeom prst="roundRect">
              <a:avLst>
                <a:gd name="adj" fmla="val 16667"/>
              </a:avLst>
            </a:prstGeom>
            <a:solidFill>
              <a:srgbClr val="fcf560"/>
            </a:solidFill>
            <a:ln w="255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8000" rIns="18000" tIns="36000" bIns="36000" anchor="t">
              <a:noAutofit/>
            </a:bodyPr>
            <a:p>
              <a:pPr marL="271440" indent="-271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1440" indent="-271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ference to other experim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1440" indent="-271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umm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1440" indent="-271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urpo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1440" indent="-271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articipa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1440" indent="-271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cop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1440" indent="-271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ype of Too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1440" indent="-271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ype of Objec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1440" indent="-271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pproa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1440" indent="-271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1440" indent="-271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7" idx="3"/>
              <a:endCxn id="132" idx="1"/>
            </p:cNvCxnSpPr>
            <p:nvPr/>
          </p:nvCxnSpPr>
          <p:spPr>
            <a:xfrm flipV="1">
              <a:off x="2785680" y="596160"/>
              <a:ext cx="918360" cy="1213560"/>
            </a:xfrm>
            <a:prstGeom prst="bentConnector3">
              <a:avLst>
                <a:gd name="adj1" fmla="val 49803"/>
              </a:avLst>
            </a:prstGeom>
            <a:ln w="38160">
              <a:solidFill>
                <a:srgbClr val="53b2b9"/>
              </a:solidFill>
              <a:prstDash val="sysDot"/>
              <a:miter/>
            </a:ln>
          </p:spPr>
        </p:cxnSp>
      </p:grpSp>
      <p:grpSp>
        <p:nvGrpSpPr>
          <p:cNvPr id="159" name=""/>
          <p:cNvGrpSpPr/>
          <p:nvPr/>
        </p:nvGrpSpPr>
        <p:grpSpPr>
          <a:xfrm>
            <a:off x="880920" y="2235960"/>
            <a:ext cx="2822400" cy="2091600"/>
            <a:chOff x="880920" y="2235960"/>
            <a:chExt cx="2822400" cy="2091600"/>
          </a:xfrm>
        </p:grpSpPr>
        <p:sp>
          <p:nvSpPr>
            <p:cNvPr id="160" name=""/>
            <p:cNvSpPr/>
            <p:nvPr/>
          </p:nvSpPr>
          <p:spPr>
            <a:xfrm>
              <a:off x="880920" y="2843280"/>
              <a:ext cx="2521080" cy="1484280"/>
            </a:xfrm>
            <a:prstGeom prst="roundRect">
              <a:avLst>
                <a:gd name="adj" fmla="val 16667"/>
              </a:avLst>
            </a:prstGeom>
            <a:solidFill>
              <a:srgbClr val="fcf560"/>
            </a:solidFill>
            <a:ln w="255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8000" rIns="18000" tIns="36000" bIns="36000" anchor="t">
              <a:noAutofit/>
            </a:bodyPr>
            <a:p>
              <a:pPr marL="181080" indent="-18108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ecify Experiment Typ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42880" indent="-18108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igra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42880" indent="-18108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haracterisa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42880" indent="-18108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1080" indent="-18108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ecify Too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1080" indent="-18108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ecify 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1" name=""/>
            <p:cNvCxnSpPr>
              <a:stCxn id="160" idx="3"/>
              <a:endCxn id="136" idx="1"/>
            </p:cNvCxnSpPr>
            <p:nvPr/>
          </p:nvCxnSpPr>
          <p:spPr>
            <a:xfrm flipV="1">
              <a:off x="3414240" y="2235960"/>
              <a:ext cx="289440" cy="1350360"/>
            </a:xfrm>
            <a:prstGeom prst="bentConnector3">
              <a:avLst>
                <a:gd name="adj1" fmla="val 49937"/>
              </a:avLst>
            </a:prstGeom>
            <a:ln w="38160">
              <a:solidFill>
                <a:srgbClr val="53b2b9"/>
              </a:solidFill>
              <a:prstDash val="sysDot"/>
              <a:miter/>
            </a:ln>
          </p:spPr>
        </p:cxnSp>
      </p:grpSp>
      <p:grpSp>
        <p:nvGrpSpPr>
          <p:cNvPr id="162" name=""/>
          <p:cNvGrpSpPr/>
          <p:nvPr/>
        </p:nvGrpSpPr>
        <p:grpSpPr>
          <a:xfrm>
            <a:off x="162000" y="4194000"/>
            <a:ext cx="3542040" cy="1484640"/>
            <a:chOff x="162000" y="4194000"/>
            <a:chExt cx="3542040" cy="1484640"/>
          </a:xfrm>
        </p:grpSpPr>
        <p:sp>
          <p:nvSpPr>
            <p:cNvPr id="163" name=""/>
            <p:cNvSpPr/>
            <p:nvPr/>
          </p:nvSpPr>
          <p:spPr>
            <a:xfrm>
              <a:off x="162000" y="4194000"/>
              <a:ext cx="2520720" cy="1484640"/>
            </a:xfrm>
            <a:prstGeom prst="roundRect">
              <a:avLst>
                <a:gd name="adj" fmla="val 16667"/>
              </a:avLst>
            </a:prstGeom>
            <a:solidFill>
              <a:srgbClr val="fcf560"/>
            </a:solidFill>
            <a:ln w="255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8000" rIns="18000" tIns="36000" bIns="36000" anchor="t">
              <a:noAutofit/>
            </a:bodyPr>
            <a:p>
              <a:pPr marL="181080" indent="-18108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stimate number of output f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1080" indent="-18108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stimate computer resource requirem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1080" indent="-18108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ecify benchmark goals for experi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4" name=""/>
            <p:cNvCxnSpPr>
              <a:stCxn id="163" idx="3"/>
              <a:endCxn id="144" idx="1"/>
            </p:cNvCxnSpPr>
            <p:nvPr/>
          </p:nvCxnSpPr>
          <p:spPr>
            <a:xfrm flipV="1">
              <a:off x="2695680" y="4262040"/>
              <a:ext cx="1008720" cy="675360"/>
            </a:xfrm>
            <a:prstGeom prst="bentConnector3">
              <a:avLst>
                <a:gd name="adj1" fmla="val 49910"/>
              </a:avLst>
            </a:prstGeom>
            <a:ln w="38160">
              <a:solidFill>
                <a:srgbClr val="53b2b9"/>
              </a:solidFill>
              <a:prstDash val="sysDot"/>
              <a:miter/>
            </a:ln>
          </p:spPr>
        </p:cxnSp>
      </p:grpSp>
      <p:grpSp>
        <p:nvGrpSpPr>
          <p:cNvPr id="165" name=""/>
          <p:cNvGrpSpPr/>
          <p:nvPr/>
        </p:nvGrpSpPr>
        <p:grpSpPr>
          <a:xfrm>
            <a:off x="431640" y="5553000"/>
            <a:ext cx="3340080" cy="1305000"/>
            <a:chOff x="431640" y="5553000"/>
            <a:chExt cx="3340080" cy="1305000"/>
          </a:xfrm>
        </p:grpSpPr>
        <p:sp>
          <p:nvSpPr>
            <p:cNvPr id="166" name=""/>
            <p:cNvSpPr/>
            <p:nvPr/>
          </p:nvSpPr>
          <p:spPr>
            <a:xfrm>
              <a:off x="431640" y="5553000"/>
              <a:ext cx="3060720" cy="1305000"/>
            </a:xfrm>
            <a:prstGeom prst="roundRect">
              <a:avLst>
                <a:gd name="adj" fmla="val 16667"/>
              </a:avLst>
            </a:prstGeom>
            <a:solidFill>
              <a:srgbClr val="fcf560"/>
            </a:solidFill>
            <a:ln w="255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8000" rIns="18000" tIns="36000" bIns="36000" anchor="t">
              <a:noAutofit/>
            </a:bodyPr>
            <a:p>
              <a:pPr marL="181080" indent="-18108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utomatic approval by syst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42880" indent="-18108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ased on resource specification and system monitor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1080" indent="-18108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nual approval by administr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7" name=""/>
            <p:cNvCxnSpPr>
              <a:stCxn id="166" idx="3"/>
              <a:endCxn id="140" idx="1"/>
            </p:cNvCxnSpPr>
            <p:nvPr/>
          </p:nvCxnSpPr>
          <p:spPr>
            <a:xfrm>
              <a:off x="3504960" y="6205320"/>
              <a:ext cx="267120" cy="67320"/>
            </a:xfrm>
            <a:prstGeom prst="bentConnector3">
              <a:avLst>
                <a:gd name="adj1" fmla="val 49932"/>
              </a:avLst>
            </a:prstGeom>
            <a:ln w="38160">
              <a:solidFill>
                <a:srgbClr val="53b2b9"/>
              </a:solidFill>
              <a:prstDash val="sysDot"/>
              <a:miter/>
            </a:ln>
          </p:spPr>
        </p:cxnSp>
      </p:grpSp>
      <p:sp>
        <p:nvSpPr>
          <p:cNvPr id="168" name=""/>
          <p:cNvSpPr/>
          <p:nvPr/>
        </p:nvSpPr>
        <p:spPr>
          <a:xfrm>
            <a:off x="836640" y="189000"/>
            <a:ext cx="60307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estbed Experiment Process |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80920" y="819000"/>
            <a:ext cx="7786800" cy="0"/>
          </a:xfrm>
          <a:prstGeom prst="line">
            <a:avLst/>
          </a:prstGeom>
          <a:ln w="47520">
            <a:solidFill>
              <a:srgbClr val="409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880920" y="0"/>
            <a:ext cx="8263080" cy="6858000"/>
          </a:xfrm>
          <a:prstGeom prst="rect">
            <a:avLst/>
          </a:prstGeom>
          <a:solidFill>
            <a:srgbClr val="e3f1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5249880" y="954000"/>
            <a:ext cx="2911320" cy="2338200"/>
            <a:chOff x="5249880" y="954000"/>
            <a:chExt cx="2911320" cy="2338200"/>
          </a:xfrm>
        </p:grpSpPr>
        <p:sp>
          <p:nvSpPr>
            <p:cNvPr id="172" name=""/>
            <p:cNvSpPr/>
            <p:nvPr/>
          </p:nvSpPr>
          <p:spPr>
            <a:xfrm>
              <a:off x="6226200" y="954000"/>
              <a:ext cx="1935000" cy="988920"/>
            </a:xfrm>
            <a:prstGeom prst="flowChartDocument">
              <a:avLst/>
            </a:prstGeom>
            <a:solidFill>
              <a:srgbClr val="fcd7a6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xperiment Workflo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226200" y="2303280"/>
              <a:ext cx="1935000" cy="988920"/>
            </a:xfrm>
            <a:prstGeom prst="flowChartDocument">
              <a:avLst/>
            </a:prstGeom>
            <a:solidFill>
              <a:srgbClr val="fcd7a6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xperiment Resu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4" name=""/>
            <p:cNvCxnSpPr>
              <a:stCxn id="175" idx="3"/>
              <a:endCxn id="172" idx="1"/>
            </p:cNvCxnSpPr>
            <p:nvPr/>
          </p:nvCxnSpPr>
          <p:spPr>
            <a:xfrm flipV="1">
              <a:off x="5249880" y="1448640"/>
              <a:ext cx="964080" cy="697320"/>
            </a:xfrm>
            <a:prstGeom prst="bentConnector3">
              <a:avLst>
                <a:gd name="adj1" fmla="val 49906"/>
              </a:avLst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6" name=""/>
            <p:cNvCxnSpPr>
              <a:stCxn id="175" idx="3"/>
              <a:endCxn id="173" idx="1"/>
            </p:cNvCxnSpPr>
            <p:nvPr/>
          </p:nvCxnSpPr>
          <p:spPr>
            <a:xfrm>
              <a:off x="5249880" y="2145600"/>
              <a:ext cx="964080" cy="653400"/>
            </a:xfrm>
            <a:prstGeom prst="bentConnector3">
              <a:avLst>
                <a:gd name="adj1" fmla="val 49906"/>
              </a:avLst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77" name=""/>
          <p:cNvGrpSpPr/>
          <p:nvPr/>
        </p:nvGrpSpPr>
        <p:grpSpPr>
          <a:xfrm>
            <a:off x="5249880" y="3722760"/>
            <a:ext cx="2911320" cy="988920"/>
            <a:chOff x="5249880" y="3722760"/>
            <a:chExt cx="2911320" cy="988920"/>
          </a:xfrm>
        </p:grpSpPr>
        <p:sp>
          <p:nvSpPr>
            <p:cNvPr id="178" name=""/>
            <p:cNvSpPr/>
            <p:nvPr/>
          </p:nvSpPr>
          <p:spPr>
            <a:xfrm>
              <a:off x="6226200" y="3722760"/>
              <a:ext cx="1935000" cy="988920"/>
            </a:xfrm>
            <a:prstGeom prst="flowChartDocument">
              <a:avLst/>
            </a:prstGeom>
            <a:solidFill>
              <a:srgbClr val="fcd7a6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xperiment Evalu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9" name=""/>
            <p:cNvCxnSpPr>
              <a:stCxn id="180" idx="3"/>
              <a:endCxn id="178" idx="1"/>
            </p:cNvCxnSpPr>
            <p:nvPr/>
          </p:nvCxnSpPr>
          <p:spPr>
            <a:xfrm>
              <a:off x="5249880" y="4215960"/>
              <a:ext cx="964080" cy="18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81" name=""/>
          <p:cNvGrpSpPr/>
          <p:nvPr/>
        </p:nvGrpSpPr>
        <p:grpSpPr>
          <a:xfrm>
            <a:off x="3436920" y="2630520"/>
            <a:ext cx="1800000" cy="2057400"/>
            <a:chOff x="3436920" y="2630520"/>
            <a:chExt cx="1800000" cy="2057400"/>
          </a:xfrm>
        </p:grpSpPr>
        <p:sp>
          <p:nvSpPr>
            <p:cNvPr id="180" name=""/>
            <p:cNvSpPr/>
            <p:nvPr/>
          </p:nvSpPr>
          <p:spPr>
            <a:xfrm>
              <a:off x="3436920" y="3743640"/>
              <a:ext cx="1800000" cy="94428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. Evaluate Experi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2" name=""/>
            <p:cNvCxnSpPr>
              <a:stCxn id="175" idx="2"/>
              <a:endCxn id="180" idx="0"/>
            </p:cNvCxnSpPr>
            <p:nvPr/>
          </p:nvCxnSpPr>
          <p:spPr>
            <a:xfrm>
              <a:off x="4336560" y="2630520"/>
              <a:ext cx="1080" cy="1100880"/>
            </a:xfrm>
            <a:prstGeom prst="straightConnector1">
              <a:avLst/>
            </a:prstGeom>
            <a:ln w="57240">
              <a:solidFill>
                <a:srgbClr val="53b2b9"/>
              </a:solidFill>
              <a:miter/>
              <a:tailEnd len="med" type="triangle" w="med"/>
            </a:ln>
          </p:spPr>
        </p:cxnSp>
      </p:grpSp>
      <p:grpSp>
        <p:nvGrpSpPr>
          <p:cNvPr id="183" name=""/>
          <p:cNvGrpSpPr/>
          <p:nvPr/>
        </p:nvGrpSpPr>
        <p:grpSpPr>
          <a:xfrm>
            <a:off x="3616200" y="4700160"/>
            <a:ext cx="1444680" cy="1816200"/>
            <a:chOff x="3616200" y="4700160"/>
            <a:chExt cx="1444680" cy="1816200"/>
          </a:xfrm>
        </p:grpSpPr>
        <p:cxnSp>
          <p:nvCxnSpPr>
            <p:cNvPr id="184" name=""/>
            <p:cNvCxnSpPr>
              <a:stCxn id="180" idx="2"/>
              <a:endCxn id="185" idx="0"/>
            </p:cNvCxnSpPr>
            <p:nvPr/>
          </p:nvCxnSpPr>
          <p:spPr>
            <a:xfrm>
              <a:off x="4336560" y="4700160"/>
              <a:ext cx="2520" cy="1399320"/>
            </a:xfrm>
            <a:prstGeom prst="straightConnector1">
              <a:avLst/>
            </a:prstGeom>
            <a:ln w="57240">
              <a:solidFill>
                <a:srgbClr val="53b2b9"/>
              </a:solidFill>
              <a:miter/>
              <a:tailEnd len="med" type="triangle" w="med"/>
            </a:ln>
          </p:spPr>
        </p:cxnSp>
        <p:sp>
          <p:nvSpPr>
            <p:cNvPr id="185" name=""/>
            <p:cNvSpPr/>
            <p:nvPr/>
          </p:nvSpPr>
          <p:spPr>
            <a:xfrm>
              <a:off x="3616200" y="6111720"/>
              <a:ext cx="1444680" cy="40464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o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76240" y="1660680"/>
            <a:ext cx="1665360" cy="952200"/>
          </a:xfrm>
          <a:prstGeom prst="diamond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Go / No 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553840" y="1673280"/>
            <a:ext cx="2683080" cy="944640"/>
            <a:chOff x="2553840" y="1673280"/>
            <a:chExt cx="2683080" cy="944640"/>
          </a:xfrm>
        </p:grpSpPr>
        <p:sp>
          <p:nvSpPr>
            <p:cNvPr id="175" name=""/>
            <p:cNvSpPr/>
            <p:nvPr/>
          </p:nvSpPr>
          <p:spPr>
            <a:xfrm>
              <a:off x="3436920" y="1673280"/>
              <a:ext cx="1800000" cy="9446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. Run Experi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8" name=""/>
            <p:cNvCxnSpPr>
              <a:stCxn id="186" idx="3"/>
              <a:endCxn id="175" idx="1"/>
            </p:cNvCxnSpPr>
            <p:nvPr/>
          </p:nvCxnSpPr>
          <p:spPr>
            <a:xfrm>
              <a:off x="2553840" y="2136960"/>
              <a:ext cx="870840" cy="10080"/>
            </a:xfrm>
            <a:prstGeom prst="straightConnector1">
              <a:avLst/>
            </a:prstGeom>
            <a:ln w="57240">
              <a:solidFill>
                <a:srgbClr val="53b2b9"/>
              </a:solidFill>
              <a:miter/>
              <a:tailEnd len="med" type="triangle" w="med"/>
            </a:ln>
          </p:spPr>
        </p:cxnSp>
      </p:grpSp>
      <p:grpSp>
        <p:nvGrpSpPr>
          <p:cNvPr id="189" name=""/>
          <p:cNvGrpSpPr/>
          <p:nvPr/>
        </p:nvGrpSpPr>
        <p:grpSpPr>
          <a:xfrm>
            <a:off x="14400" y="2145960"/>
            <a:ext cx="3410280" cy="2179440"/>
            <a:chOff x="14400" y="2145960"/>
            <a:chExt cx="3410280" cy="2179440"/>
          </a:xfrm>
        </p:grpSpPr>
        <p:sp>
          <p:nvSpPr>
            <p:cNvPr id="190" name=""/>
            <p:cNvSpPr/>
            <p:nvPr/>
          </p:nvSpPr>
          <p:spPr>
            <a:xfrm>
              <a:off x="14400" y="2840040"/>
              <a:ext cx="3105000" cy="1485360"/>
            </a:xfrm>
            <a:prstGeom prst="roundRect">
              <a:avLst>
                <a:gd name="adj" fmla="val 16667"/>
              </a:avLst>
            </a:prstGeom>
            <a:solidFill>
              <a:srgbClr val="fcf560"/>
            </a:solidFill>
            <a:ln w="255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8000" rIns="18000" tIns="36000" bIns="36000" anchor="t">
              <a:noAutofit/>
            </a:bodyPr>
            <a:p>
              <a:pPr marL="181080" indent="-18108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xperiments executed as BPEL workflow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1080" indent="-18108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cessed by workflow execution engine of the Interoperability Framewor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1080" indent="-18108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esentation of status rep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1080" indent="-18108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1" name=""/>
            <p:cNvCxnSpPr>
              <a:stCxn id="190" idx="3"/>
              <a:endCxn id="175" idx="1"/>
            </p:cNvCxnSpPr>
            <p:nvPr/>
          </p:nvCxnSpPr>
          <p:spPr>
            <a:xfrm flipV="1">
              <a:off x="3132000" y="2145960"/>
              <a:ext cx="293040" cy="1437120"/>
            </a:xfrm>
            <a:prstGeom prst="bentConnector3">
              <a:avLst>
                <a:gd name="adj1" fmla="val 49938"/>
              </a:avLst>
            </a:prstGeom>
            <a:ln w="38160">
              <a:solidFill>
                <a:srgbClr val="53b2b9"/>
              </a:solidFill>
              <a:prstDash val="sysDot"/>
              <a:miter/>
            </a:ln>
          </p:spPr>
        </p:cxnSp>
      </p:grpSp>
      <p:grpSp>
        <p:nvGrpSpPr>
          <p:cNvPr id="192" name=""/>
          <p:cNvGrpSpPr/>
          <p:nvPr/>
        </p:nvGrpSpPr>
        <p:grpSpPr>
          <a:xfrm>
            <a:off x="0" y="4215600"/>
            <a:ext cx="3423960" cy="1400760"/>
            <a:chOff x="0" y="4215600"/>
            <a:chExt cx="3423960" cy="1400760"/>
          </a:xfrm>
        </p:grpSpPr>
        <p:sp>
          <p:nvSpPr>
            <p:cNvPr id="193" name=""/>
            <p:cNvSpPr/>
            <p:nvPr/>
          </p:nvSpPr>
          <p:spPr>
            <a:xfrm>
              <a:off x="0" y="4716360"/>
              <a:ext cx="3060720" cy="900000"/>
            </a:xfrm>
            <a:prstGeom prst="roundRect">
              <a:avLst>
                <a:gd name="adj" fmla="val 16667"/>
              </a:avLst>
            </a:prstGeom>
            <a:solidFill>
              <a:srgbClr val="fcf560"/>
            </a:solidFill>
            <a:ln w="255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8000" rIns="18000" tIns="36000" bIns="36000" anchor="t">
              <a:noAutofit/>
            </a:bodyPr>
            <a:p>
              <a:pPr marL="181080" indent="-18108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esentation of input and output 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1080" indent="-18108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valuation of benchmark goa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1080" indent="-18108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4" name=""/>
            <p:cNvCxnSpPr>
              <a:stCxn id="193" idx="3"/>
              <a:endCxn id="180" idx="1"/>
            </p:cNvCxnSpPr>
            <p:nvPr/>
          </p:nvCxnSpPr>
          <p:spPr>
            <a:xfrm flipV="1">
              <a:off x="3072960" y="4215600"/>
              <a:ext cx="351360" cy="951480"/>
            </a:xfrm>
            <a:prstGeom prst="bentConnector3">
              <a:avLst>
                <a:gd name="adj1" fmla="val 49743"/>
              </a:avLst>
            </a:prstGeom>
            <a:ln w="38160">
              <a:solidFill>
                <a:srgbClr val="53b2b9"/>
              </a:solidFill>
              <a:prstDash val="sysDot"/>
              <a:miter/>
            </a:ln>
          </p:spPr>
        </p:cxnSp>
      </p:grpSp>
      <p:sp>
        <p:nvSpPr>
          <p:cNvPr id="195" name=""/>
          <p:cNvSpPr/>
          <p:nvPr/>
        </p:nvSpPr>
        <p:spPr>
          <a:xfrm>
            <a:off x="880920" y="189000"/>
            <a:ext cx="603108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estbed Experiment Process |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80920" y="819000"/>
            <a:ext cx="7786800" cy="0"/>
          </a:xfrm>
          <a:prstGeom prst="line">
            <a:avLst/>
          </a:prstGeom>
          <a:ln w="47520">
            <a:solidFill>
              <a:srgbClr val="409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80560" y="324000"/>
            <a:ext cx="6031080" cy="6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bed System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80560" y="1224000"/>
            <a:ext cx="780588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understanding of the required characteristics of PLANETS Testbed derived from the Dutch Preservation Testbed and the DELOS Digital Preservation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al requirements gathered following a clearly structured software desig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ie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Scenarios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~ 60 Use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ftware Requir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Requirements (Authentication Interfaces, Logging, Versioning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 Experiment, Define Basic Properties, Select A Tool, View Available Services, Handling Stalled Experiment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functional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bility, Reliability, Performance, Security, Supportability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 and Implementation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-level design of the Testbed appl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breakdown of the system into compon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80560" y="324000"/>
            <a:ext cx="6031080" cy="6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bed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80560" y="1224000"/>
            <a:ext cx="780588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form-independent system based on Java Enterprise Edition (E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-tiered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616280" y="3338640"/>
            <a:ext cx="4392720" cy="23763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 rot="10800000">
            <a:off x="927000" y="2754000"/>
            <a:ext cx="3330720" cy="1035000"/>
          </a:xfrm>
          <a:solidFill>
            <a:srgbClr val="bbe0e3"/>
          </a:solid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andles presentation of user interfaces; logic for dynamically creating content. Based on Java Server Faces and Facel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10800000">
            <a:off x="971280" y="3968280"/>
            <a:ext cx="2700360" cy="1035000"/>
          </a:xfrm>
          <a:solidFill>
            <a:srgbClr val="bbe0e3"/>
          </a:solid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s business logic (core functionality). Based on JavaBeans and JAX web service endpo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10800000">
            <a:off x="971640" y="5184360"/>
            <a:ext cx="3240000" cy="1035000"/>
          </a:xfrm>
          <a:solidFill>
            <a:srgbClr val="bbe0e3"/>
          </a:solid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s data persistency. Uses data registries provided by PLANETS Interoperability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798480" y="0"/>
            <a:ext cx="8263080" cy="6858000"/>
          </a:xfrm>
          <a:prstGeom prst="rect">
            <a:avLst/>
          </a:prstGeom>
          <a:solidFill>
            <a:srgbClr val="e3f1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187280" y="2781360"/>
            <a:ext cx="5081760" cy="3781440"/>
            <a:chOff x="1187280" y="2781360"/>
            <a:chExt cx="5081760" cy="3781440"/>
          </a:xfrm>
        </p:grpSpPr>
        <p:sp>
          <p:nvSpPr>
            <p:cNvPr id="207" name=""/>
            <p:cNvSpPr/>
            <p:nvPr/>
          </p:nvSpPr>
          <p:spPr>
            <a:xfrm>
              <a:off x="1187280" y="2781360"/>
              <a:ext cx="5081760" cy="3781440"/>
            </a:xfrm>
            <a:prstGeom prst="flowChartAlternateProcess">
              <a:avLst/>
            </a:prstGeom>
            <a:solidFill>
              <a:srgbClr val="5eaec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Interoperability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Framewor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762440" y="3022560"/>
              <a:ext cx="1319400" cy="342756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orgia"/>
                </a:rPr>
                <a:t>Service B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249200" y="3500280"/>
              <a:ext cx="3397320" cy="2903760"/>
            </a:xfrm>
            <a:prstGeom prst="flowChartAlternateProcess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438200" y="3697200"/>
              <a:ext cx="3075120" cy="2640240"/>
            </a:xfrm>
            <a:prstGeom prst="rect">
              <a:avLst/>
            </a:prstGeom>
            <a:solidFill>
              <a:srgbClr val="addadd">
                <a:alpha val="50000"/>
              </a:srgbClr>
            </a:solidFill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Security/Authentication/ Authoriz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547640" y="4005360"/>
              <a:ext cx="2822760" cy="2232000"/>
            </a:xfrm>
            <a:prstGeom prst="rect">
              <a:avLst/>
            </a:prstGeom>
            <a:solidFill>
              <a:srgbClr val="92cdd2">
                <a:alpha val="50000"/>
              </a:srgbClr>
            </a:solidFill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Monitoring/Logging/Audit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763640" y="4221000"/>
              <a:ext cx="2448000" cy="487440"/>
            </a:xfrm>
            <a:prstGeom prst="rect">
              <a:avLst/>
            </a:prstGeom>
            <a:solidFill>
              <a:srgbClr val="4eafb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orgia"/>
                </a:rPr>
                <a:t>Workflow Execution Eng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751040" y="5237280"/>
              <a:ext cx="1757160" cy="336600"/>
            </a:xfrm>
            <a:prstGeom prst="rect">
              <a:avLst/>
            </a:prstGeom>
            <a:solidFill>
              <a:srgbClr val="4eafb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orgia"/>
                </a:rPr>
                <a:t>Error/Exception Handl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751040" y="4786200"/>
              <a:ext cx="1757160" cy="338400"/>
            </a:xfrm>
            <a:prstGeom prst="rect">
              <a:avLst/>
            </a:prstGeom>
            <a:solidFill>
              <a:srgbClr val="4eafb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orgia"/>
                </a:rPr>
                <a:t>Transaction Mana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5" name="" descr=""/>
            <p:cNvPicPr/>
            <p:nvPr/>
          </p:nvPicPr>
          <p:blipFill>
            <a:blip r:embed="rId1"/>
            <a:stretch/>
          </p:blipFill>
          <p:spPr>
            <a:xfrm>
              <a:off x="4952880" y="4662360"/>
              <a:ext cx="1001880" cy="84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1751040" y="5697360"/>
              <a:ext cx="2448000" cy="451080"/>
            </a:xfrm>
            <a:prstGeom prst="rect">
              <a:avLst/>
            </a:prstGeom>
            <a:solidFill>
              <a:srgbClr val="4eafb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orgia"/>
                </a:rPr>
                <a:t>Database Lay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32040" y="4786200"/>
              <a:ext cx="565200" cy="787680"/>
            </a:xfrm>
            <a:prstGeom prst="rect">
              <a:avLst/>
            </a:prstGeom>
            <a:solidFill>
              <a:srgbClr val="4eafb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orgia"/>
                </a:rPr>
                <a:t>Wor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orgia"/>
                </a:rPr>
                <a:t>Spa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4995720" y="4183200"/>
              <a:ext cx="879480" cy="506160"/>
              <a:chOff x="4995720" y="4183200"/>
              <a:chExt cx="879480" cy="506160"/>
            </a:xfrm>
          </p:grpSpPr>
          <p:sp>
            <p:nvSpPr>
              <p:cNvPr id="219" name=""/>
              <p:cNvSpPr/>
              <p:nvPr/>
            </p:nvSpPr>
            <p:spPr>
              <a:xfrm>
                <a:off x="4995720" y="4183200"/>
                <a:ext cx="879480" cy="506160"/>
              </a:xfrm>
              <a:custGeom>
                <a:avLst/>
                <a:gdLst>
                  <a:gd name="textAreaLeft" fmla="*/ 59400 w 879480"/>
                  <a:gd name="textAreaRight" fmla="*/ 820080 w 879480"/>
                  <a:gd name="textAreaTop" fmla="*/ 59400 h 506160"/>
                  <a:gd name="textAreaBottom" fmla="*/ 446760 h 506160"/>
                </a:gdLst>
                <a:ahLst/>
                <a:rect l="textAreaLeft" t="textAreaTop" r="textAreaRight" b="textAreaBottom"/>
                <a:pathLst>
                  <a:path w="37520" h="21600">
                    <a:moveTo>
                      <a:pt x="3600" y="0"/>
                    </a:moveTo>
                    <a:arcTo wR="3600" hR="3600" stAng="0" swAng="5400000"/>
                    <a:lnTo>
                      <a:pt x="0" y="18000"/>
                    </a:lnTo>
                    <a:arcTo wR="3600" hR="3600" stAng="16200000" swAng="5400000"/>
                    <a:lnTo>
                      <a:pt x="33920" y="21600"/>
                    </a:lnTo>
                    <a:arcTo wR="3600" hR="3600" stAng="10800000" swAng="5400000"/>
                    <a:lnTo>
                      <a:pt x="37520" y="3600"/>
                    </a:lnTo>
                    <a:arcTo wR="3600" hR="3600" stAng="5400000" swAng="5400000"/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100840" y="4239000"/>
                <a:ext cx="668880" cy="395640"/>
              </a:xfrm>
              <a:prstGeom prst="can">
                <a:avLst>
                  <a:gd name="adj" fmla="val 25000"/>
                </a:avLst>
              </a:prstGeom>
              <a:solidFill>
                <a:srgbClr val="4eafb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Georgia"/>
                  </a:rPr>
                  <a:t>Servic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Georgia"/>
                  </a:rPr>
                  <a:t>Regist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21" name="" descr=""/>
            <p:cNvPicPr/>
            <p:nvPr/>
          </p:nvPicPr>
          <p:blipFill>
            <a:blip r:embed="rId2"/>
            <a:stretch/>
          </p:blipFill>
          <p:spPr>
            <a:xfrm>
              <a:off x="4952880" y="3191040"/>
              <a:ext cx="1001880" cy="846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2" name=""/>
            <p:cNvGrpSpPr/>
            <p:nvPr/>
          </p:nvGrpSpPr>
          <p:grpSpPr>
            <a:xfrm>
              <a:off x="4933800" y="5605560"/>
              <a:ext cx="1004760" cy="672480"/>
              <a:chOff x="4933800" y="5605560"/>
              <a:chExt cx="1004760" cy="672480"/>
            </a:xfrm>
          </p:grpSpPr>
          <p:grpSp>
            <p:nvGrpSpPr>
              <p:cNvPr id="223" name=""/>
              <p:cNvGrpSpPr/>
              <p:nvPr/>
            </p:nvGrpSpPr>
            <p:grpSpPr>
              <a:xfrm>
                <a:off x="4933800" y="5605560"/>
                <a:ext cx="879120" cy="504720"/>
                <a:chOff x="4933800" y="5605560"/>
                <a:chExt cx="879120" cy="50472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4933800" y="5605560"/>
                  <a:ext cx="879120" cy="504720"/>
                </a:xfrm>
                <a:custGeom>
                  <a:avLst/>
                  <a:gdLst>
                    <a:gd name="textAreaLeft" fmla="*/ 59400 w 879120"/>
                    <a:gd name="textAreaRight" fmla="*/ 819720 w 879120"/>
                    <a:gd name="textAreaTop" fmla="*/ 59400 h 504720"/>
                    <a:gd name="textAreaBottom" fmla="*/ 445320 h 504720"/>
                  </a:gdLst>
                  <a:ahLst/>
                  <a:rect l="textAreaLeft" t="textAreaTop" r="textAreaRight" b="textAreaBottom"/>
                  <a:pathLst>
                    <a:path w="37611" h="21600">
                      <a:moveTo>
                        <a:pt x="3600" y="0"/>
                      </a:moveTo>
                      <a:arcTo wR="3600" hR="3600" stAng="0" swAng="5400000"/>
                      <a:lnTo>
                        <a:pt x="0" y="18000"/>
                      </a:lnTo>
                      <a:arcTo wR="3600" hR="3600" stAng="16200000" swAng="5400000"/>
                      <a:lnTo>
                        <a:pt x="34011" y="21600"/>
                      </a:lnTo>
                      <a:arcTo wR="3600" hR="3600" stAng="10800000" swAng="5400000"/>
                      <a:lnTo>
                        <a:pt x="37611" y="3600"/>
                      </a:lnTo>
                      <a:arcTo wR="3600" hR="3600" stAng="5400000" swAng="5400000"/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038920" y="5661360"/>
                  <a:ext cx="668520" cy="394560"/>
                </a:xfrm>
                <a:prstGeom prst="can">
                  <a:avLst>
                    <a:gd name="adj" fmla="val 25000"/>
                  </a:avLst>
                </a:prstGeom>
                <a:solidFill>
                  <a:srgbClr val="4eafb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Georgia"/>
                    </a:rPr>
                    <a:t>Registry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Georgia"/>
                    </a:rPr>
                    <a:t>Services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5059440" y="5773680"/>
                <a:ext cx="879120" cy="504360"/>
                <a:chOff x="5059440" y="5773680"/>
                <a:chExt cx="879120" cy="50436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059440" y="5773680"/>
                  <a:ext cx="879120" cy="504360"/>
                </a:xfrm>
                <a:custGeom>
                  <a:avLst/>
                  <a:gdLst>
                    <a:gd name="textAreaLeft" fmla="*/ 59400 w 879120"/>
                    <a:gd name="textAreaRight" fmla="*/ 819720 w 879120"/>
                    <a:gd name="textAreaTop" fmla="*/ 59400 h 504360"/>
                    <a:gd name="textAreaBottom" fmla="*/ 444960 h 504360"/>
                  </a:gdLst>
                  <a:ahLst/>
                  <a:rect l="textAreaLeft" t="textAreaTop" r="textAreaRight" b="textAreaBottom"/>
                  <a:pathLst>
                    <a:path w="37638" h="21600">
                      <a:moveTo>
                        <a:pt x="3600" y="0"/>
                      </a:moveTo>
                      <a:arcTo wR="3600" hR="3600" stAng="0" swAng="5400000"/>
                      <a:lnTo>
                        <a:pt x="0" y="18000"/>
                      </a:lnTo>
                      <a:arcTo wR="3600" hR="3600" stAng="16200000" swAng="5400000"/>
                      <a:lnTo>
                        <a:pt x="34038" y="21600"/>
                      </a:lnTo>
                      <a:arcTo wR="3600" hR="3600" stAng="10800000" swAng="5400000"/>
                      <a:lnTo>
                        <a:pt x="37638" y="3600"/>
                      </a:lnTo>
                      <a:arcTo wR="3600" hR="3600" stAng="5400000" swAng="5400000"/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5164560" y="5829120"/>
                  <a:ext cx="668520" cy="394200"/>
                </a:xfrm>
                <a:prstGeom prst="can">
                  <a:avLst>
                    <a:gd name="adj" fmla="val 25000"/>
                  </a:avLst>
                </a:prstGeom>
                <a:solidFill>
                  <a:srgbClr val="4eafb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Georgia"/>
                    </a:rPr>
                    <a:t>Registry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Georgia"/>
                    </a:rPr>
                    <a:t>Services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29" name=""/>
          <p:cNvGrpSpPr/>
          <p:nvPr/>
        </p:nvGrpSpPr>
        <p:grpSpPr>
          <a:xfrm>
            <a:off x="1251000" y="142920"/>
            <a:ext cx="2444760" cy="2781360"/>
            <a:chOff x="1251000" y="142920"/>
            <a:chExt cx="2444760" cy="2781360"/>
          </a:xfrm>
        </p:grpSpPr>
        <p:sp>
          <p:nvSpPr>
            <p:cNvPr id="230" name=""/>
            <p:cNvSpPr/>
            <p:nvPr/>
          </p:nvSpPr>
          <p:spPr>
            <a:xfrm>
              <a:off x="1251000" y="142920"/>
              <a:ext cx="1592280" cy="1630440"/>
            </a:xfrm>
            <a:custGeom>
              <a:avLst/>
              <a:gdLst>
                <a:gd name="textAreaLeft" fmla="*/ 30960 w 1592280"/>
                <a:gd name="textAreaRight" fmla="*/ 1561320 w 1592280"/>
                <a:gd name="textAreaTop" fmla="*/ 30960 h 1630440"/>
                <a:gd name="textAreaBottom" fmla="*/ 1599480 h 1630440"/>
              </a:gdLst>
              <a:ahLst/>
              <a:rect l="textAreaLeft" t="textAreaTop" r="textAreaRight" b="textAreaBottom"/>
              <a:pathLst>
                <a:path w="21600" h="22118">
                  <a:moveTo>
                    <a:pt x="1449" y="0"/>
                  </a:moveTo>
                  <a:arcTo wR="1449" hR="1449" stAng="16200000" swAng="-5400000"/>
                  <a:lnTo>
                    <a:pt x="0" y="20669"/>
                  </a:lnTo>
                  <a:arcTo wR="1449" hR="1449" stAng="10800000" swAng="-5400000"/>
                  <a:lnTo>
                    <a:pt x="20151" y="22118"/>
                  </a:lnTo>
                  <a:arcTo wR="1449" hR="1449" stAng="5400000" swAng="-5400000"/>
                  <a:lnTo>
                    <a:pt x="21600" y="1449"/>
                  </a:lnTo>
                  <a:arcTo wR="1449" hR="1449" stAng="0" swAng="-5400000"/>
                  <a:close/>
                </a:path>
              </a:pathLst>
            </a:custGeom>
            <a:solidFill>
              <a:srgbClr val="5eaec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IF Applic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440000" y="649440"/>
              <a:ext cx="517320" cy="842760"/>
            </a:xfrm>
            <a:prstGeom prst="rect">
              <a:avLst/>
            </a:prstGeom>
            <a:solidFill>
              <a:srgbClr val="4eafb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sign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035080" y="649440"/>
              <a:ext cx="519120" cy="842760"/>
            </a:xfrm>
            <a:prstGeom prst="rect">
              <a:avLst/>
            </a:prstGeom>
            <a:solidFill>
              <a:srgbClr val="4eafb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dministration T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916360" y="874800"/>
              <a:ext cx="779400" cy="393480"/>
            </a:xfrm>
            <a:prstGeom prst="leftRightArrow">
              <a:avLst>
                <a:gd name="adj1" fmla="val 50000"/>
                <a:gd name="adj2" fmla="val 3943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332000" y="476280"/>
              <a:ext cx="1368360" cy="2448000"/>
            </a:xfrm>
            <a:prstGeom prst="downArrowCallout">
              <a:avLst>
                <a:gd name="adj1" fmla="val 24789"/>
                <a:gd name="adj2" fmla="val 21431"/>
                <a:gd name="adj3" fmla="val 19447"/>
                <a:gd name="adj4" fmla="val 48764"/>
              </a:avLst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2700360" y="1916280"/>
            <a:ext cx="5545080" cy="4679640"/>
            <a:chOff x="2700360" y="1916280"/>
            <a:chExt cx="5545080" cy="4679640"/>
          </a:xfrm>
        </p:grpSpPr>
        <p:sp>
          <p:nvSpPr>
            <p:cNvPr id="236" name=""/>
            <p:cNvSpPr/>
            <p:nvPr/>
          </p:nvSpPr>
          <p:spPr>
            <a:xfrm rot="5400000">
              <a:off x="2889360" y="2879640"/>
              <a:ext cx="863280" cy="378000"/>
            </a:xfrm>
            <a:custGeom>
              <a:avLst/>
              <a:gdLst>
                <a:gd name="textAreaLeft" fmla="*/ 0 w 863280"/>
                <a:gd name="textAreaRight" fmla="*/ 863640 w 863280"/>
                <a:gd name="textAreaTop" fmla="*/ 0 h 378000"/>
                <a:gd name="textAreaBottom" fmla="*/ 378360 h 37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66" y="0"/>
                  </a:lnTo>
                  <a:lnTo>
                    <a:pt x="21600" y="10800"/>
                  </a:lnTo>
                  <a:lnTo>
                    <a:pt x="1906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tegr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94320" y="1932120"/>
              <a:ext cx="1851120" cy="4663800"/>
            </a:xfrm>
            <a:prstGeom prst="flowChartAlternateProcess">
              <a:avLst/>
            </a:pr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700360" y="1916280"/>
              <a:ext cx="4197240" cy="792000"/>
            </a:xfrm>
            <a:prstGeom prst="flowChartAlternateProcess">
              <a:avLst/>
            </a:pr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364000" y="2133720"/>
              <a:ext cx="2808360" cy="431640"/>
            </a:xfrm>
            <a:prstGeom prst="flowChartAlternateProcess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orgia"/>
                </a:rPr>
                <a:t>System Monitoring 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516720" y="3645000"/>
              <a:ext cx="1631880" cy="2808360"/>
            </a:xfrm>
            <a:prstGeom prst="flowChartAlternateProcess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eorgia"/>
                </a:rPr>
                <a:t>Persiste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843280" y="2133720"/>
              <a:ext cx="1112760" cy="449280"/>
            </a:xfrm>
            <a:prstGeom prst="flowChartAlternateProcess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orgia"/>
                </a:rPr>
                <a:t>Schedu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40360" y="2133720"/>
              <a:ext cx="1054080" cy="449280"/>
            </a:xfrm>
            <a:prstGeom prst="flowChartAlternateProcess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orgia"/>
                </a:rPr>
                <a:t>Approv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659640" y="4221000"/>
              <a:ext cx="1377720" cy="449280"/>
            </a:xfrm>
            <a:prstGeom prst="flowChartAlternateProcess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orgia"/>
                </a:rPr>
                <a:t>TB Service Regis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orgia"/>
                </a:rPr>
                <a:t>Cli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659640" y="5734080"/>
              <a:ext cx="1377720" cy="450720"/>
            </a:xfrm>
            <a:prstGeom prst="flowChartAlternateProcess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orgia"/>
                </a:rPr>
                <a:t>TB Data Regis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orgia"/>
                </a:rPr>
                <a:t>Cli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534720" y="2757600"/>
              <a:ext cx="1306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Georgia"/>
                </a:rPr>
                <a:t>Testbed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Georgia"/>
                </a:rPr>
                <a:t>Backend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Georgia"/>
                </a:rPr>
                <a:t>Compon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5400000">
              <a:off x="3932640" y="2915280"/>
              <a:ext cx="792000" cy="377640"/>
            </a:xfrm>
            <a:custGeom>
              <a:avLst/>
              <a:gdLst>
                <a:gd name="textAreaLeft" fmla="*/ 0 w 792000"/>
                <a:gd name="textAreaRight" fmla="*/ 792360 w 79200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66" y="0"/>
                  </a:lnTo>
                  <a:lnTo>
                    <a:pt x="21600" y="10800"/>
                  </a:lnTo>
                  <a:lnTo>
                    <a:pt x="1906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5400000">
              <a:off x="3391200" y="2880360"/>
              <a:ext cx="863280" cy="376200"/>
            </a:xfrm>
            <a:custGeom>
              <a:avLst/>
              <a:gdLst>
                <a:gd name="textAreaLeft" fmla="*/ 0 w 863280"/>
                <a:gd name="textAreaRight" fmla="*/ 863640 w 86328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66" y="0"/>
                  </a:lnTo>
                  <a:lnTo>
                    <a:pt x="21600" y="10800"/>
                  </a:lnTo>
                  <a:lnTo>
                    <a:pt x="1906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figu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3780000" y="115920"/>
            <a:ext cx="4435200" cy="1935000"/>
            <a:chOff x="3780000" y="115920"/>
            <a:chExt cx="4435200" cy="1935000"/>
          </a:xfrm>
        </p:grpSpPr>
        <p:grpSp>
          <p:nvGrpSpPr>
            <p:cNvPr id="249" name=""/>
            <p:cNvGrpSpPr/>
            <p:nvPr/>
          </p:nvGrpSpPr>
          <p:grpSpPr>
            <a:xfrm>
              <a:off x="3780000" y="115920"/>
              <a:ext cx="4435200" cy="1657440"/>
              <a:chOff x="3780000" y="115920"/>
              <a:chExt cx="4435200" cy="1657440"/>
            </a:xfrm>
          </p:grpSpPr>
          <p:sp>
            <p:nvSpPr>
              <p:cNvPr id="250" name=""/>
              <p:cNvSpPr/>
              <p:nvPr/>
            </p:nvSpPr>
            <p:spPr>
              <a:xfrm>
                <a:off x="3780000" y="115920"/>
                <a:ext cx="4435200" cy="1657440"/>
              </a:xfrm>
              <a:prstGeom prst="roundRect">
                <a:avLst>
                  <a:gd name="adj" fmla="val 6708"/>
                </a:avLst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Testbed Applica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643280" y="476280"/>
                <a:ext cx="2102040" cy="1152360"/>
              </a:xfrm>
              <a:prstGeom prst="flowChartAlternateProcess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Georgia"/>
                  </a:rPr>
                  <a:t>Experimen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716360" y="736560"/>
                <a:ext cx="436680" cy="8082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esign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214960" y="736560"/>
                <a:ext cx="434880" cy="8082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713560" y="736560"/>
                <a:ext cx="434880" cy="8082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</a:rPr>
                  <a:t>Im/Expor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816600" y="476280"/>
                <a:ext cx="590760" cy="1152360"/>
              </a:xfrm>
              <a:prstGeom prst="flowChartAlternateProcess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Georgia"/>
                  </a:rPr>
                  <a:t>Dat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908760" y="736560"/>
                <a:ext cx="436680" cy="8208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nag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458120" y="476280"/>
                <a:ext cx="644400" cy="1152360"/>
              </a:xfrm>
              <a:prstGeom prst="flowChartAlternateProcess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Georgia"/>
                  </a:rPr>
                  <a:t>Servic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531200" y="733320"/>
                <a:ext cx="498240" cy="8240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ervice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nag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924360" y="476280"/>
                <a:ext cx="647640" cy="1120680"/>
              </a:xfrm>
              <a:prstGeom prst="flowChartAlternateProcess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Georgia"/>
                  </a:rPr>
                  <a:t>Gener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995640" y="765000"/>
                <a:ext cx="462240" cy="79236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dministra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210360" y="736560"/>
                <a:ext cx="436680" cy="8082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rows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3851280" y="404640"/>
              <a:ext cx="4300560" cy="1646280"/>
            </a:xfrm>
            <a:prstGeom prst="downArrowCallout">
              <a:avLst>
                <a:gd name="adj1" fmla="val 17852"/>
                <a:gd name="adj2" fmla="val 16290"/>
                <a:gd name="adj3" fmla="val 12296"/>
                <a:gd name="adj4" fmla="val 78912"/>
              </a:avLst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80560" y="324000"/>
            <a:ext cx="6031080" cy="6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eriment Designer component |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50920" y="1538280"/>
            <a:ext cx="7561440" cy="4275000"/>
          </a:xfrm>
          <a:prstGeom prst="roundRect">
            <a:avLst>
              <a:gd name="adj" fmla="val 6708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Testbed 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624040" y="2467080"/>
            <a:ext cx="3583080" cy="2973240"/>
          </a:xfrm>
          <a:prstGeom prst="flowChartAlternateProcess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orgia"/>
              </a:rPr>
              <a:t>Experi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747880" y="3139920"/>
            <a:ext cx="743040" cy="20829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597120" y="3139920"/>
            <a:ext cx="743040" cy="20829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46720" y="3139920"/>
            <a:ext cx="741240" cy="20829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/Expo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327720" y="2467080"/>
            <a:ext cx="1008000" cy="2973240"/>
          </a:xfrm>
          <a:prstGeom prst="flowChartAlternateProcess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orgia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485040" y="3139920"/>
            <a:ext cx="744480" cy="2116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421400" y="2467080"/>
            <a:ext cx="1098720" cy="2973240"/>
          </a:xfrm>
          <a:prstGeom prst="flowChartAlternateProcess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orgia"/>
              </a:rPr>
              <a:t>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545240" y="3132000"/>
            <a:ext cx="851040" cy="2124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ic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397160" y="2467080"/>
            <a:ext cx="1104840" cy="2892240"/>
          </a:xfrm>
          <a:prstGeom prst="flowChartAlternateProcess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orgia"/>
              </a:rPr>
              <a:t>Gene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519200" y="3213000"/>
            <a:ext cx="787320" cy="2043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294160" y="3139920"/>
            <a:ext cx="743040" cy="20829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5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0" dur="500" fill="hold"/>
                                        <p:tgtEl>
                                          <p:spTgt spid="2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80560" y="324000"/>
            <a:ext cx="6031080" cy="6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80560" y="1224000"/>
            <a:ext cx="780588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o we need Testbeds in Digital Preserv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ill the PLANETS Testbed delive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e of Testbed within PLA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ETS Testbed services for Digital Preservation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bed Methodology, Experiment 6-step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bed Software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bed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Interface Mock-Up Demon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80560" y="324000"/>
            <a:ext cx="6031080" cy="6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 Designer component |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80560" y="1224000"/>
            <a:ext cx="780588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es the user trough design of an exper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Interface for steps 1–3 of the experimen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basic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experi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whether experiment is formal or inf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type of exper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rvation plan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predefined work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80560" y="324000"/>
            <a:ext cx="6031080" cy="6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 Designer component |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80560" y="1224000"/>
            <a:ext cx="780588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ion with several other Testbed components, most notably the service manager and data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ion with Service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wse PLANETS Service Reg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ion and configuration of (wrapped) tools for Preservation Action (PA) and/or Preservation Characterisation (P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“: PA/PC tool exhibiting well-defined functionality through a PLANETS IF compliant web service wrap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ion with Data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face for handling data input and output via API for accessing the IF Data Reg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80560" y="324000"/>
            <a:ext cx="6031080" cy="6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eriment Designer component |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80560" y="1224000"/>
            <a:ext cx="780588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cification of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number of output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cification of Outcomes of an exper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ll appear at the evaluation stage of experi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riment stored as BPEL file and handed over to Approval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ditional feat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ing existing experi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iewing of experiments in “passive” mode (read-on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enting on experi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-use and Repeating experi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-use certain aspects of existing experiments,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eat entire experiments with origina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80560" y="324000"/>
            <a:ext cx="6031080" cy="6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 Designer component |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80560" y="1224000"/>
            <a:ext cx="780588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dering of BPEL workflow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experiments are executed as BPEL work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” migration and characterisation experim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PEL files are created within Testbed based on templ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 to three orchestrated services (e.g. characterisation followed by migration followed by characteris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 workflows are created by using the IF Workflow Designer (or any other BPEL tool) and imported into the Testb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nent does not process the actual execution of an experim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d within the PLANETS Interoperability Framework by the Workflow Execution En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80920" y="324000"/>
            <a:ext cx="6212160" cy="6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eriment Approval &amp; Scheduling |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772080" y="3448080"/>
            <a:ext cx="4309920" cy="2817720"/>
          </a:xfrm>
          <a:prstGeom prst="flowChartAlternateProcess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241280" y="3430440"/>
            <a:ext cx="5178600" cy="930600"/>
          </a:xfrm>
          <a:prstGeom prst="flowChartAlternateProcess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527720" y="3686040"/>
            <a:ext cx="3463920" cy="50652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ystem Monitoring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937120" y="4308480"/>
            <a:ext cx="2013120" cy="1851120"/>
          </a:xfrm>
          <a:prstGeom prst="flowChartAlternateProcess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Persist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417680" y="3686040"/>
            <a:ext cx="1373040" cy="52704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chedu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017880" y="3686040"/>
            <a:ext cx="1299960" cy="52704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Appro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49800" y="4784760"/>
            <a:ext cx="1698840" cy="52704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TB Service Reg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49800" y="5418000"/>
            <a:ext cx="1698840" cy="53028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TB Data Reg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900960" y="4361040"/>
            <a:ext cx="1306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Georgia"/>
              </a:rPr>
              <a:t>Testb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Georgia"/>
              </a:rPr>
              <a:t>Backe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Georgia"/>
              </a:rPr>
              <a:t>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573280" y="1314360"/>
            <a:ext cx="5472000" cy="1947960"/>
          </a:xfrm>
          <a:prstGeom prst="roundRect">
            <a:avLst>
              <a:gd name="adj" fmla="val 6708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Testbed 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638520" y="1738440"/>
            <a:ext cx="2592360" cy="1353960"/>
          </a:xfrm>
          <a:prstGeom prst="flowChartAlternateProcess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orgia"/>
              </a:rPr>
              <a:t>Experi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728880" y="2044800"/>
            <a:ext cx="538200" cy="9493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343400" y="2044800"/>
            <a:ext cx="536400" cy="9493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957920" y="2044800"/>
            <a:ext cx="536400" cy="9493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/Expo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319800" y="1738440"/>
            <a:ext cx="728640" cy="1353960"/>
          </a:xfrm>
          <a:prstGeom prst="flowChartAlternateProcess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orgia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432480" y="2044800"/>
            <a:ext cx="540000" cy="963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110360" y="1738440"/>
            <a:ext cx="795240" cy="1353960"/>
          </a:xfrm>
          <a:prstGeom prst="flowChartAlternateProcess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orgia"/>
              </a:rPr>
              <a:t>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201080" y="2039760"/>
            <a:ext cx="614160" cy="9684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ic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751120" y="1738440"/>
            <a:ext cx="798480" cy="1315800"/>
          </a:xfrm>
          <a:prstGeom prst="flowChartAlternateProcess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orgia"/>
              </a:rPr>
              <a:t>Gene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840040" y="2077920"/>
            <a:ext cx="569880" cy="9302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572080" y="2044800"/>
            <a:ext cx="538200" cy="9493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660760" y="1654200"/>
            <a:ext cx="5305320" cy="1935000"/>
          </a:xfrm>
          <a:prstGeom prst="downArrowCallout">
            <a:avLst>
              <a:gd name="adj1" fmla="val 18737"/>
              <a:gd name="adj2" fmla="val 17098"/>
              <a:gd name="adj3" fmla="val 12296"/>
              <a:gd name="adj4" fmla="val 78912"/>
            </a:avLst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6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7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7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7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8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8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6" dur="500" fill="hold"/>
                                        <p:tgtEl>
                                          <p:spTgt spid="3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87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8" dur="500" fill="hold"/>
                                        <p:tgtEl>
                                          <p:spTgt spid="2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89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0" dur="500" fill="hold"/>
                                        <p:tgtEl>
                                          <p:spTgt spid="2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91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2" dur="500" fill="hold"/>
                                        <p:tgtEl>
                                          <p:spTgt spid="2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80560" y="324000"/>
            <a:ext cx="6301080" cy="6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 Approval &amp; Scheduling |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80560" y="1224000"/>
            <a:ext cx="780588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ro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ponent handles technical approval of experiments by the system and/or the administ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s use of information provided by the experimenter and by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 monitor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onent – e.g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input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d number of output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CPU / Memory u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ads /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ailable Disk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edul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ponent allows administrator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a date/time for an experiment to 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 a maximum ru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progress of experi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experi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80560" y="324000"/>
            <a:ext cx="6031080" cy="6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eriment Evaluation |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150920" y="1538280"/>
            <a:ext cx="7561440" cy="4275000"/>
          </a:xfrm>
          <a:prstGeom prst="roundRect">
            <a:avLst>
              <a:gd name="adj" fmla="val 6708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Testbed 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624040" y="2467080"/>
            <a:ext cx="3583080" cy="2973240"/>
          </a:xfrm>
          <a:prstGeom prst="flowChartAlternateProcess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orgia"/>
              </a:rPr>
              <a:t>Experi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747880" y="3139920"/>
            <a:ext cx="743040" cy="20829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597120" y="3139920"/>
            <a:ext cx="743040" cy="20829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446720" y="3139920"/>
            <a:ext cx="741240" cy="20829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/Expo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327720" y="2467080"/>
            <a:ext cx="1008000" cy="2973240"/>
          </a:xfrm>
          <a:prstGeom prst="flowChartAlternateProcess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orgia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485040" y="3139920"/>
            <a:ext cx="744480" cy="2116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421400" y="2467080"/>
            <a:ext cx="1098720" cy="2973240"/>
          </a:xfrm>
          <a:prstGeom prst="flowChartAlternateProcess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orgia"/>
              </a:rPr>
              <a:t>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545240" y="3132000"/>
            <a:ext cx="851040" cy="2124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ic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397160" y="2467080"/>
            <a:ext cx="1104840" cy="2892240"/>
          </a:xfrm>
          <a:prstGeom prst="flowChartAlternateProcess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orgia"/>
              </a:rPr>
              <a:t>Gene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519200" y="3213000"/>
            <a:ext cx="787320" cy="2043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294160" y="3139920"/>
            <a:ext cx="743040" cy="20829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9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0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3" dur="500" fill="hold"/>
                                        <p:tgtEl>
                                          <p:spTgt spid="3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80560" y="324000"/>
            <a:ext cx="6031080" cy="6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 Evaluation |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80560" y="1224000"/>
            <a:ext cx="780588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w files and results that have been produced during the exper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ure experiment conclusions in a structured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results based on the criteria defined during experiment desig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80560" y="324000"/>
            <a:ext cx="6031080" cy="6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eriment Importer / Exporter |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150920" y="1538280"/>
            <a:ext cx="7561440" cy="4275000"/>
          </a:xfrm>
          <a:prstGeom prst="roundRect">
            <a:avLst>
              <a:gd name="adj" fmla="val 6708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Testbed 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624040" y="2467080"/>
            <a:ext cx="3583080" cy="2973240"/>
          </a:xfrm>
          <a:prstGeom prst="flowChartAlternateProcess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orgia"/>
              </a:rPr>
              <a:t>Experi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747880" y="3139920"/>
            <a:ext cx="743040" cy="20829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597120" y="3139920"/>
            <a:ext cx="743040" cy="20829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446720" y="3139920"/>
            <a:ext cx="741240" cy="20829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/Expo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327720" y="2467080"/>
            <a:ext cx="1008000" cy="2973240"/>
          </a:xfrm>
          <a:prstGeom prst="flowChartAlternateProcess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orgia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485040" y="3139920"/>
            <a:ext cx="744480" cy="2116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421400" y="2467080"/>
            <a:ext cx="1098720" cy="2973240"/>
          </a:xfrm>
          <a:prstGeom prst="flowChartAlternateProcess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orgia"/>
              </a:rPr>
              <a:t>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545240" y="3132000"/>
            <a:ext cx="851040" cy="2124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ic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397160" y="2467080"/>
            <a:ext cx="1104840" cy="2892240"/>
          </a:xfrm>
          <a:prstGeom prst="flowChartAlternateProcess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orgia"/>
              </a:rPr>
              <a:t>Gene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519200" y="3213000"/>
            <a:ext cx="787320" cy="2043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294160" y="3139920"/>
            <a:ext cx="743040" cy="20829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0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1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4" dur="500" fill="hold"/>
                                        <p:tgtEl>
                                          <p:spTgt spid="3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80560" y="324000"/>
            <a:ext cx="6031080" cy="6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 Importer / Exporter |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80560" y="1224000"/>
            <a:ext cx="780588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BPEL files from existing experiments and make them available for down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load BPEL files to the Test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 whole experi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 predefined workflows as part of the experiments desig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validity of the BPEL file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data contained within BPE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periment resul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on experiments in PDF format created on-the-f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properties, tools used, data used, information about approval process, information about execution of experiment, experiments results, validation of experi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354480" y="6219720"/>
            <a:ext cx="127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ocal de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065920" y="6219720"/>
            <a:ext cx="140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 </a:t>
            </a:r>
            <a:r>
              <a:rPr b="0" lang="de-AT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de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80560" y="324000"/>
            <a:ext cx="6031080" cy="6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 we need Testbed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Digital Preserv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80560" y="1224000"/>
            <a:ext cx="780588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rn about digital preservation rapidly increased in recent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approaches to digital preservation implemented by various programs and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umber of digital preservation tools and services (e.g. for migration and characterization)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for systematization, benchmarking and evaluation urgent in many field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atic analysis of current and potential preservation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on and benchmarking of characterisation and migration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ss the role of emulation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3f1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79280" y="1719360"/>
            <a:ext cx="1171800" cy="85572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owse Experi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690560" y="1719360"/>
            <a:ext cx="1171800" cy="85572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owse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220920" y="1719360"/>
            <a:ext cx="1171800" cy="85572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y Experi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707000" y="1719360"/>
            <a:ext cx="1171440" cy="85572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Experi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281640" y="1719360"/>
            <a:ext cx="1171800" cy="85572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owse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765920" y="1719360"/>
            <a:ext cx="1171800" cy="85572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ort Experi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176640" y="324000"/>
            <a:ext cx="1171440" cy="8553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n / Log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707000" y="324000"/>
            <a:ext cx="1171440" cy="8553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mep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82520" y="3024360"/>
            <a:ext cx="1171440" cy="8553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ew Experiment Det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81080" y="4329000"/>
            <a:ext cx="1171440" cy="85572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notate Experi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601640" y="4329000"/>
            <a:ext cx="1171800" cy="85572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ort Experiment Set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702320" y="3044880"/>
            <a:ext cx="1171440" cy="85572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eriment Desig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76640" y="4329000"/>
            <a:ext cx="1171440" cy="85572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load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689360" y="4316400"/>
            <a:ext cx="1171800" cy="85572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 Experi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686480" y="5591160"/>
            <a:ext cx="1171440" cy="85572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aluate Experiment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327720" y="5589720"/>
            <a:ext cx="1171800" cy="8553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t Conclu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281640" y="3068640"/>
            <a:ext cx="1171800" cy="85572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ew Meta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9" name=""/>
          <p:cNvCxnSpPr>
            <a:stCxn id="348" idx="3"/>
            <a:endCxn id="349" idx="1"/>
          </p:cNvCxnSpPr>
          <p:nvPr/>
        </p:nvCxnSpPr>
        <p:spPr>
          <a:xfrm>
            <a:off x="4361040" y="752040"/>
            <a:ext cx="3340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360" name=""/>
          <p:cNvCxnSpPr>
            <a:stCxn id="342" idx="2"/>
            <a:endCxn id="350" idx="0"/>
          </p:cNvCxnSpPr>
          <p:nvPr/>
        </p:nvCxnSpPr>
        <p:spPr>
          <a:xfrm>
            <a:off x="764640" y="2587320"/>
            <a:ext cx="3960" cy="4244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361" name=""/>
          <p:cNvCxnSpPr>
            <a:stCxn id="350" idx="2"/>
            <a:endCxn id="351" idx="0"/>
          </p:cNvCxnSpPr>
          <p:nvPr/>
        </p:nvCxnSpPr>
        <p:spPr>
          <a:xfrm flipH="1">
            <a:off x="766440" y="3892320"/>
            <a:ext cx="2160" cy="4244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362" name=""/>
          <p:cNvCxnSpPr>
            <a:stCxn id="349" idx="2"/>
            <a:endCxn id="345" idx="0"/>
          </p:cNvCxnSpPr>
          <p:nvPr/>
        </p:nvCxnSpPr>
        <p:spPr>
          <a:xfrm>
            <a:off x="5292360" y="1192320"/>
            <a:ext cx="1080" cy="5144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363" name=""/>
          <p:cNvCxnSpPr>
            <a:stCxn id="349" idx="2"/>
            <a:endCxn id="342" idx="0"/>
          </p:cNvCxnSpPr>
          <p:nvPr/>
        </p:nvCxnSpPr>
        <p:spPr>
          <a:xfrm rot="5400000">
            <a:off x="2771280" y="-814680"/>
            <a:ext cx="514440" cy="4528440"/>
          </a:xfrm>
          <a:prstGeom prst="bentConnector3">
            <a:avLst>
              <a:gd name="adj1" fmla="val 49719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364" name=""/>
          <p:cNvCxnSpPr>
            <a:stCxn id="349" idx="2"/>
            <a:endCxn id="343" idx="0"/>
          </p:cNvCxnSpPr>
          <p:nvPr/>
        </p:nvCxnSpPr>
        <p:spPr>
          <a:xfrm rot="5400000">
            <a:off x="3527280" y="-58680"/>
            <a:ext cx="514440" cy="3016800"/>
          </a:xfrm>
          <a:prstGeom prst="bentConnector3">
            <a:avLst>
              <a:gd name="adj1" fmla="val 49719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365" name=""/>
          <p:cNvCxnSpPr>
            <a:stCxn id="349" idx="2"/>
            <a:endCxn id="344" idx="0"/>
          </p:cNvCxnSpPr>
          <p:nvPr/>
        </p:nvCxnSpPr>
        <p:spPr>
          <a:xfrm rot="5400000">
            <a:off x="4292280" y="706320"/>
            <a:ext cx="514440" cy="1486440"/>
          </a:xfrm>
          <a:prstGeom prst="bentConnector3">
            <a:avLst>
              <a:gd name="adj1" fmla="val 49719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366" name=""/>
          <p:cNvCxnSpPr>
            <a:stCxn id="349" idx="2"/>
            <a:endCxn id="346" idx="0"/>
          </p:cNvCxnSpPr>
          <p:nvPr/>
        </p:nvCxnSpPr>
        <p:spPr>
          <a:xfrm flipH="1" rot="16200000">
            <a:off x="5823000" y="661680"/>
            <a:ext cx="514440" cy="1575360"/>
          </a:xfrm>
          <a:prstGeom prst="bentConnector3">
            <a:avLst>
              <a:gd name="adj1" fmla="val 49719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367" name=""/>
          <p:cNvCxnSpPr>
            <a:stCxn id="349" idx="2"/>
            <a:endCxn id="347" idx="0"/>
          </p:cNvCxnSpPr>
          <p:nvPr/>
        </p:nvCxnSpPr>
        <p:spPr>
          <a:xfrm flipH="1" rot="16200000">
            <a:off x="6565320" y="-80640"/>
            <a:ext cx="514440" cy="3060000"/>
          </a:xfrm>
          <a:prstGeom prst="bentConnector3">
            <a:avLst>
              <a:gd name="adj1" fmla="val 49719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368" name=""/>
          <p:cNvCxnSpPr>
            <a:stCxn id="344" idx="2"/>
            <a:endCxn id="353" idx="0"/>
          </p:cNvCxnSpPr>
          <p:nvPr/>
        </p:nvCxnSpPr>
        <p:spPr>
          <a:xfrm flipH="1" rot="16200000">
            <a:off x="4325040" y="2068920"/>
            <a:ext cx="445320" cy="1481760"/>
          </a:xfrm>
          <a:prstGeom prst="bentConnector3">
            <a:avLst>
              <a:gd name="adj1" fmla="val 49595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369" name=""/>
          <p:cNvCxnSpPr>
            <a:stCxn id="345" idx="2"/>
            <a:endCxn id="353" idx="0"/>
          </p:cNvCxnSpPr>
          <p:nvPr/>
        </p:nvCxnSpPr>
        <p:spPr>
          <a:xfrm flipH="1">
            <a:off x="5287320" y="2587320"/>
            <a:ext cx="5400" cy="4453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370" name=""/>
          <p:cNvCxnSpPr>
            <a:stCxn id="346" idx="2"/>
            <a:endCxn id="358" idx="0"/>
          </p:cNvCxnSpPr>
          <p:nvPr/>
        </p:nvCxnSpPr>
        <p:spPr>
          <a:xfrm>
            <a:off x="6867000" y="2587320"/>
            <a:ext cx="1080" cy="469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371" name=""/>
          <p:cNvCxnSpPr>
            <a:stCxn id="353" idx="2"/>
            <a:endCxn id="355" idx="0"/>
          </p:cNvCxnSpPr>
          <p:nvPr/>
        </p:nvCxnSpPr>
        <p:spPr>
          <a:xfrm flipH="1">
            <a:off x="5274720" y="3912840"/>
            <a:ext cx="13320" cy="3913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372" name=""/>
          <p:cNvCxnSpPr>
            <a:stCxn id="355" idx="2"/>
            <a:endCxn id="356" idx="0"/>
          </p:cNvCxnSpPr>
          <p:nvPr/>
        </p:nvCxnSpPr>
        <p:spPr>
          <a:xfrm flipH="1">
            <a:off x="5271480" y="5184720"/>
            <a:ext cx="3960" cy="3945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373" name=""/>
          <p:cNvCxnSpPr>
            <a:stCxn id="356" idx="3"/>
            <a:endCxn id="357" idx="1"/>
          </p:cNvCxnSpPr>
          <p:nvPr/>
        </p:nvCxnSpPr>
        <p:spPr>
          <a:xfrm flipV="1">
            <a:off x="5870160" y="6017400"/>
            <a:ext cx="44532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374" name=""/>
          <p:cNvCxnSpPr>
            <a:stCxn id="353" idx="1"/>
            <a:endCxn id="354" idx="0"/>
          </p:cNvCxnSpPr>
          <p:nvPr/>
        </p:nvCxnSpPr>
        <p:spPr>
          <a:xfrm flipV="1" rot="10800000">
            <a:off x="3761640" y="3472920"/>
            <a:ext cx="927720" cy="843840"/>
          </a:xfrm>
          <a:prstGeom prst="bentConnector2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375" name=""/>
          <p:cNvCxnSpPr>
            <a:stCxn id="350" idx="3"/>
            <a:endCxn id="352" idx="0"/>
          </p:cNvCxnSpPr>
          <p:nvPr/>
        </p:nvCxnSpPr>
        <p:spPr>
          <a:xfrm>
            <a:off x="1366920" y="3452400"/>
            <a:ext cx="821520" cy="864360"/>
          </a:xfrm>
          <a:prstGeom prst="bentConnector2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376" name=""/>
          <p:cNvSpPr/>
          <p:nvPr/>
        </p:nvSpPr>
        <p:spPr>
          <a:xfrm>
            <a:off x="162000" y="189000"/>
            <a:ext cx="60307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periment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06280" y="1089000"/>
            <a:ext cx="2521080" cy="0"/>
          </a:xfrm>
          <a:prstGeom prst="line">
            <a:avLst/>
          </a:prstGeom>
          <a:ln w="47520">
            <a:solidFill>
              <a:srgbClr val="409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80560" y="324000"/>
            <a:ext cx="6031080" cy="6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s / Next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80560" y="1224000"/>
            <a:ext cx="780588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ETS Testbed: controlled environment for experimentation that allows benchmarking of preservation tools, services and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release to be expected in February / March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be used to experiment with the preservation tools and services developed in PLAN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2nd Phase (by end 2008) Testbed will offer services to organisations outside PLANE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institutions to test preservation tools and services against benchmark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st institutions to validate their preservation plans against their policies &amp; content pro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Testbed Instance hosted by University of Glasgow (HAT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dicated hardware with sufficient processing power and storage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80920" y="1628640"/>
            <a:ext cx="75312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he PLANETS Testb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880920" y="3384360"/>
            <a:ext cx="7772400" cy="31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x Kaiser, Austrian National Library</a:t>
            </a:r>
            <a:br>
              <a:rPr sz="2400"/>
            </a:br>
            <a:r>
              <a:rPr b="0" lang="de-DE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ax.kaiser@onb.ac.a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de-DE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onb.ac.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4"/>
          <a:stretch/>
        </p:blipFill>
        <p:spPr>
          <a:xfrm>
            <a:off x="1106640" y="1330200"/>
            <a:ext cx="2700360" cy="10908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1601640" y="3699000"/>
            <a:ext cx="3195720" cy="936360"/>
          </a:xfrm>
          <a:prstGeom prst="wedgeRoundRectCallout">
            <a:avLst>
              <a:gd name="adj1" fmla="val -56356"/>
              <a:gd name="adj2" fmla="val 147120"/>
              <a:gd name="adj3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202360" y="2573280"/>
            <a:ext cx="3941640" cy="1384200"/>
          </a:xfrm>
          <a:prstGeom prst="cloudCallout">
            <a:avLst>
              <a:gd name="adj1" fmla="val -58217"/>
              <a:gd name="adj2" fmla="val 104013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" descr="wePreserv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292720" y="233280"/>
            <a:ext cx="33336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80560" y="324000"/>
            <a:ext cx="6031080" cy="6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 we need Testbed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Digital Preserv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80560" y="1224000"/>
            <a:ext cx="826308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e want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 scientific research in digital preser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e preservation approaches in diverse “real life” set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 duplication of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ise use of invested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dicated research environ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allows the systematic execution of experiments by different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experiments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 a formalized method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reproduc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fully documented and accessible for further analysis and compar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80560" y="324000"/>
            <a:ext cx="6031080" cy="6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estbed for Digital Preser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80560" y="1224000"/>
            <a:ext cx="780588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ntrolled environment for experimentation and evaluation, with metrics and benchmark content that allow comparison of preservation tools and strategi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80560" y="324000"/>
            <a:ext cx="6031080" cy="6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TS Test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80920" y="1224000"/>
            <a:ext cx="80121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form for objective evaluation of preservation tools and strateg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 digital preservation experi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 the experiment, select data and tools, specify resources and evaluation criteria, run the experiment, evaluate results against criteria, compare 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support for validation of preservation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chmark tools and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consist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ware, data storage, PLANETS software, Testbed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chmark and other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provide services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LANETS project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eservation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 developers and vend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80560" y="324000"/>
            <a:ext cx="6031080" cy="6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 of Testbed in PLANETS |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80560" y="1224000"/>
            <a:ext cx="780588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and validate the technical solutions and approaches developed in PLANE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a controlled hardware and software environment for testing and evaluat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servation a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migration, emulation)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racteris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ols an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 experiments data in registries for further analysis and compar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st the validation of the effectiveness of different digita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servation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80560" y="324000"/>
            <a:ext cx="6031080" cy="6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le of Testbed in PLANETS |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80560" y="1224000"/>
            <a:ext cx="780588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ess the suitability of the approaches across „real life“ scenarios in various organis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e applicability of the outcomes of PLANETS in existing workflows and organisational contex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aluate their efficiency in providing practicable solutions for organisations engaged in digital preser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80560" y="324000"/>
            <a:ext cx="6031080" cy="6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 of PLANETS Testbed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gital Preservation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80560" y="1224000"/>
            <a:ext cx="780588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second phase, the PLANETS Testbed w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fer services to organisations outside PLANE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institutions to test preservation tools and services against benchmark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st institutions to validate their preservation plans against their policies &amp; content pro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developers and third party vendors to submit tools for benchmarking and certific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idate the suitability of their tools in preservation work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4T11:59:06Z</dcterms:created>
  <dc:creator>Max Kaiser</dc:creator>
  <dc:description/>
  <dc:language>en-US</dc:language>
  <cp:lastModifiedBy>Max Kaiser</cp:lastModifiedBy>
  <cp:lastPrinted>2005-10-12T14:04:19Z</cp:lastPrinted>
  <dcterms:modified xsi:type="dcterms:W3CDTF">2007-09-06T06:57:58Z</dcterms:modified>
  <cp:revision>155</cp:revision>
  <dc:subject/>
  <dc:title>PLANETS Testbed</dc:title>
</cp:coreProperties>
</file>