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863280" y="685440"/>
            <a:ext cx="5086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0" y="8712000"/>
            <a:ext cx="5859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5994000" y="868680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C0E6-46F6-4C8C-9C93-AC6F92968470}" type="slidenum">
              <a:rPr b="1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994000" y="868680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5942-80BA-4945-95CA-901588811283}" type="slidenum">
              <a:rPr b="1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8712000"/>
            <a:ext cx="5859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2068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994000" y="868680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9135-74DE-4241-BD0E-20F042BBC5CD}" type="slidenum">
              <a:rPr b="1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8712000"/>
            <a:ext cx="5859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7605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80560" y="4698360"/>
            <a:ext cx="7605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80560" y="469836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7920" y="469836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52040" y="342864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3520" y="342864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80560" y="469836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52040" y="469836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3520" y="469836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DAB0B-839F-410E-96B6-58B312DBAD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560" y="3428640"/>
            <a:ext cx="760572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41F5-32F9-401C-8C57-19C13AC056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760572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38B0-48B1-4924-BA05-9C3741226A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5A97D-E65A-4622-A467-D4096912C7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8657A-4FE4-41BC-AA85-C3E358DC73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5312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AE2D-D2ED-4C2C-8B17-06339519E1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560" y="469836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24D4-84DD-40C1-BFDE-325450BFA4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80560" y="3428640"/>
            <a:ext cx="760572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77920" y="469836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52B4B-F97F-4F6D-8577-D9A57BD162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560" y="4698360"/>
            <a:ext cx="7605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8814-001B-4069-B1A9-3C535D264E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7605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560" y="4698360"/>
            <a:ext cx="7605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F3C2-FE85-4365-B82A-299E2279A9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560" y="469836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77920" y="469836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066CD-E85F-4860-99F3-A6221AC66E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342864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3520" y="342864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560" y="469836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69836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3520" y="469836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0CFAF-7B07-4891-94D7-08F7D30791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760572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5312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80560" y="469836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77920" y="469836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80560" y="4698360"/>
            <a:ext cx="7605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52480" y="0"/>
            <a:ext cx="8291520" cy="685800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80920" y="1089000"/>
            <a:ext cx="7786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0720" y="0"/>
            <a:ext cx="144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720720" cy="685800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137360" y="279360"/>
            <a:ext cx="1575000" cy="638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rcRect l="0" t="0" r="0" b="71097"/>
          <a:stretch/>
        </p:blipFill>
        <p:spPr>
          <a:xfrm>
            <a:off x="0" y="6381720"/>
            <a:ext cx="720720" cy="4762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272360" y="6310440"/>
            <a:ext cx="1690560" cy="5475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0" y="5950080"/>
            <a:ext cx="701640" cy="376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867960" y="6454440"/>
            <a:ext cx="59403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footer&gt;</a:t>
            </a:r>
            <a:r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Max Kaiser (Austrian National Library, Vienna): The PLANETS Testb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DPE, PLANETS and CASPAR 2nd Annual Conference, Lisbon, 5–6 September, 20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0"/>
            <a:ext cx="144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20720" cy="685800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DB4A-420B-4255-8279-D380FAE165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0920" y="1089000"/>
            <a:ext cx="7786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272360" y="6310440"/>
            <a:ext cx="1690560" cy="547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701640" cy="37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0" t="0" r="0" b="71097"/>
          <a:stretch/>
        </p:blipFill>
        <p:spPr>
          <a:xfrm>
            <a:off x="0" y="6381720"/>
            <a:ext cx="72072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x.kaiser@onb.ac.at" TargetMode="External"/><Relationship Id="rId2" Type="http://schemas.openxmlformats.org/officeDocument/2006/relationships/hyperlink" Target="http://www.onb.ac.at/" TargetMode="External"/><Relationship Id="rId3" Type="http://schemas.openxmlformats.org/officeDocument/2006/relationships/hyperlink" Target="http://www.onb.ac.at/" TargetMode="External"/><Relationship Id="rId4" Type="http://schemas.openxmlformats.org/officeDocument/2006/relationships/image" Target="../media/image1.wmf"/><Relationship Id="rId5" Type="http://schemas.openxmlformats.org/officeDocument/2006/relationships/hyperlink" Target="http://www.wepreserve.eu/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127.0.0.1:4001/testbed/" TargetMode="External"/><Relationship Id="rId2" Type="http://schemas.openxmlformats.org/officeDocument/2006/relationships/hyperlink" Target="http://www.planets-project.eu/private/testbed-ui/" TargetMode="External"/><Relationship Id="rId3" Type="http://schemas.openxmlformats.org/officeDocument/2006/relationships/hyperlink" Target="http://www.planets-project.eu/private/testbed-ui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max.kaiser@onb.ac.at" TargetMode="External"/><Relationship Id="rId2" Type="http://schemas.openxmlformats.org/officeDocument/2006/relationships/hyperlink" Target="http://www.onb.ac.at/" TargetMode="External"/><Relationship Id="rId3" Type="http://schemas.openxmlformats.org/officeDocument/2006/relationships/hyperlink" Target="http://www.onb.ac.at/" TargetMode="External"/><Relationship Id="rId4" Type="http://schemas.openxmlformats.org/officeDocument/2006/relationships/image" Target="../media/image1.wmf"/><Relationship Id="rId5" Type="http://schemas.openxmlformats.org/officeDocument/2006/relationships/hyperlink" Target="http://www.wepreserve.eu/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80920" y="3384360"/>
            <a:ext cx="80568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LANETS Test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PE, PLANETS and CASPAR 2nd Annual Conference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sbon, 5–6 September,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 Kaiser, Austrian National Library</a:t>
            </a:r>
            <a:br>
              <a:rPr sz="2400"/>
            </a:b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x.kaiser@onb.ac.a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b.ac.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27000" y="1224000"/>
            <a:ext cx="3924360" cy="1585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wePreserv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33280"/>
            <a:ext cx="3333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Testbed: Fou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80920" y="1224000"/>
            <a:ext cx="77947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work undertaken by the Dutch Digital Preservation Testbed and DELOS Testbed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in PLANETS Interoperability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formalisation of testing process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focus on comparability and traceability of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strian Nationa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ities Advanced Technology and Information Institute at the University of Glasgow (HATI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strian Research Centers (A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Archives of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tish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enna University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versity of Colo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Testbed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ase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consistent and coherent evidence base for the objective evaluation of different tools, services, and complete preserva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bed system provi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 structured and formal process for preparing, executing, and evaluating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ability of experiments, comparability and traceability of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ance in planning preservation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ing of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of ongoing experiments will improve strength of preservation plans by means of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provide essential feedback for the development of PLANETS tools, services and preservation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bed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d to a focused 6-step process that each formal experiment must fo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TS Testbed experiment: consist of a consistent methodology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its metadata (exploration area, scope, criteria, references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ng or creating a workflow of (orchestrated) preservation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ng the results against the experiment’s initial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98480" y="0"/>
            <a:ext cx="8263080" cy="685800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528880" y="103320"/>
            <a:ext cx="2911680" cy="988920"/>
            <a:chOff x="5528880" y="103320"/>
            <a:chExt cx="2911680" cy="988920"/>
          </a:xfrm>
        </p:grpSpPr>
        <p:sp>
          <p:nvSpPr>
            <p:cNvPr id="130" name=""/>
            <p:cNvSpPr/>
            <p:nvPr/>
          </p:nvSpPr>
          <p:spPr>
            <a:xfrm>
              <a:off x="6505560" y="103320"/>
              <a:ext cx="1935000" cy="988920"/>
            </a:xfrm>
            <a:prstGeom prst="flowChartDocument">
              <a:avLst/>
            </a:prstGeom>
            <a:solidFill>
              <a:srgbClr val="fcd7a6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sic Experiment Properties 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32" idx="3"/>
              <a:endCxn id="130" idx="1"/>
            </p:cNvCxnSpPr>
            <p:nvPr/>
          </p:nvCxnSpPr>
          <p:spPr>
            <a:xfrm>
              <a:off x="5528880" y="596880"/>
              <a:ext cx="96444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528880" y="1743120"/>
            <a:ext cx="2913480" cy="988920"/>
            <a:chOff x="5528880" y="1743120"/>
            <a:chExt cx="2913480" cy="988920"/>
          </a:xfrm>
        </p:grpSpPr>
        <p:sp>
          <p:nvSpPr>
            <p:cNvPr id="134" name=""/>
            <p:cNvSpPr/>
            <p:nvPr/>
          </p:nvSpPr>
          <p:spPr>
            <a:xfrm>
              <a:off x="6507000" y="1743120"/>
              <a:ext cx="1935360" cy="988920"/>
            </a:xfrm>
            <a:prstGeom prst="flowChartDocument">
              <a:avLst/>
            </a:prstGeom>
            <a:solidFill>
              <a:srgbClr val="fcd7a6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ols and Data 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6" idx="3"/>
              <a:endCxn id="134" idx="1"/>
            </p:cNvCxnSpPr>
            <p:nvPr/>
          </p:nvCxnSpPr>
          <p:spPr>
            <a:xfrm>
              <a:off x="5528880" y="2236320"/>
              <a:ext cx="965880" cy="252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7" name=""/>
          <p:cNvGrpSpPr/>
          <p:nvPr/>
        </p:nvGrpSpPr>
        <p:grpSpPr>
          <a:xfrm>
            <a:off x="5462280" y="5788080"/>
            <a:ext cx="2968920" cy="988920"/>
            <a:chOff x="5462280" y="5788080"/>
            <a:chExt cx="2968920" cy="988920"/>
          </a:xfrm>
        </p:grpSpPr>
        <p:sp>
          <p:nvSpPr>
            <p:cNvPr id="138" name=""/>
            <p:cNvSpPr/>
            <p:nvPr/>
          </p:nvSpPr>
          <p:spPr>
            <a:xfrm>
              <a:off x="6496200" y="5788080"/>
              <a:ext cx="1935000" cy="988920"/>
            </a:xfrm>
            <a:prstGeom prst="flowChartDocument">
              <a:avLst/>
            </a:prstGeom>
            <a:solidFill>
              <a:srgbClr val="fcd7a6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laration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 / No 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40" idx="3"/>
              <a:endCxn id="138" idx="1"/>
            </p:cNvCxnSpPr>
            <p:nvPr/>
          </p:nvCxnSpPr>
          <p:spPr>
            <a:xfrm>
              <a:off x="5462280" y="6271920"/>
              <a:ext cx="1021320" cy="11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1" name=""/>
          <p:cNvGrpSpPr/>
          <p:nvPr/>
        </p:nvGrpSpPr>
        <p:grpSpPr>
          <a:xfrm>
            <a:off x="3716280" y="1080720"/>
            <a:ext cx="1800360" cy="1627560"/>
            <a:chOff x="3716280" y="1080720"/>
            <a:chExt cx="1800360" cy="1627560"/>
          </a:xfrm>
        </p:grpSpPr>
        <p:sp>
          <p:nvSpPr>
            <p:cNvPr id="136" name=""/>
            <p:cNvSpPr/>
            <p:nvPr/>
          </p:nvSpPr>
          <p:spPr>
            <a:xfrm>
              <a:off x="3716280" y="1763640"/>
              <a:ext cx="1800360" cy="944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Design Experi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32" idx="2"/>
              <a:endCxn id="136" idx="0"/>
            </p:cNvCxnSpPr>
            <p:nvPr/>
          </p:nvCxnSpPr>
          <p:spPr>
            <a:xfrm>
              <a:off x="4615920" y="1080720"/>
              <a:ext cx="1080" cy="670680"/>
            </a:xfrm>
            <a:prstGeom prst="straightConnector1">
              <a:avLst/>
            </a:prstGeom>
            <a:ln w="57240">
              <a:solidFill>
                <a:srgbClr val="53b2b9"/>
              </a:solidFill>
              <a:miter/>
              <a:tailEnd len="med" type="triangle" w="med"/>
            </a:ln>
          </p:spPr>
        </p:cxnSp>
      </p:grpSp>
      <p:grpSp>
        <p:nvGrpSpPr>
          <p:cNvPr id="143" name=""/>
          <p:cNvGrpSpPr/>
          <p:nvPr/>
        </p:nvGrpSpPr>
        <p:grpSpPr>
          <a:xfrm>
            <a:off x="3716280" y="2720520"/>
            <a:ext cx="1800360" cy="2013480"/>
            <a:chOff x="3716280" y="2720520"/>
            <a:chExt cx="1800360" cy="2013480"/>
          </a:xfrm>
        </p:grpSpPr>
        <p:sp>
          <p:nvSpPr>
            <p:cNvPr id="144" name=""/>
            <p:cNvSpPr/>
            <p:nvPr/>
          </p:nvSpPr>
          <p:spPr>
            <a:xfrm>
              <a:off x="3716280" y="3789360"/>
              <a:ext cx="1800360" cy="944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 Specify Resources &amp; Out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stCxn id="136" idx="2"/>
              <a:endCxn id="144" idx="0"/>
            </p:cNvCxnSpPr>
            <p:nvPr/>
          </p:nvCxnSpPr>
          <p:spPr>
            <a:xfrm>
              <a:off x="4615920" y="2720520"/>
              <a:ext cx="1080" cy="1056600"/>
            </a:xfrm>
            <a:prstGeom prst="straightConnector1">
              <a:avLst/>
            </a:prstGeom>
            <a:ln w="57240">
              <a:solidFill>
                <a:srgbClr val="53b2b9"/>
              </a:solidFill>
              <a:miter/>
              <a:tailEnd len="med" type="triangle" w="med"/>
            </a:ln>
          </p:spPr>
        </p:cxnSp>
      </p:grpSp>
      <p:grpSp>
        <p:nvGrpSpPr>
          <p:cNvPr id="146" name=""/>
          <p:cNvGrpSpPr/>
          <p:nvPr/>
        </p:nvGrpSpPr>
        <p:grpSpPr>
          <a:xfrm>
            <a:off x="3784680" y="4746600"/>
            <a:ext cx="1665360" cy="2001960"/>
            <a:chOff x="3784680" y="4746600"/>
            <a:chExt cx="1665360" cy="2001960"/>
          </a:xfrm>
        </p:grpSpPr>
        <p:sp>
          <p:nvSpPr>
            <p:cNvPr id="140" name=""/>
            <p:cNvSpPr/>
            <p:nvPr/>
          </p:nvSpPr>
          <p:spPr>
            <a:xfrm>
              <a:off x="3784680" y="5796000"/>
              <a:ext cx="1665360" cy="952560"/>
            </a:xfrm>
            <a:prstGeom prst="diamond">
              <a:avLst/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 Go / No 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" name=""/>
            <p:cNvCxnSpPr>
              <a:stCxn id="144" idx="2"/>
              <a:endCxn id="140" idx="0"/>
            </p:cNvCxnSpPr>
            <p:nvPr/>
          </p:nvCxnSpPr>
          <p:spPr>
            <a:xfrm>
              <a:off x="4615920" y="4746600"/>
              <a:ext cx="2520" cy="1037520"/>
            </a:xfrm>
            <a:prstGeom prst="straightConnector1">
              <a:avLst/>
            </a:prstGeom>
            <a:ln w="57240">
              <a:solidFill>
                <a:srgbClr val="53b2b9"/>
              </a:solidFill>
              <a:miter/>
              <a:tailEnd len="med" type="triangle" w="med"/>
            </a:ln>
          </p:spPr>
        </p:cxnSp>
      </p:grpSp>
      <p:sp>
        <p:nvSpPr>
          <p:cNvPr id="148" name=""/>
          <p:cNvSpPr/>
          <p:nvPr/>
        </p:nvSpPr>
        <p:spPr>
          <a:xfrm>
            <a:off x="884160" y="115920"/>
            <a:ext cx="1395360" cy="404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76640" y="123840"/>
            <a:ext cx="3240000" cy="944640"/>
            <a:chOff x="2276640" y="123840"/>
            <a:chExt cx="3240000" cy="944640"/>
          </a:xfrm>
        </p:grpSpPr>
        <p:sp>
          <p:nvSpPr>
            <p:cNvPr id="132" name=""/>
            <p:cNvSpPr/>
            <p:nvPr/>
          </p:nvSpPr>
          <p:spPr>
            <a:xfrm>
              <a:off x="3716280" y="123840"/>
              <a:ext cx="1800360" cy="944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Define Basic Experiment Proper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76640" y="279360"/>
              <a:ext cx="14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528880" y="3063960"/>
            <a:ext cx="2913480" cy="2388960"/>
            <a:chOff x="5528880" y="3063960"/>
            <a:chExt cx="2913480" cy="2388960"/>
          </a:xfrm>
        </p:grpSpPr>
        <p:sp>
          <p:nvSpPr>
            <p:cNvPr id="152" name=""/>
            <p:cNvSpPr/>
            <p:nvPr/>
          </p:nvSpPr>
          <p:spPr>
            <a:xfrm>
              <a:off x="6507000" y="4464000"/>
              <a:ext cx="1935360" cy="988920"/>
            </a:xfrm>
            <a:prstGeom prst="flowChartDocument">
              <a:avLst/>
            </a:prstGeom>
            <a:solidFill>
              <a:srgbClr val="fcd7a6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aluation Check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44" idx="3"/>
              <a:endCxn id="152" idx="1"/>
            </p:cNvCxnSpPr>
            <p:nvPr/>
          </p:nvCxnSpPr>
          <p:spPr>
            <a:xfrm>
              <a:off x="5528880" y="4262400"/>
              <a:ext cx="965880" cy="69768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6507000" y="3063960"/>
              <a:ext cx="1935360" cy="988920"/>
            </a:xfrm>
            <a:prstGeom prst="flowChartDocument">
              <a:avLst/>
            </a:prstGeom>
            <a:solidFill>
              <a:srgbClr val="fcd7a6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44" idx="3"/>
              <a:endCxn id="154" idx="1"/>
            </p:cNvCxnSpPr>
            <p:nvPr/>
          </p:nvCxnSpPr>
          <p:spPr>
            <a:xfrm flipV="1">
              <a:off x="5528880" y="3558600"/>
              <a:ext cx="965880" cy="70380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162000" y="549360"/>
            <a:ext cx="3541680" cy="2520720"/>
            <a:chOff x="162000" y="549360"/>
            <a:chExt cx="3541680" cy="2520720"/>
          </a:xfrm>
        </p:grpSpPr>
        <p:sp>
          <p:nvSpPr>
            <p:cNvPr id="157" name=""/>
            <p:cNvSpPr/>
            <p:nvPr/>
          </p:nvSpPr>
          <p:spPr>
            <a:xfrm>
              <a:off x="162000" y="549360"/>
              <a:ext cx="2611440" cy="2520720"/>
            </a:xfrm>
            <a:prstGeom prst="roundRect">
              <a:avLst>
                <a:gd name="adj" fmla="val 16667"/>
              </a:avLst>
            </a:prstGeom>
            <a:solidFill>
              <a:srgbClr val="fcf560"/>
            </a:solidFill>
            <a:ln w="255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Autofit/>
            </a:bodyPr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ference to other experi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mm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urp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ticip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 of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 of Obje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ro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7" idx="3"/>
              <a:endCxn id="132" idx="1"/>
            </p:cNvCxnSpPr>
            <p:nvPr/>
          </p:nvCxnSpPr>
          <p:spPr>
            <a:xfrm flipV="1">
              <a:off x="2785680" y="596160"/>
              <a:ext cx="918360" cy="1213560"/>
            </a:xfrm>
            <a:prstGeom prst="bentConnector3">
              <a:avLst>
                <a:gd name="adj1" fmla="val 49803"/>
              </a:avLst>
            </a:prstGeom>
            <a:ln w="38160">
              <a:solidFill>
                <a:srgbClr val="53b2b9"/>
              </a:solidFill>
              <a:prstDash val="sysDot"/>
              <a:miter/>
            </a:ln>
          </p:spPr>
        </p:cxnSp>
      </p:grpSp>
      <p:grpSp>
        <p:nvGrpSpPr>
          <p:cNvPr id="159" name=""/>
          <p:cNvGrpSpPr/>
          <p:nvPr/>
        </p:nvGrpSpPr>
        <p:grpSpPr>
          <a:xfrm>
            <a:off x="880920" y="2235960"/>
            <a:ext cx="2822400" cy="2091600"/>
            <a:chOff x="880920" y="2235960"/>
            <a:chExt cx="2822400" cy="2091600"/>
          </a:xfrm>
        </p:grpSpPr>
        <p:sp>
          <p:nvSpPr>
            <p:cNvPr id="160" name=""/>
            <p:cNvSpPr/>
            <p:nvPr/>
          </p:nvSpPr>
          <p:spPr>
            <a:xfrm>
              <a:off x="880920" y="2843280"/>
              <a:ext cx="2521080" cy="1484280"/>
            </a:xfrm>
            <a:prstGeom prst="roundRect">
              <a:avLst>
                <a:gd name="adj" fmla="val 16667"/>
              </a:avLst>
            </a:prstGeom>
            <a:solidFill>
              <a:srgbClr val="fcf560"/>
            </a:solidFill>
            <a:ln w="255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fy Experiment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428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igr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428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haracteris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428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fy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fy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" name=""/>
            <p:cNvCxnSpPr>
              <a:stCxn id="160" idx="3"/>
              <a:endCxn id="136" idx="1"/>
            </p:cNvCxnSpPr>
            <p:nvPr/>
          </p:nvCxnSpPr>
          <p:spPr>
            <a:xfrm flipV="1">
              <a:off x="3414240" y="2235960"/>
              <a:ext cx="289440" cy="1350360"/>
            </a:xfrm>
            <a:prstGeom prst="bentConnector3">
              <a:avLst>
                <a:gd name="adj1" fmla="val 49937"/>
              </a:avLst>
            </a:prstGeom>
            <a:ln w="38160">
              <a:solidFill>
                <a:srgbClr val="53b2b9"/>
              </a:solidFill>
              <a:prstDash val="sysDot"/>
              <a:miter/>
            </a:ln>
          </p:spPr>
        </p:cxnSp>
      </p:grpSp>
      <p:grpSp>
        <p:nvGrpSpPr>
          <p:cNvPr id="162" name=""/>
          <p:cNvGrpSpPr/>
          <p:nvPr/>
        </p:nvGrpSpPr>
        <p:grpSpPr>
          <a:xfrm>
            <a:off x="162000" y="4194000"/>
            <a:ext cx="3542040" cy="1484640"/>
            <a:chOff x="162000" y="4194000"/>
            <a:chExt cx="3542040" cy="1484640"/>
          </a:xfrm>
        </p:grpSpPr>
        <p:sp>
          <p:nvSpPr>
            <p:cNvPr id="163" name=""/>
            <p:cNvSpPr/>
            <p:nvPr/>
          </p:nvSpPr>
          <p:spPr>
            <a:xfrm>
              <a:off x="162000" y="4194000"/>
              <a:ext cx="2520720" cy="1484640"/>
            </a:xfrm>
            <a:prstGeom prst="roundRect">
              <a:avLst>
                <a:gd name="adj" fmla="val 16667"/>
              </a:avLst>
            </a:prstGeom>
            <a:solidFill>
              <a:srgbClr val="fcf560"/>
            </a:solidFill>
            <a:ln w="255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timate number of output f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timate computer resource requir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fy benchmark goals for experi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4" name=""/>
            <p:cNvCxnSpPr>
              <a:stCxn id="163" idx="3"/>
              <a:endCxn id="144" idx="1"/>
            </p:cNvCxnSpPr>
            <p:nvPr/>
          </p:nvCxnSpPr>
          <p:spPr>
            <a:xfrm flipV="1">
              <a:off x="2695680" y="4262040"/>
              <a:ext cx="1008720" cy="675360"/>
            </a:xfrm>
            <a:prstGeom prst="bentConnector3">
              <a:avLst>
                <a:gd name="adj1" fmla="val 49910"/>
              </a:avLst>
            </a:prstGeom>
            <a:ln w="38160">
              <a:solidFill>
                <a:srgbClr val="53b2b9"/>
              </a:solidFill>
              <a:prstDash val="sysDot"/>
              <a:miter/>
            </a:ln>
          </p:spPr>
        </p:cxnSp>
      </p:grpSp>
      <p:grpSp>
        <p:nvGrpSpPr>
          <p:cNvPr id="165" name=""/>
          <p:cNvGrpSpPr/>
          <p:nvPr/>
        </p:nvGrpSpPr>
        <p:grpSpPr>
          <a:xfrm>
            <a:off x="431640" y="5553000"/>
            <a:ext cx="3340080" cy="1305000"/>
            <a:chOff x="431640" y="5553000"/>
            <a:chExt cx="3340080" cy="1305000"/>
          </a:xfrm>
        </p:grpSpPr>
        <p:sp>
          <p:nvSpPr>
            <p:cNvPr id="166" name=""/>
            <p:cNvSpPr/>
            <p:nvPr/>
          </p:nvSpPr>
          <p:spPr>
            <a:xfrm>
              <a:off x="431640" y="5553000"/>
              <a:ext cx="3060720" cy="1305000"/>
            </a:xfrm>
            <a:prstGeom prst="roundRect">
              <a:avLst>
                <a:gd name="adj" fmla="val 16667"/>
              </a:avLst>
            </a:prstGeom>
            <a:solidFill>
              <a:srgbClr val="fcf560"/>
            </a:solidFill>
            <a:ln w="255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omatic approval by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428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d on resource specification and system monito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ual approval by administ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66" idx="3"/>
              <a:endCxn id="140" idx="1"/>
            </p:cNvCxnSpPr>
            <p:nvPr/>
          </p:nvCxnSpPr>
          <p:spPr>
            <a:xfrm>
              <a:off x="3504960" y="6205320"/>
              <a:ext cx="267120" cy="67320"/>
            </a:xfrm>
            <a:prstGeom prst="bentConnector3">
              <a:avLst>
                <a:gd name="adj1" fmla="val 49932"/>
              </a:avLst>
            </a:prstGeom>
            <a:ln w="38160">
              <a:solidFill>
                <a:srgbClr val="53b2b9"/>
              </a:solidFill>
              <a:prstDash val="sysDot"/>
              <a:miter/>
            </a:ln>
          </p:spPr>
        </p:cxnSp>
      </p:grpSp>
      <p:sp>
        <p:nvSpPr>
          <p:cNvPr id="168" name=""/>
          <p:cNvSpPr/>
          <p:nvPr/>
        </p:nvSpPr>
        <p:spPr>
          <a:xfrm>
            <a:off x="836640" y="189000"/>
            <a:ext cx="6030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stbed Experiment Process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80920" y="819000"/>
            <a:ext cx="7786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80920" y="0"/>
            <a:ext cx="8263080" cy="685800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249880" y="954000"/>
            <a:ext cx="2911320" cy="2338200"/>
            <a:chOff x="5249880" y="954000"/>
            <a:chExt cx="2911320" cy="2338200"/>
          </a:xfrm>
        </p:grpSpPr>
        <p:sp>
          <p:nvSpPr>
            <p:cNvPr id="172" name=""/>
            <p:cNvSpPr/>
            <p:nvPr/>
          </p:nvSpPr>
          <p:spPr>
            <a:xfrm>
              <a:off x="6226200" y="954000"/>
              <a:ext cx="1935000" cy="988920"/>
            </a:xfrm>
            <a:prstGeom prst="flowChartDocument">
              <a:avLst/>
            </a:prstGeom>
            <a:solidFill>
              <a:srgbClr val="fcd7a6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riment Work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6200" y="2303280"/>
              <a:ext cx="1935000" cy="988920"/>
            </a:xfrm>
            <a:prstGeom prst="flowChartDocument">
              <a:avLst/>
            </a:prstGeom>
            <a:solidFill>
              <a:srgbClr val="fcd7a6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rimen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5" idx="3"/>
              <a:endCxn id="172" idx="1"/>
            </p:cNvCxnSpPr>
            <p:nvPr/>
          </p:nvCxnSpPr>
          <p:spPr>
            <a:xfrm flipV="1">
              <a:off x="5249880" y="1448640"/>
              <a:ext cx="964080" cy="697320"/>
            </a:xfrm>
            <a:prstGeom prst="bentConnector3">
              <a:avLst>
                <a:gd name="adj1" fmla="val 49906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5" idx="3"/>
              <a:endCxn id="173" idx="1"/>
            </p:cNvCxnSpPr>
            <p:nvPr/>
          </p:nvCxnSpPr>
          <p:spPr>
            <a:xfrm>
              <a:off x="5249880" y="2145600"/>
              <a:ext cx="964080" cy="653400"/>
            </a:xfrm>
            <a:prstGeom prst="bentConnector3">
              <a:avLst>
                <a:gd name="adj1" fmla="val 49906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7" name=""/>
          <p:cNvGrpSpPr/>
          <p:nvPr/>
        </p:nvGrpSpPr>
        <p:grpSpPr>
          <a:xfrm>
            <a:off x="5249880" y="3722760"/>
            <a:ext cx="2911320" cy="988920"/>
            <a:chOff x="5249880" y="3722760"/>
            <a:chExt cx="2911320" cy="988920"/>
          </a:xfrm>
        </p:grpSpPr>
        <p:sp>
          <p:nvSpPr>
            <p:cNvPr id="178" name=""/>
            <p:cNvSpPr/>
            <p:nvPr/>
          </p:nvSpPr>
          <p:spPr>
            <a:xfrm>
              <a:off x="6226200" y="3722760"/>
              <a:ext cx="1935000" cy="988920"/>
            </a:xfrm>
            <a:prstGeom prst="flowChartDocument">
              <a:avLst/>
            </a:prstGeom>
            <a:solidFill>
              <a:srgbClr val="fcd7a6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riment E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>
              <a:stCxn id="180" idx="3"/>
              <a:endCxn id="178" idx="1"/>
            </p:cNvCxnSpPr>
            <p:nvPr/>
          </p:nvCxnSpPr>
          <p:spPr>
            <a:xfrm>
              <a:off x="5249880" y="4215960"/>
              <a:ext cx="96408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1" name=""/>
          <p:cNvGrpSpPr/>
          <p:nvPr/>
        </p:nvGrpSpPr>
        <p:grpSpPr>
          <a:xfrm>
            <a:off x="3436920" y="2630520"/>
            <a:ext cx="1800000" cy="2057400"/>
            <a:chOff x="3436920" y="2630520"/>
            <a:chExt cx="1800000" cy="2057400"/>
          </a:xfrm>
        </p:grpSpPr>
        <p:sp>
          <p:nvSpPr>
            <p:cNvPr id="180" name=""/>
            <p:cNvSpPr/>
            <p:nvPr/>
          </p:nvSpPr>
          <p:spPr>
            <a:xfrm>
              <a:off x="3436920" y="3743640"/>
              <a:ext cx="1800000" cy="944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 Evaluate Experi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" name=""/>
            <p:cNvCxnSpPr>
              <a:stCxn id="175" idx="2"/>
              <a:endCxn id="180" idx="0"/>
            </p:cNvCxnSpPr>
            <p:nvPr/>
          </p:nvCxnSpPr>
          <p:spPr>
            <a:xfrm>
              <a:off x="4336560" y="2630520"/>
              <a:ext cx="1080" cy="1100880"/>
            </a:xfrm>
            <a:prstGeom prst="straightConnector1">
              <a:avLst/>
            </a:prstGeom>
            <a:ln w="57240">
              <a:solidFill>
                <a:srgbClr val="53b2b9"/>
              </a:solidFill>
              <a:miter/>
              <a:tailEnd len="med" type="triangle" w="med"/>
            </a:ln>
          </p:spPr>
        </p:cxnSp>
      </p:grpSp>
      <p:grpSp>
        <p:nvGrpSpPr>
          <p:cNvPr id="183" name=""/>
          <p:cNvGrpSpPr/>
          <p:nvPr/>
        </p:nvGrpSpPr>
        <p:grpSpPr>
          <a:xfrm>
            <a:off x="3616200" y="4700160"/>
            <a:ext cx="1444680" cy="1816200"/>
            <a:chOff x="3616200" y="4700160"/>
            <a:chExt cx="1444680" cy="1816200"/>
          </a:xfrm>
        </p:grpSpPr>
        <p:cxnSp>
          <p:nvCxnSpPr>
            <p:cNvPr id="184" name=""/>
            <p:cNvCxnSpPr>
              <a:stCxn id="180" idx="2"/>
              <a:endCxn id="185" idx="0"/>
            </p:cNvCxnSpPr>
            <p:nvPr/>
          </p:nvCxnSpPr>
          <p:spPr>
            <a:xfrm>
              <a:off x="4336560" y="4700160"/>
              <a:ext cx="2520" cy="1399320"/>
            </a:xfrm>
            <a:prstGeom prst="straightConnector1">
              <a:avLst/>
            </a:prstGeom>
            <a:ln w="57240">
              <a:solidFill>
                <a:srgbClr val="53b2b9"/>
              </a:solidFill>
              <a:miter/>
              <a:tailEnd len="med" type="triangle" w="med"/>
            </a:ln>
          </p:spPr>
        </p:cxnSp>
        <p:sp>
          <p:nvSpPr>
            <p:cNvPr id="185" name=""/>
            <p:cNvSpPr/>
            <p:nvPr/>
          </p:nvSpPr>
          <p:spPr>
            <a:xfrm>
              <a:off x="3616200" y="6111720"/>
              <a:ext cx="1444680" cy="40464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76240" y="1660680"/>
            <a:ext cx="1665360" cy="952200"/>
          </a:xfrm>
          <a:prstGeom prst="diamond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Go / N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553840" y="1673280"/>
            <a:ext cx="2683080" cy="944640"/>
            <a:chOff x="2553840" y="1673280"/>
            <a:chExt cx="2683080" cy="944640"/>
          </a:xfrm>
        </p:grpSpPr>
        <p:sp>
          <p:nvSpPr>
            <p:cNvPr id="175" name=""/>
            <p:cNvSpPr/>
            <p:nvPr/>
          </p:nvSpPr>
          <p:spPr>
            <a:xfrm>
              <a:off x="3436920" y="1673280"/>
              <a:ext cx="1800000" cy="944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. Run Experi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>
              <a:stCxn id="186" idx="3"/>
              <a:endCxn id="175" idx="1"/>
            </p:cNvCxnSpPr>
            <p:nvPr/>
          </p:nvCxnSpPr>
          <p:spPr>
            <a:xfrm>
              <a:off x="2553840" y="2136960"/>
              <a:ext cx="870840" cy="10080"/>
            </a:xfrm>
            <a:prstGeom prst="straightConnector1">
              <a:avLst/>
            </a:prstGeom>
            <a:ln w="57240">
              <a:solidFill>
                <a:srgbClr val="53b2b9"/>
              </a:solidFill>
              <a:miter/>
              <a:tailEnd len="med" type="triangle" w="med"/>
            </a:ln>
          </p:spPr>
        </p:cxnSp>
      </p:grpSp>
      <p:grpSp>
        <p:nvGrpSpPr>
          <p:cNvPr id="189" name=""/>
          <p:cNvGrpSpPr/>
          <p:nvPr/>
        </p:nvGrpSpPr>
        <p:grpSpPr>
          <a:xfrm>
            <a:off x="14400" y="2145960"/>
            <a:ext cx="3410280" cy="2179440"/>
            <a:chOff x="14400" y="2145960"/>
            <a:chExt cx="3410280" cy="2179440"/>
          </a:xfrm>
        </p:grpSpPr>
        <p:sp>
          <p:nvSpPr>
            <p:cNvPr id="190" name=""/>
            <p:cNvSpPr/>
            <p:nvPr/>
          </p:nvSpPr>
          <p:spPr>
            <a:xfrm>
              <a:off x="14400" y="2840040"/>
              <a:ext cx="3105000" cy="1485360"/>
            </a:xfrm>
            <a:prstGeom prst="roundRect">
              <a:avLst>
                <a:gd name="adj" fmla="val 16667"/>
              </a:avLst>
            </a:prstGeom>
            <a:solidFill>
              <a:srgbClr val="fcf560"/>
            </a:solidFill>
            <a:ln w="255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periments executed as BPEL workflo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ed by workflow execution engine of the Interoperability Frame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sentation of status re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90" idx="3"/>
              <a:endCxn id="175" idx="1"/>
            </p:cNvCxnSpPr>
            <p:nvPr/>
          </p:nvCxnSpPr>
          <p:spPr>
            <a:xfrm flipV="1">
              <a:off x="3132000" y="2145960"/>
              <a:ext cx="293040" cy="1437120"/>
            </a:xfrm>
            <a:prstGeom prst="bentConnector3">
              <a:avLst>
                <a:gd name="adj1" fmla="val 49938"/>
              </a:avLst>
            </a:prstGeom>
            <a:ln w="38160">
              <a:solidFill>
                <a:srgbClr val="53b2b9"/>
              </a:solidFill>
              <a:prstDash val="sysDot"/>
              <a:miter/>
            </a:ln>
          </p:spPr>
        </p:cxnSp>
      </p:grpSp>
      <p:grpSp>
        <p:nvGrpSpPr>
          <p:cNvPr id="192" name=""/>
          <p:cNvGrpSpPr/>
          <p:nvPr/>
        </p:nvGrpSpPr>
        <p:grpSpPr>
          <a:xfrm>
            <a:off x="0" y="4215600"/>
            <a:ext cx="3423960" cy="1400760"/>
            <a:chOff x="0" y="4215600"/>
            <a:chExt cx="3423960" cy="1400760"/>
          </a:xfrm>
        </p:grpSpPr>
        <p:sp>
          <p:nvSpPr>
            <p:cNvPr id="193" name=""/>
            <p:cNvSpPr/>
            <p:nvPr/>
          </p:nvSpPr>
          <p:spPr>
            <a:xfrm>
              <a:off x="0" y="4716360"/>
              <a:ext cx="3060720" cy="900000"/>
            </a:xfrm>
            <a:prstGeom prst="roundRect">
              <a:avLst>
                <a:gd name="adj" fmla="val 16667"/>
              </a:avLst>
            </a:prstGeom>
            <a:solidFill>
              <a:srgbClr val="fcf560"/>
            </a:solidFill>
            <a:ln w="255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sentation of input and output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luation of benchmark go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4" name=""/>
            <p:cNvCxnSpPr>
              <a:stCxn id="193" idx="3"/>
              <a:endCxn id="180" idx="1"/>
            </p:cNvCxnSpPr>
            <p:nvPr/>
          </p:nvCxnSpPr>
          <p:spPr>
            <a:xfrm flipV="1">
              <a:off x="3072960" y="4215600"/>
              <a:ext cx="351360" cy="951480"/>
            </a:xfrm>
            <a:prstGeom prst="bentConnector3">
              <a:avLst>
                <a:gd name="adj1" fmla="val 49743"/>
              </a:avLst>
            </a:prstGeom>
            <a:ln w="38160">
              <a:solidFill>
                <a:srgbClr val="53b2b9"/>
              </a:solidFill>
              <a:prstDash val="sysDot"/>
              <a:miter/>
            </a:ln>
          </p:spPr>
        </p:cxnSp>
      </p:grpSp>
      <p:sp>
        <p:nvSpPr>
          <p:cNvPr id="195" name=""/>
          <p:cNvSpPr/>
          <p:nvPr/>
        </p:nvSpPr>
        <p:spPr>
          <a:xfrm>
            <a:off x="880920" y="189000"/>
            <a:ext cx="6031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stbed Experiment Process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80920" y="819000"/>
            <a:ext cx="7786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bed Syste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understanding of the required characteristics of PLANETS Testbed derived from the Dutch Preservation Testbed and the DELOS Digital Preservation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requirements gathered following a clearly structured software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Scenario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60 U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equirements (Authentication Interfaces, Logging, Versioning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Experiment, Define Basic Properties, Select A Tool, View Available Services, Handling Stalled Experimen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unctio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bility, Reliability, Performance, Security, Supportabilit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and 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level design of the Testbed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breakdown of the system into compo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be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-independent system based on Java Enterprise Edition (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-tiered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16280" y="3338640"/>
            <a:ext cx="4392720" cy="2376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rot="10800000">
            <a:off x="927000" y="2754000"/>
            <a:ext cx="3330720" cy="1035000"/>
          </a:xfrm>
          <a:solidFill>
            <a:srgbClr val="bbe0e3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ndles presentation of user interfaces; logic for dynamically creating content. Based on Java Server Faces and Facel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971280" y="3968280"/>
            <a:ext cx="2700360" cy="1035000"/>
          </a:xfrm>
          <a:solidFill>
            <a:srgbClr val="bbe0e3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business logic (core functionality). Based on JavaBeans and JAX web service end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971640" y="5184360"/>
            <a:ext cx="3240000" cy="1035000"/>
          </a:xfrm>
          <a:solidFill>
            <a:srgbClr val="bbe0e3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data persistency. Uses data registries provided by PLANETS Interoperability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98480" y="0"/>
            <a:ext cx="8263080" cy="685800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87280" y="2781360"/>
            <a:ext cx="5081760" cy="3781440"/>
            <a:chOff x="1187280" y="2781360"/>
            <a:chExt cx="5081760" cy="3781440"/>
          </a:xfrm>
        </p:grpSpPr>
        <p:sp>
          <p:nvSpPr>
            <p:cNvPr id="207" name=""/>
            <p:cNvSpPr/>
            <p:nvPr/>
          </p:nvSpPr>
          <p:spPr>
            <a:xfrm>
              <a:off x="1187280" y="2781360"/>
              <a:ext cx="5081760" cy="3781440"/>
            </a:xfrm>
            <a:prstGeom prst="flowChartAlternateProcess">
              <a:avLst/>
            </a:prstGeom>
            <a:solidFill>
              <a:srgbClr val="5eae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Interoperabilit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62440" y="3022560"/>
              <a:ext cx="1319400" cy="34275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</a:rPr>
                <a:t>Service B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49200" y="3500280"/>
              <a:ext cx="3397320" cy="2903760"/>
            </a:xfrm>
            <a:prstGeom prst="flowChartAlternateProcess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38200" y="3697200"/>
              <a:ext cx="3075120" cy="2640240"/>
            </a:xfrm>
            <a:prstGeom prst="rect">
              <a:avLst/>
            </a:prstGeom>
            <a:solidFill>
              <a:srgbClr val="addadd">
                <a:alpha val="50000"/>
              </a:srgbClr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ecurity/Authentication/ Authoriz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47640" y="4005360"/>
              <a:ext cx="2822760" cy="2232000"/>
            </a:xfrm>
            <a:prstGeom prst="rect">
              <a:avLst/>
            </a:prstGeom>
            <a:solidFill>
              <a:srgbClr val="92cdd2">
                <a:alpha val="50000"/>
              </a:srgbClr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Monitoring/Logging/Audi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63640" y="4221000"/>
              <a:ext cx="2448000" cy="487440"/>
            </a:xfrm>
            <a:prstGeom prst="rect">
              <a:avLst/>
            </a:prstGeom>
            <a:solidFill>
              <a:srgbClr val="4ea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Workflow Execution Eng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51040" y="5237280"/>
              <a:ext cx="1757160" cy="336600"/>
            </a:xfrm>
            <a:prstGeom prst="rect">
              <a:avLst/>
            </a:prstGeom>
            <a:solidFill>
              <a:srgbClr val="4ea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Error/Exception Hand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51040" y="4786200"/>
              <a:ext cx="1757160" cy="338400"/>
            </a:xfrm>
            <a:prstGeom prst="rect">
              <a:avLst/>
            </a:prstGeom>
            <a:solidFill>
              <a:srgbClr val="4ea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Transaction 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4952880" y="4662360"/>
              <a:ext cx="100188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751040" y="5697360"/>
              <a:ext cx="2448000" cy="451080"/>
            </a:xfrm>
            <a:prstGeom prst="rect">
              <a:avLst/>
            </a:prstGeom>
            <a:solidFill>
              <a:srgbClr val="4ea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Database 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2040" y="4786200"/>
              <a:ext cx="565200" cy="787680"/>
            </a:xfrm>
            <a:prstGeom prst="rect">
              <a:avLst/>
            </a:prstGeom>
            <a:solidFill>
              <a:srgbClr val="4ea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Sp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4995720" y="4183200"/>
              <a:ext cx="879480" cy="506160"/>
              <a:chOff x="4995720" y="4183200"/>
              <a:chExt cx="879480" cy="506160"/>
            </a:xfrm>
          </p:grpSpPr>
          <p:sp>
            <p:nvSpPr>
              <p:cNvPr id="219" name=""/>
              <p:cNvSpPr/>
              <p:nvPr/>
            </p:nvSpPr>
            <p:spPr>
              <a:xfrm>
                <a:off x="4995720" y="4183200"/>
                <a:ext cx="879480" cy="506160"/>
              </a:xfrm>
              <a:custGeom>
                <a:avLst/>
                <a:gdLst>
                  <a:gd name="textAreaLeft" fmla="*/ 59400 w 879480"/>
                  <a:gd name="textAreaRight" fmla="*/ 820080 w 879480"/>
                  <a:gd name="textAreaTop" fmla="*/ 59400 h 506160"/>
                  <a:gd name="textAreaBottom" fmla="*/ 446760 h 506160"/>
                </a:gdLst>
                <a:ahLst/>
                <a:rect l="textAreaLeft" t="textAreaTop" r="textAreaRight" b="textAreaBottom"/>
                <a:pathLst>
                  <a:path w="3752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33920" y="21600"/>
                    </a:lnTo>
                    <a:arcTo wR="3600" hR="3600" stAng="10800000" swAng="5400000"/>
                    <a:lnTo>
                      <a:pt x="3752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00840" y="4239000"/>
                <a:ext cx="668880" cy="395640"/>
              </a:xfrm>
              <a:prstGeom prst="can">
                <a:avLst>
                  <a:gd name="adj" fmla="val 25000"/>
                </a:avLst>
              </a:prstGeom>
              <a:solidFill>
                <a:srgbClr val="4eaf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eorgia"/>
                  </a:rPr>
                  <a:t>Servic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eorgia"/>
                  </a:rPr>
                  <a:t>Regist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4952880" y="3191040"/>
              <a:ext cx="1001880" cy="84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"/>
            <p:cNvGrpSpPr/>
            <p:nvPr/>
          </p:nvGrpSpPr>
          <p:grpSpPr>
            <a:xfrm>
              <a:off x="4933800" y="5605560"/>
              <a:ext cx="1004760" cy="672480"/>
              <a:chOff x="4933800" y="5605560"/>
              <a:chExt cx="1004760" cy="6724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4933800" y="5605560"/>
                <a:ext cx="879120" cy="504720"/>
                <a:chOff x="4933800" y="5605560"/>
                <a:chExt cx="879120" cy="5047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933800" y="5605560"/>
                  <a:ext cx="879120" cy="504720"/>
                </a:xfrm>
                <a:custGeom>
                  <a:avLst/>
                  <a:gdLst>
                    <a:gd name="textAreaLeft" fmla="*/ 59400 w 879120"/>
                    <a:gd name="textAreaRight" fmla="*/ 819720 w 879120"/>
                    <a:gd name="textAreaTop" fmla="*/ 59400 h 504720"/>
                    <a:gd name="textAreaBottom" fmla="*/ 445320 h 504720"/>
                  </a:gdLst>
                  <a:ahLst/>
                  <a:rect l="textAreaLeft" t="textAreaTop" r="textAreaRight" b="textAreaBottom"/>
                  <a:pathLst>
                    <a:path w="37611" h="21600">
                      <a:moveTo>
                        <a:pt x="3600" y="0"/>
                      </a:moveTo>
                      <a:arcTo wR="3600" hR="3600" stAng="0" swAng="5400000"/>
                      <a:lnTo>
                        <a:pt x="0" y="18000"/>
                      </a:lnTo>
                      <a:arcTo wR="3600" hR="3600" stAng="16200000" swAng="5400000"/>
                      <a:lnTo>
                        <a:pt x="34011" y="21600"/>
                      </a:lnTo>
                      <a:arcTo wR="3600" hR="3600" stAng="10800000" swAng="5400000"/>
                      <a:lnTo>
                        <a:pt x="37611" y="3600"/>
                      </a:lnTo>
                      <a:arcTo wR="3600" hR="3600" stAng="5400000" swAng="5400000"/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038920" y="5661360"/>
                  <a:ext cx="668520" cy="394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4eafb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Georgia"/>
                    </a:rPr>
                    <a:t>Regist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Georgia"/>
                    </a:rPr>
                    <a:t>Servic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059440" y="5773680"/>
                <a:ext cx="879120" cy="504360"/>
                <a:chOff x="5059440" y="5773680"/>
                <a:chExt cx="879120" cy="5043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059440" y="5773680"/>
                  <a:ext cx="879120" cy="504360"/>
                </a:xfrm>
                <a:custGeom>
                  <a:avLst/>
                  <a:gdLst>
                    <a:gd name="textAreaLeft" fmla="*/ 59400 w 879120"/>
                    <a:gd name="textAreaRight" fmla="*/ 819720 w 879120"/>
                    <a:gd name="textAreaTop" fmla="*/ 59400 h 504360"/>
                    <a:gd name="textAreaBottom" fmla="*/ 444960 h 504360"/>
                  </a:gdLst>
                  <a:ahLst/>
                  <a:rect l="textAreaLeft" t="textAreaTop" r="textAreaRight" b="textAreaBottom"/>
                  <a:pathLst>
                    <a:path w="37638" h="21600">
                      <a:moveTo>
                        <a:pt x="3600" y="0"/>
                      </a:moveTo>
                      <a:arcTo wR="3600" hR="3600" stAng="0" swAng="5400000"/>
                      <a:lnTo>
                        <a:pt x="0" y="18000"/>
                      </a:lnTo>
                      <a:arcTo wR="3600" hR="3600" stAng="16200000" swAng="5400000"/>
                      <a:lnTo>
                        <a:pt x="34038" y="21600"/>
                      </a:lnTo>
                      <a:arcTo wR="3600" hR="3600" stAng="10800000" swAng="5400000"/>
                      <a:lnTo>
                        <a:pt x="37638" y="3600"/>
                      </a:lnTo>
                      <a:arcTo wR="3600" hR="3600" stAng="5400000" swAng="5400000"/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164560" y="5829120"/>
                  <a:ext cx="668520" cy="394200"/>
                </a:xfrm>
                <a:prstGeom prst="can">
                  <a:avLst>
                    <a:gd name="adj" fmla="val 25000"/>
                  </a:avLst>
                </a:prstGeom>
                <a:solidFill>
                  <a:srgbClr val="4eafb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Georgia"/>
                    </a:rPr>
                    <a:t>Regist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Georgia"/>
                    </a:rPr>
                    <a:t>Servic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9" name=""/>
          <p:cNvGrpSpPr/>
          <p:nvPr/>
        </p:nvGrpSpPr>
        <p:grpSpPr>
          <a:xfrm>
            <a:off x="1251000" y="142920"/>
            <a:ext cx="2444760" cy="2781360"/>
            <a:chOff x="1251000" y="142920"/>
            <a:chExt cx="2444760" cy="2781360"/>
          </a:xfrm>
        </p:grpSpPr>
        <p:sp>
          <p:nvSpPr>
            <p:cNvPr id="230" name=""/>
            <p:cNvSpPr/>
            <p:nvPr/>
          </p:nvSpPr>
          <p:spPr>
            <a:xfrm>
              <a:off x="1251000" y="142920"/>
              <a:ext cx="1592280" cy="1630440"/>
            </a:xfrm>
            <a:custGeom>
              <a:avLst/>
              <a:gdLst>
                <a:gd name="textAreaLeft" fmla="*/ 30960 w 1592280"/>
                <a:gd name="textAreaRight" fmla="*/ 1561320 w 1592280"/>
                <a:gd name="textAreaTop" fmla="*/ 30960 h 1630440"/>
                <a:gd name="textAreaBottom" fmla="*/ 1599480 h 1630440"/>
              </a:gdLst>
              <a:ahLst/>
              <a:rect l="textAreaLeft" t="textAreaTop" r="textAreaRight" b="textAreaBottom"/>
              <a:pathLst>
                <a:path w="21600" h="22118">
                  <a:moveTo>
                    <a:pt x="1449" y="0"/>
                  </a:moveTo>
                  <a:arcTo wR="1449" hR="1449" stAng="16200000" swAng="-5400000"/>
                  <a:lnTo>
                    <a:pt x="0" y="20669"/>
                  </a:lnTo>
                  <a:arcTo wR="1449" hR="1449" stAng="10800000" swAng="-5400000"/>
                  <a:lnTo>
                    <a:pt x="20151" y="22118"/>
                  </a:lnTo>
                  <a:arcTo wR="1449" hR="1449" stAng="5400000" swAng="-5400000"/>
                  <a:lnTo>
                    <a:pt x="21600" y="1449"/>
                  </a:lnTo>
                  <a:arcTo wR="1449" hR="1449" stAng="0" swAng="-5400000"/>
                  <a:close/>
                </a:path>
              </a:pathLst>
            </a:custGeom>
            <a:solidFill>
              <a:srgbClr val="5eae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IF 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000" y="649440"/>
              <a:ext cx="517320" cy="842760"/>
            </a:xfrm>
            <a:prstGeom prst="rect">
              <a:avLst/>
            </a:prstGeom>
            <a:solidFill>
              <a:srgbClr val="4ea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35080" y="649440"/>
              <a:ext cx="519120" cy="842760"/>
            </a:xfrm>
            <a:prstGeom prst="rect">
              <a:avLst/>
            </a:prstGeom>
            <a:solidFill>
              <a:srgbClr val="4ea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istration T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16360" y="874800"/>
              <a:ext cx="779400" cy="393480"/>
            </a:xfrm>
            <a:prstGeom prst="leftRightArrow">
              <a:avLst>
                <a:gd name="adj1" fmla="val 50000"/>
                <a:gd name="adj2" fmla="val 394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32000" y="476280"/>
              <a:ext cx="1368360" cy="2448000"/>
            </a:xfrm>
            <a:prstGeom prst="downArrowCallout">
              <a:avLst>
                <a:gd name="adj1" fmla="val 24789"/>
                <a:gd name="adj2" fmla="val 21431"/>
                <a:gd name="adj3" fmla="val 19447"/>
                <a:gd name="adj4" fmla="val 48764"/>
              </a:avLst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700360" y="1916280"/>
            <a:ext cx="5545080" cy="4679640"/>
            <a:chOff x="2700360" y="1916280"/>
            <a:chExt cx="5545080" cy="4679640"/>
          </a:xfrm>
        </p:grpSpPr>
        <p:sp>
          <p:nvSpPr>
            <p:cNvPr id="236" name=""/>
            <p:cNvSpPr/>
            <p:nvPr/>
          </p:nvSpPr>
          <p:spPr>
            <a:xfrm rot="5400000">
              <a:off x="2889360" y="2879640"/>
              <a:ext cx="863280" cy="37800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66" y="0"/>
                  </a:lnTo>
                  <a:lnTo>
                    <a:pt x="21600" y="10800"/>
                  </a:lnTo>
                  <a:lnTo>
                    <a:pt x="1906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g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94320" y="1932120"/>
              <a:ext cx="1851120" cy="4663800"/>
            </a:xfrm>
            <a:prstGeom prst="flowChartAlternateProcess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00360" y="1916280"/>
              <a:ext cx="4197240" cy="792000"/>
            </a:xfrm>
            <a:prstGeom prst="flowChartAlternateProcess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64000" y="2133720"/>
              <a:ext cx="2808360" cy="43164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</a:rPr>
                <a:t>System Monitoring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16720" y="3645000"/>
              <a:ext cx="1631880" cy="2808360"/>
            </a:xfrm>
            <a:prstGeom prst="flowChartAlternateProcess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eorgia"/>
                </a:rPr>
                <a:t>Persist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43280" y="2133720"/>
              <a:ext cx="1112760" cy="44928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</a:rPr>
                <a:t>Schedu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40360" y="2133720"/>
              <a:ext cx="1054080" cy="44928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</a:rPr>
                <a:t>Appro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59640" y="4221000"/>
              <a:ext cx="1377720" cy="44928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TB Service Regis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59640" y="5734080"/>
              <a:ext cx="1377720" cy="4507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TB Data Regis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34720" y="2757600"/>
              <a:ext cx="1306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Georgia"/>
                </a:rPr>
                <a:t>Testb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Georgia"/>
                </a:rPr>
                <a:t>Backe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Georgia"/>
                </a:rPr>
                <a:t>Compon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3932640" y="2915280"/>
              <a:ext cx="792000" cy="3776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66" y="0"/>
                  </a:lnTo>
                  <a:lnTo>
                    <a:pt x="21600" y="10800"/>
                  </a:lnTo>
                  <a:lnTo>
                    <a:pt x="1906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3391200" y="2880360"/>
              <a:ext cx="863280" cy="37620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66" y="0"/>
                  </a:lnTo>
                  <a:lnTo>
                    <a:pt x="21600" y="10800"/>
                  </a:lnTo>
                  <a:lnTo>
                    <a:pt x="1906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g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780000" y="115920"/>
            <a:ext cx="4435200" cy="1935000"/>
            <a:chOff x="3780000" y="115920"/>
            <a:chExt cx="4435200" cy="1935000"/>
          </a:xfrm>
        </p:grpSpPr>
        <p:grpSp>
          <p:nvGrpSpPr>
            <p:cNvPr id="249" name=""/>
            <p:cNvGrpSpPr/>
            <p:nvPr/>
          </p:nvGrpSpPr>
          <p:grpSpPr>
            <a:xfrm>
              <a:off x="3780000" y="115920"/>
              <a:ext cx="4435200" cy="1657440"/>
              <a:chOff x="3780000" y="115920"/>
              <a:chExt cx="4435200" cy="1657440"/>
            </a:xfrm>
          </p:grpSpPr>
          <p:sp>
            <p:nvSpPr>
              <p:cNvPr id="250" name=""/>
              <p:cNvSpPr/>
              <p:nvPr/>
            </p:nvSpPr>
            <p:spPr>
              <a:xfrm>
                <a:off x="3780000" y="115920"/>
                <a:ext cx="4435200" cy="1657440"/>
              </a:xfrm>
              <a:prstGeom prst="roundRect">
                <a:avLst>
                  <a:gd name="adj" fmla="val 6708"/>
                </a:avLst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estbed Appli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43280" y="476280"/>
                <a:ext cx="2102040" cy="1152360"/>
              </a:xfrm>
              <a:prstGeom prst="flowChartAlternateProcess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</a:rPr>
                  <a:t>Experim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16360" y="736560"/>
                <a:ext cx="436680" cy="8082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ign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736560"/>
                <a:ext cx="434880" cy="8082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13560" y="736560"/>
                <a:ext cx="434880" cy="8082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Im/Expor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16600" y="476280"/>
                <a:ext cx="590760" cy="1152360"/>
              </a:xfrm>
              <a:prstGeom prst="flowChartAlternateProcess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08760" y="736560"/>
                <a:ext cx="436680" cy="820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ag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458120" y="476280"/>
                <a:ext cx="644400" cy="1152360"/>
              </a:xfrm>
              <a:prstGeom prst="flowChartAlternateProcess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</a:rPr>
                  <a:t>Servi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531200" y="733320"/>
                <a:ext cx="498240" cy="8240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ag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24360" y="476280"/>
                <a:ext cx="647640" cy="1120680"/>
              </a:xfrm>
              <a:prstGeom prst="flowChartAlternateProcess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</a:rPr>
                  <a:t>Gener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95640" y="765000"/>
                <a:ext cx="462240" cy="792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dminist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210360" y="736560"/>
                <a:ext cx="436680" cy="8082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row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851280" y="404640"/>
              <a:ext cx="4300560" cy="1646280"/>
            </a:xfrm>
            <a:prstGeom prst="downArrowCallout">
              <a:avLst>
                <a:gd name="adj1" fmla="val 17852"/>
                <a:gd name="adj2" fmla="val 16290"/>
                <a:gd name="adj3" fmla="val 12296"/>
                <a:gd name="adj4" fmla="val 78912"/>
              </a:avLst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ment Designer component |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50920" y="1538280"/>
            <a:ext cx="7561440" cy="4275000"/>
          </a:xfrm>
          <a:prstGeom prst="roundRect">
            <a:avLst>
              <a:gd name="adj" fmla="val 670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Testbed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24040" y="2467080"/>
            <a:ext cx="358308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Exper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4788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9712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46720" y="3139920"/>
            <a:ext cx="7412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/Ex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7720" y="2467080"/>
            <a:ext cx="100800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85040" y="3139920"/>
            <a:ext cx="744480" cy="211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21400" y="2467080"/>
            <a:ext cx="109872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240" y="3132000"/>
            <a:ext cx="851040" cy="2124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97160" y="2467080"/>
            <a:ext cx="1104840" cy="2892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19200" y="3213000"/>
            <a:ext cx="787320" cy="2043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9416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5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we need Testbeds in Digital Preserv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ill the PLANETS Testbed deliv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Testbed within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TS Testbed services for Digital Preservation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bed Methodology, Experiment 6-ste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bed Softwar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be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terface Mock-Up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Designer component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s the user trough design of an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terface for steps 1–3 of the experi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basic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whether experiment is formal or 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ype of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ation plan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predefined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Designer component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with several other Testbed components, most notably the service manager and data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with Servic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 PLANETS Service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and configuration of (wrapped) tools for Preservation Action (PA) and/or Preservation Characterisation (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“: PA/PC tool exhibiting well-defined functionality through a PLANETS IF compliant web service wra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with Data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for handling data input and output via API for accessing the IF Data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ment Designer component |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ation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number of out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ation of Outcomes of an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appear at the evaluation stage of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 stored as BPEL file and handed over to Approva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 existing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ewing of experiments in “passive” mode (read-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nting on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-use and Repeating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-use certain aspects of existing experiment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eat entire experiments with origi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Designer component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ing of BPEL workfl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xperiments are executed as BPEL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” migration and characterisation experi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PEL files are created within Testbed based on tem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three orchestrated services (e.g. characterisation followed by migration followed by characteris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workflows are created by using the IF Workflow Designer (or any other BPEL tool) and imported into the Test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does not process the actual execution of an experi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d within the PLANETS Interoperability Framework by the Workflow Execution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80920" y="324000"/>
            <a:ext cx="621216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ment Approval &amp; Scheduling |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72080" y="3448080"/>
            <a:ext cx="4309920" cy="2817720"/>
          </a:xfrm>
          <a:prstGeom prst="flowChartAlternateProcess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41280" y="3430440"/>
            <a:ext cx="5178600" cy="930600"/>
          </a:xfrm>
          <a:prstGeom prst="flowChartAlternateProcess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27720" y="3686040"/>
            <a:ext cx="3463920" cy="506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ystem Monitoring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37120" y="4308480"/>
            <a:ext cx="2013120" cy="185112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Persist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17680" y="3686040"/>
            <a:ext cx="1373040" cy="52704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17880" y="3686040"/>
            <a:ext cx="1299960" cy="52704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ppro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49800" y="4784760"/>
            <a:ext cx="1698840" cy="52704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B Service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49800" y="5418000"/>
            <a:ext cx="1698840" cy="5302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B Data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00960" y="4361040"/>
            <a:ext cx="130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Georgia"/>
              </a:rPr>
              <a:t>Testb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Georgia"/>
              </a:rPr>
              <a:t>Back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Georgia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73280" y="1314360"/>
            <a:ext cx="5472000" cy="1947960"/>
          </a:xfrm>
          <a:prstGeom prst="roundRect">
            <a:avLst>
              <a:gd name="adj" fmla="val 670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Testbed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38520" y="1738440"/>
            <a:ext cx="2592360" cy="135396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Exper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28880" y="2044800"/>
            <a:ext cx="538200" cy="949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43400" y="2044800"/>
            <a:ext cx="536400" cy="949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57920" y="2044800"/>
            <a:ext cx="536400" cy="949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/Ex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19800" y="1738440"/>
            <a:ext cx="728640" cy="135396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32480" y="2044800"/>
            <a:ext cx="540000" cy="963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10360" y="1738440"/>
            <a:ext cx="795240" cy="135396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01080" y="2039760"/>
            <a:ext cx="614160" cy="968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51120" y="1738440"/>
            <a:ext cx="798480" cy="131580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40040" y="2077920"/>
            <a:ext cx="569880" cy="930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72080" y="2044800"/>
            <a:ext cx="538200" cy="949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60760" y="1654200"/>
            <a:ext cx="5305320" cy="1935000"/>
          </a:xfrm>
          <a:prstGeom prst="downArrowCallout">
            <a:avLst>
              <a:gd name="adj1" fmla="val 18737"/>
              <a:gd name="adj2" fmla="val 17098"/>
              <a:gd name="adj3" fmla="val 12296"/>
              <a:gd name="adj4" fmla="val 78912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500" fill="hold"/>
                                        <p:tgtEl>
                                          <p:spTgt spid="3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7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500" fill="hold"/>
                                        <p:tgtEl>
                                          <p:spTgt spid="2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5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5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30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Approval &amp; Scheduling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onent handles technical approval of experiments by the system and/or the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use of information provided by the experimenter and by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monito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onent –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number of out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PU / Memory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s /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Disk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onent allows administrator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date/time for an experiment to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a maximum ru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progress of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ment Evaluation |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0920" y="1538280"/>
            <a:ext cx="7561440" cy="4275000"/>
          </a:xfrm>
          <a:prstGeom prst="roundRect">
            <a:avLst>
              <a:gd name="adj" fmla="val 670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Testbed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24040" y="2467080"/>
            <a:ext cx="358308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Exper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4788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9712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46720" y="3139920"/>
            <a:ext cx="7412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/Ex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27720" y="2467080"/>
            <a:ext cx="100800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85040" y="3139920"/>
            <a:ext cx="744480" cy="211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21400" y="2467080"/>
            <a:ext cx="109872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5240" y="3132000"/>
            <a:ext cx="851040" cy="2124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97160" y="2467080"/>
            <a:ext cx="1104840" cy="2892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19200" y="3213000"/>
            <a:ext cx="787320" cy="2043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9416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5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Evaluation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files and results that have been produced during the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experiment conclusions in a structured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results based on the criteria defined during experiment desig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ment Importer / Exporter |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50920" y="1538280"/>
            <a:ext cx="7561440" cy="4275000"/>
          </a:xfrm>
          <a:prstGeom prst="roundRect">
            <a:avLst>
              <a:gd name="adj" fmla="val 670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Testbed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24040" y="2467080"/>
            <a:ext cx="358308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Exper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788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9712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46720" y="3139920"/>
            <a:ext cx="7412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/Ex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7720" y="2467080"/>
            <a:ext cx="100800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85040" y="3139920"/>
            <a:ext cx="744480" cy="211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21400" y="2467080"/>
            <a:ext cx="109872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45240" y="3132000"/>
            <a:ext cx="851040" cy="2124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7160" y="2467080"/>
            <a:ext cx="1104840" cy="2892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19200" y="3213000"/>
            <a:ext cx="787320" cy="2043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9416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5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Importer / Exporter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BPEL files from existing experiments and make them available for 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oad BPEL files to the Test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whole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predefined workflows as part of the experiments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validity of the BPEL fil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data contained within BPE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periment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experiments in PDF format created on-the-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properties, tools used, data used, information about approval process, information about execution of experiment, experiments results, validation of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54480" y="621972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ocal de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65920" y="6219720"/>
            <a:ext cx="140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 </a:t>
            </a:r>
            <a:r>
              <a:rPr b="0" lang="de-AT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e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we need Testbe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igital Preserv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about digital preservation rapidly increased in recent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approaches to digital preservation implemented by various programs an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ber of digital preservation tools and services (e.g. for migration and characterization)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systematization, benchmarking and evaluation urgent in many field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analysis of current and potential preserva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and benchmarking of characterisation and migr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the role of emul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1719360"/>
            <a:ext cx="117180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wse Experi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90560" y="1719360"/>
            <a:ext cx="117180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wse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20920" y="1719360"/>
            <a:ext cx="117180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Experi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07000" y="1719360"/>
            <a:ext cx="117144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Experi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81640" y="1719360"/>
            <a:ext cx="117180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ws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65920" y="1719360"/>
            <a:ext cx="117180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Experi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76640" y="324000"/>
            <a:ext cx="1171440" cy="855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 / Log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07000" y="324000"/>
            <a:ext cx="1171440" cy="855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2520" y="3024360"/>
            <a:ext cx="1171440" cy="855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Experiment Det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1080" y="4329000"/>
            <a:ext cx="117144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tat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01640" y="4329000"/>
            <a:ext cx="117180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 Experiment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02320" y="3044880"/>
            <a:ext cx="117144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 Desig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76640" y="4329000"/>
            <a:ext cx="117144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loa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89360" y="4316400"/>
            <a:ext cx="117180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86480" y="5591160"/>
            <a:ext cx="117144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Experimen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27720" y="5589720"/>
            <a:ext cx="1171800" cy="855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 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81640" y="3068640"/>
            <a:ext cx="117180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48" idx="3"/>
            <a:endCxn id="349" idx="1"/>
          </p:cNvCxnSpPr>
          <p:nvPr/>
        </p:nvCxnSpPr>
        <p:spPr>
          <a:xfrm>
            <a:off x="4361040" y="752040"/>
            <a:ext cx="334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42" idx="2"/>
            <a:endCxn id="350" idx="0"/>
          </p:cNvCxnSpPr>
          <p:nvPr/>
        </p:nvCxnSpPr>
        <p:spPr>
          <a:xfrm>
            <a:off x="764640" y="2587320"/>
            <a:ext cx="3960" cy="424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0" idx="2"/>
            <a:endCxn id="351" idx="0"/>
          </p:cNvCxnSpPr>
          <p:nvPr/>
        </p:nvCxnSpPr>
        <p:spPr>
          <a:xfrm flipH="1">
            <a:off x="766440" y="3892320"/>
            <a:ext cx="2160" cy="424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49" idx="2"/>
            <a:endCxn id="345" idx="0"/>
          </p:cNvCxnSpPr>
          <p:nvPr/>
        </p:nvCxnSpPr>
        <p:spPr>
          <a:xfrm>
            <a:off x="5292360" y="1192320"/>
            <a:ext cx="1080" cy="514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49" idx="2"/>
            <a:endCxn id="342" idx="0"/>
          </p:cNvCxnSpPr>
          <p:nvPr/>
        </p:nvCxnSpPr>
        <p:spPr>
          <a:xfrm rot="5400000">
            <a:off x="2771280" y="-814680"/>
            <a:ext cx="514440" cy="4528440"/>
          </a:xfrm>
          <a:prstGeom prst="bentConnector3">
            <a:avLst>
              <a:gd name="adj1" fmla="val 49719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49" idx="2"/>
            <a:endCxn id="343" idx="0"/>
          </p:cNvCxnSpPr>
          <p:nvPr/>
        </p:nvCxnSpPr>
        <p:spPr>
          <a:xfrm rot="5400000">
            <a:off x="3527280" y="-58680"/>
            <a:ext cx="514440" cy="3016800"/>
          </a:xfrm>
          <a:prstGeom prst="bentConnector3">
            <a:avLst>
              <a:gd name="adj1" fmla="val 49719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49" idx="2"/>
            <a:endCxn id="344" idx="0"/>
          </p:cNvCxnSpPr>
          <p:nvPr/>
        </p:nvCxnSpPr>
        <p:spPr>
          <a:xfrm rot="5400000">
            <a:off x="4292280" y="706320"/>
            <a:ext cx="514440" cy="1486440"/>
          </a:xfrm>
          <a:prstGeom prst="bentConnector3">
            <a:avLst>
              <a:gd name="adj1" fmla="val 49719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49" idx="2"/>
            <a:endCxn id="346" idx="0"/>
          </p:cNvCxnSpPr>
          <p:nvPr/>
        </p:nvCxnSpPr>
        <p:spPr>
          <a:xfrm flipH="1" rot="16200000">
            <a:off x="5823000" y="661680"/>
            <a:ext cx="514440" cy="1575360"/>
          </a:xfrm>
          <a:prstGeom prst="bentConnector3">
            <a:avLst>
              <a:gd name="adj1" fmla="val 49719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49" idx="2"/>
            <a:endCxn id="347" idx="0"/>
          </p:cNvCxnSpPr>
          <p:nvPr/>
        </p:nvCxnSpPr>
        <p:spPr>
          <a:xfrm flipH="1" rot="16200000">
            <a:off x="6565320" y="-80640"/>
            <a:ext cx="514440" cy="3060000"/>
          </a:xfrm>
          <a:prstGeom prst="bentConnector3">
            <a:avLst>
              <a:gd name="adj1" fmla="val 49719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44" idx="2"/>
            <a:endCxn id="353" idx="0"/>
          </p:cNvCxnSpPr>
          <p:nvPr/>
        </p:nvCxnSpPr>
        <p:spPr>
          <a:xfrm flipH="1" rot="16200000">
            <a:off x="4325040" y="2068920"/>
            <a:ext cx="445320" cy="1481760"/>
          </a:xfrm>
          <a:prstGeom prst="bentConnector3">
            <a:avLst>
              <a:gd name="adj1" fmla="val 49595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45" idx="2"/>
            <a:endCxn id="353" idx="0"/>
          </p:cNvCxnSpPr>
          <p:nvPr/>
        </p:nvCxnSpPr>
        <p:spPr>
          <a:xfrm flipH="1">
            <a:off x="5287320" y="2587320"/>
            <a:ext cx="5400" cy="445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46" idx="2"/>
            <a:endCxn id="358" idx="0"/>
          </p:cNvCxnSpPr>
          <p:nvPr/>
        </p:nvCxnSpPr>
        <p:spPr>
          <a:xfrm>
            <a:off x="6867000" y="2587320"/>
            <a:ext cx="1080" cy="469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53" idx="2"/>
            <a:endCxn id="355" idx="0"/>
          </p:cNvCxnSpPr>
          <p:nvPr/>
        </p:nvCxnSpPr>
        <p:spPr>
          <a:xfrm flipH="1">
            <a:off x="5274720" y="3912840"/>
            <a:ext cx="13320" cy="391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55" idx="2"/>
            <a:endCxn id="356" idx="0"/>
          </p:cNvCxnSpPr>
          <p:nvPr/>
        </p:nvCxnSpPr>
        <p:spPr>
          <a:xfrm flipH="1">
            <a:off x="5271480" y="5184720"/>
            <a:ext cx="3960" cy="3945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56" idx="3"/>
            <a:endCxn id="357" idx="1"/>
          </p:cNvCxnSpPr>
          <p:nvPr/>
        </p:nvCxnSpPr>
        <p:spPr>
          <a:xfrm flipV="1">
            <a:off x="5870160" y="6017400"/>
            <a:ext cx="4453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53" idx="1"/>
            <a:endCxn id="354" idx="0"/>
          </p:cNvCxnSpPr>
          <p:nvPr/>
        </p:nvCxnSpPr>
        <p:spPr>
          <a:xfrm flipV="1" rot="10800000">
            <a:off x="3761640" y="3472920"/>
            <a:ext cx="927720" cy="84384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50" idx="3"/>
            <a:endCxn id="352" idx="0"/>
          </p:cNvCxnSpPr>
          <p:nvPr/>
        </p:nvCxnSpPr>
        <p:spPr>
          <a:xfrm>
            <a:off x="1366920" y="3452400"/>
            <a:ext cx="821520" cy="86436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162000" y="189000"/>
            <a:ext cx="6030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imen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6280" y="1089000"/>
            <a:ext cx="252108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 / 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TS Testbed: controlled environment for experimentation that allows benchmarking of preservation tools, service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release to be expected in February / March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used to experiment with the preservation tools and services developed in PLA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2nd Phase (by end 2008) Testbed will offer services to organisations outside PLAN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institutions to test preservation tools and services against benchmark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stitutions to validate their preservation plans against their policies &amp; content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Testbed Instance hosted by University of Glasgow (HAT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d hardware with sufficient processing power and storag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PLANETS Test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80920" y="338436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x Kaiser, Austrian National Library</a:t>
            </a:r>
            <a:br>
              <a:rPr sz="2400"/>
            </a:b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x.kaiser@onb.ac.a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b.ac.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1106640" y="1330200"/>
            <a:ext cx="2700360" cy="1090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601640" y="3699000"/>
            <a:ext cx="3195720" cy="936360"/>
          </a:xfrm>
          <a:prstGeom prst="wedgeRoundRectCallout">
            <a:avLst>
              <a:gd name="adj1" fmla="val -56356"/>
              <a:gd name="adj2" fmla="val 147120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02360" y="2573280"/>
            <a:ext cx="3941640" cy="1384200"/>
          </a:xfrm>
          <a:prstGeom prst="cloudCallout">
            <a:avLst>
              <a:gd name="adj1" fmla="val -58217"/>
              <a:gd name="adj2" fmla="val 10401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wePreserv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33280"/>
            <a:ext cx="3333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we need Testbe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igital Preserv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8263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wan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scientific research in digital pre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preservation approaches in diverse “real life”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duplication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se use of invest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dicated research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allows the systematic execution of experiments by differ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experiment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a formalized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reproduc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ully documented and accessible for further analysis and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bed for Digital Pre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rolled environment for experimentation and evaluation, with metrics and benchmark content that allow comparison of preservation tools and strategi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Test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80920" y="1224000"/>
            <a:ext cx="80121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for objective evaluation of preservation tools and strateg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digital preservation experi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the experiment, select data and tools, specify resources and evaluation criteria, run the experiment, evaluate results against criteria, compare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support for validation of preservation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 tool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consis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, data storage, PLANETS software, Testb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 and ot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provide service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NETS project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servation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developer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estbed in PLANETS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nd validate the technical solutions and approaches developed in PLAN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controlled hardware and software environment for testing and evalua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rvation 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gration, emulation)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is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experiments data in registries for further analysis and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 the validation of the effectiveness of different digit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rva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e of Testbed in PLANETS |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the suitability of the approaches across „real life“ scenarios in various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e applicability of the outcomes of PLANETS in existing workflows and organisational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e their efficiency in providing practicable solutions for organisations engaged in digital pre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PLANETS Testbed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Preservation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econd phase, the PLANETS Testbed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 services to organisations outside PLAN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institutions to test preservation tools and services against benchmark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 institutions to validate their preservation plans against their policies &amp; content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developers and third party vendors to submit tools for benchmarking and cert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e the suitability of their tools in preservation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1:59:06Z</dcterms:created>
  <dc:creator>Max Kaiser</dc:creator>
  <dc:description/>
  <dc:language>en-US</dc:language>
  <cp:lastModifiedBy>Max Kaiser</cp:lastModifiedBy>
  <cp:lastPrinted>2005-10-12T14:04:19Z</cp:lastPrinted>
  <dcterms:modified xsi:type="dcterms:W3CDTF">2007-09-06T06:57:58Z</dcterms:modified>
  <cp:revision>155</cp:revision>
  <dc:subject/>
  <dc:title>PLANETS Testbed</dc:title>
</cp:coreProperties>
</file>