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CB0E-E722-4379-BF60-25A49CF26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F0EC-0991-4061-A52D-7BADABED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B46E-586C-43DA-8332-4C266A88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43D5-60AE-43FE-8A2D-2F317FEA7C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4E138-3C5A-40D9-8E0C-C42FE7F2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E4FD9-8598-45B0-AF58-0E9EB9F0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6CA11-3F8B-43E5-9417-14EB8667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B0B6A-10A3-4E45-AE3E-48F9102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AEE9F-88BD-46CA-A9E0-DE1CA04C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E439A-CFE8-4FE2-98D6-970D9994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EC10-4EDE-4CDF-B111-AED04434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2DD0-48C5-42C3-B892-3BD0D7D4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1B050-952C-48AC-B02A-EAC1EAD9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363AB-2210-4D98-B544-34B08153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92C79-3D3D-42F7-BF11-D248AB59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192A-89DC-4EE7-B57B-0A2B0058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F80DC-9C3C-4F90-8E7E-8009110C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68A2-24E8-4E6B-BC95-A43BB276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AE9E-DDEC-4E81-8A71-A83EA27B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F3DD-0B66-4937-A4F0-177ACC4D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AEFD-A9EB-4ADA-A01B-BC6CA95C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D700-E172-429F-8793-0A202630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E729-D40A-4542-8A85-601C442F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E42A-8ED4-4709-AF42-15E35417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827360" y="6381360"/>
            <a:ext cx="123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558960" y="6597360"/>
            <a:ext cx="132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623E-E278-400B-BB87-416FF90DCF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245360" y="6345360"/>
            <a:ext cx="1467000" cy="5936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rcRect l="0" t="0" r="0" b="71097"/>
          <a:stretch/>
        </p:blipFill>
        <p:spPr>
          <a:xfrm>
            <a:off x="476280" y="6381720"/>
            <a:ext cx="72072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78B3-AB68-4DBD-9517-EEA760CA71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lanets-project.e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ets: Integrated services for digital pre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Farquh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n Hockx-Y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32360" y="5013360"/>
            <a:ext cx="392436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1AB2A-52BE-4336-B5CE-78C7DE1C63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 Ingest original contributions into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pository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Characterise objects according to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XCDL/XCEL, polic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 Convert undesirable objects into desirabl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PLATO to build preserva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ction registry to identify convers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stbed experimental data to infor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workflow, data registry, run services to conver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4: Perform automated QA 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XCDL/XCEL, comparis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residu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5: Ingest conversions into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pository ada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relationship to originals, workflow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81B1-F242-4372-A640-706662A31D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2: Changes in us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policy: 90% of users can access all published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ge profile: 98% of users can not view dv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nt profile: 5% of published reports in dvi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possible plans (using PLATO) incl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to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to t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users with viewer plu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on-the-fly conversion to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plan (using Plato, testbed empiric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ch as convert to PDF using dvi2ps | ps2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t content (using data regi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A results (using comparison ser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gest results into repository (using adap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CEBB-BDC5-48E3-8C81-45D83C528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33600" y="1700280"/>
            <a:ext cx="5421240" cy="493380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71000" y="1855800"/>
            <a:ext cx="1983600" cy="1753920"/>
            <a:chOff x="1971000" y="1855800"/>
            <a:chExt cx="1983600" cy="1753920"/>
          </a:xfrm>
        </p:grpSpPr>
        <p:sp>
          <p:nvSpPr>
            <p:cNvPr id="119" name=""/>
            <p:cNvSpPr/>
            <p:nvPr/>
          </p:nvSpPr>
          <p:spPr>
            <a:xfrm>
              <a:off x="2009880" y="1855800"/>
              <a:ext cx="1944720" cy="1753920"/>
            </a:xfrm>
            <a:custGeom>
              <a:avLst/>
              <a:gdLst/>
              <a:ahLst/>
              <a:rect l="l" t="t" r="r" b="b"/>
              <a:pathLst>
                <a:path w="1089" h="862">
                  <a:moveTo>
                    <a:pt x="0" y="317"/>
                  </a:moveTo>
                  <a:lnTo>
                    <a:pt x="0" y="862"/>
                  </a:lnTo>
                  <a:lnTo>
                    <a:pt x="771" y="862"/>
                  </a:lnTo>
                  <a:lnTo>
                    <a:pt x="771" y="590"/>
                  </a:lnTo>
                  <a:lnTo>
                    <a:pt x="1089" y="590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71000" y="1986120"/>
              <a:ext cx="1694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eservation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111400" y="313848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014560" y="4175280"/>
            <a:ext cx="1944720" cy="1753920"/>
          </a:xfrm>
          <a:custGeom>
            <a:avLst/>
            <a:gdLst/>
            <a:ahLst/>
            <a:rect l="l" t="t" r="r" b="b"/>
            <a:pathLst>
              <a:path w="1089" h="862">
                <a:moveTo>
                  <a:pt x="0" y="317"/>
                </a:moveTo>
                <a:lnTo>
                  <a:pt x="0" y="862"/>
                </a:lnTo>
                <a:lnTo>
                  <a:pt x="771" y="862"/>
                </a:lnTo>
                <a:lnTo>
                  <a:pt x="771" y="590"/>
                </a:lnTo>
                <a:lnTo>
                  <a:pt x="1089" y="590"/>
                </a:lnTo>
                <a:lnTo>
                  <a:pt x="1089" y="0"/>
                </a:lnTo>
                <a:lnTo>
                  <a:pt x="0" y="0"/>
                </a:lnTo>
                <a:lnTo>
                  <a:pt x="0" y="408"/>
                </a:lnTo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44000" y="479592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haracte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60560" y="360756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37080" y="1859040"/>
            <a:ext cx="1944720" cy="4068720"/>
          </a:xfrm>
          <a:custGeom>
            <a:avLst/>
            <a:gdLst/>
            <a:ahLst/>
            <a:rect l="l" t="t" r="r" b="b"/>
            <a:pathLst>
              <a:path w="1225" h="2563">
                <a:moveTo>
                  <a:pt x="8" y="754"/>
                </a:moveTo>
                <a:lnTo>
                  <a:pt x="8" y="0"/>
                </a:lnTo>
                <a:lnTo>
                  <a:pt x="1225" y="0"/>
                </a:lnTo>
                <a:lnTo>
                  <a:pt x="1225" y="2563"/>
                </a:lnTo>
                <a:lnTo>
                  <a:pt x="0" y="2563"/>
                </a:lnTo>
                <a:lnTo>
                  <a:pt x="0" y="1809"/>
                </a:lnTo>
                <a:lnTo>
                  <a:pt x="430" y="1809"/>
                </a:lnTo>
                <a:lnTo>
                  <a:pt x="430" y="754"/>
                </a:lnTo>
                <a:lnTo>
                  <a:pt x="8" y="75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17160" y="191916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1360" y="3076560"/>
            <a:ext cx="1787760" cy="163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est Bed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valuation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41720" y="4171680"/>
            <a:ext cx="222120" cy="612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90880" y="3600360"/>
            <a:ext cx="222120" cy="6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243680" y="4453560"/>
            <a:ext cx="488880" cy="1055880"/>
          </a:xfrm>
          <a:prstGeom prst="upArrow">
            <a:avLst>
              <a:gd name="adj1" fmla="val 50000"/>
              <a:gd name="adj2" fmla="val 5399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 rot="5400000">
            <a:off x="3780720" y="50889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863960"/>
            <a:ext cx="6120" cy="22248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59400" y="5499000"/>
            <a:ext cx="612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231440" y="16725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5400000">
            <a:off x="3786840" y="220464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56160" y="2616120"/>
            <a:ext cx="648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40200" y="2089080"/>
            <a:ext cx="6480" cy="222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68760" y="24732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51480" y="53784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7680" y="598968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nteroperabil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7046640" y="1763280"/>
            <a:ext cx="1646280" cy="9003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7046640" y="3024360"/>
            <a:ext cx="1646280" cy="90000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O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002000" y="4373640"/>
            <a:ext cx="1646280" cy="90000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F275-8B65-4A9F-9F4A-D565261217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ets methods, tools, and services will help organisations diagnose and treat problems with their digit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levels of automation and scalable components will reduce costs and impro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irical data will enable improved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 out more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lanets-project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7446-125C-458A-B42B-637600AEC1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some of the types of problems that Planets is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otivations fo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in it for 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some typical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B0FB-53CB-451A-AC3D-598364CA7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ing digital information hurts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searcher donates his data, notes,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university IP officer wants to defend a patent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iographer wants review the unpublishe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rmer student wants to revive a line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ctor finds a key 1987 clinical study in digit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tries to open the ‘dvi’ file, but ca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mall business owner wants to market the energy saving device she developed in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doesn’t have the applications to read the documents, spread-sheets, and CAD dra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C637-7C56-45DA-A0B7-8E9CB4DC0D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ing digital information costs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il company collected extensive data for a reservoir and wants to exploit it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ocuments and data are held in v1 of an integrated management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now use v9 and can’t read or access thei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 are difficult and expensive to rep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of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ultiple hardware/software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46640" y="140328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2360" y="4238640"/>
            <a:ext cx="39146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445E-C888-4B4E-BC3C-BE12C56507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is th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ouched by digital preservation proble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medium sized ente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corpo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libraries, faculties, instit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, regional, national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erson or organisation that keeps digital material for more than 15 y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 suggest Europe loses €3bn per year in busines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E61A-CD69-4572-8EF8-08F72BB37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tional libraries &amp;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legal responsibility and the legislative framework to safeguard digital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been collecting digital documents and records since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 that meeting the challenge of preserving access goes beyond the capabilities of any single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limited ability to ensure that today’s digital information will be accessible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with research &amp; ICT is a 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pragmatic solutions here and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ation and access over the long term is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ution that fails for content holders fails for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B2AA-7D4B-4D5C-B5B5-89CB54C946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ross-disciplinar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frameworks still un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potential impact for a broad range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echnology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ypes: Content creation application vendors; System integrators; Produc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introduce innovative services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increase competi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rket is emerging – personal and corp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vendors with th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A8F0-2309-40B1-BFC5-DBE57C41EF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in it for … The British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ets will provi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 component of our digital preservation solution”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chard Boulderstone, BL Director, 15/06/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ets will enable u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 our digital collections against our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diagnose problems in our digital col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different treatment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nd implement treatment for a wide range of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the treatment was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solutions work through empirical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ncourage vendors and service providers to provide these capabilities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455E-E80C-4541-A635-9B3249BB99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1: D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ientist donates her research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ing back thirty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s, technical reports, notes in many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researc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tools that implement research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ossible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versity IP officer wants to defend a patent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iographer wants review the unpublishe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er student wants to revive a line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27C1-B9E7-4D9B-BA9A-BED4D07E20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1:24:13Z</dcterms:created>
  <dc:creator>Adam Farquhar</dc:creator>
  <dc:description/>
  <cp:keywords/>
  <dc:language>en-US</dc:language>
  <cp:lastModifiedBy>Adam Farquhar</cp:lastModifiedBy>
  <dcterms:modified xsi:type="dcterms:W3CDTF">2007-09-06T08:20:46Z</dcterms:modified>
  <cp:revision>64</cp:revision>
  <dc:subject/>
  <dc:title>TITLE</dc:title>
</cp:coreProperties>
</file>