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4268-6075-41A8-BFF6-E05A3F4E2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4D17-F5B6-4F1D-9EB1-69307E53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67DD-F427-4CF5-8603-BCDDFC1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B0D4-B7E2-4609-9E00-AB50D38B4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240DC-6534-464C-AC71-E8552814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7D522-DABA-445F-A420-4EFC8E8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4B481-0316-46A3-893C-2F0B5CF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CB9E4-FEFE-4C7D-8B0A-18526DA7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C3E11-8A3A-4A2E-BA25-F97D0209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B63A2-999F-4F19-8D3A-42BDAEE3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A680A-0A5A-4509-AC29-9CC81D79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6226-28EE-4C0D-8F3C-24E0208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2729-A3D9-4A8A-B828-CDD9D0F6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05928-86B2-47A9-B9A2-30C91637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7419B-F4F9-4A2F-84E7-531B5495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C7185-9182-4F83-BD31-2404CFA4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462AD-54E1-49BD-B235-FD8A79E0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6B33-4726-4DFF-BDFA-EC9A7336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493D-3733-475E-8BFB-2219452E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37DC-108B-4FC4-B4D1-FF8238C5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E07A-3574-4AA6-89D0-1A40295F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0A06-C69C-4A0A-979F-52456A79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45DE-8349-4172-8D0B-F14D8B6A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004E-301A-401B-AE24-A083BA0D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827360" y="6381360"/>
            <a:ext cx="123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558960" y="6597360"/>
            <a:ext cx="132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6C4-6F46-4946-AF0A-59861A90A4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245360" y="6345360"/>
            <a:ext cx="1467000" cy="5936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rcRect l="0" t="0" r="0" b="71097"/>
          <a:stretch/>
        </p:blipFill>
        <p:spPr>
          <a:xfrm>
            <a:off x="476280" y="638172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0ED9-D3E6-433D-BFAB-000C50C1C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lanets-project.e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ets: Integrated services for digital pre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Farquh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Hockx-Y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32360" y="5013360"/>
            <a:ext cx="392436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6E5F-6E7C-4FCE-BFFE-80E02330B9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Ingest original contribution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pository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Characterise objects according to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XCDL/XCEL, polic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Convert undesirable objects into desirabl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LATO to build preserva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ction registry to identify convers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stbed experimental data to infor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workflow, data registry, run services to conver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4: Perform automated QA 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XCDL/XCEL, comparis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residu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5: Ingest conversions into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epository ada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relationship to originals, workflow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D929-AFCA-45B2-9C51-01C1BC090E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2: Changes in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policy: 90% of users can access all published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ge profile: 98% of users can not view dv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 profile: 5% of published reports in dvi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possible plans (using PLATO) incl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to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to t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users with viewer 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on-the-fly conversion to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plan (using Plato, testbed empiric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ch as convert to PDF using dvi2ps | ps2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t content (using data regi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A results (using comparison ser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gest results into repository (using adap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7A4C-4DCC-42EE-B533-FC309D65A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33600" y="1700280"/>
            <a:ext cx="542124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71000" y="1855800"/>
            <a:ext cx="1983600" cy="1753920"/>
            <a:chOff x="1971000" y="1855800"/>
            <a:chExt cx="1983600" cy="1753920"/>
          </a:xfrm>
        </p:grpSpPr>
        <p:sp>
          <p:nvSpPr>
            <p:cNvPr id="119" name=""/>
            <p:cNvSpPr/>
            <p:nvPr/>
          </p:nvSpPr>
          <p:spPr>
            <a:xfrm>
              <a:off x="2009880" y="185580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71000" y="198612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111400" y="31384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014560" y="4175280"/>
            <a:ext cx="1944720" cy="175392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44000" y="47959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60560" y="360756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37080" y="1859040"/>
            <a:ext cx="194472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7160" y="191916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1360" y="3076560"/>
            <a:ext cx="178776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41720" y="4171680"/>
            <a:ext cx="222120" cy="6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90880" y="3600360"/>
            <a:ext cx="222120" cy="6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243680" y="4453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5400000">
            <a:off x="3780720" y="50889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863960"/>
            <a:ext cx="6120" cy="222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59400" y="5499000"/>
            <a:ext cx="612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231440" y="16725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5400000">
            <a:off x="3786840" y="22046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56160" y="2616120"/>
            <a:ext cx="648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40200" y="2089080"/>
            <a:ext cx="6480" cy="222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68760" y="24732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51480" y="53784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7680" y="598968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7046640" y="1763280"/>
            <a:ext cx="1646280" cy="9003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7046640" y="302436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O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002000" y="4373640"/>
            <a:ext cx="1646280" cy="90000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2637-1818-4E98-A27F-A4CD90D2D7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ets methods, tools, and services will help organisations diagnose and treat problems with their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levels of automation and scalable components will reduce costs and impro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irical data will enable improved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 out more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ets-project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CA5B-6FF1-47AD-A4AB-48385B007F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some of the types of problems that Planets is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otivations fo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in it for 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some typical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C7A2-CB6C-4C04-811F-48A3F97C86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digital information hurts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searcher donates his data, notes,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university IP officer wants to defend a paten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iographer wants review the unpublishe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mer student wants to revive a line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octor finds a key 1987 clinical study in digit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tries to open the ‘dvi’ file, but ca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mall business owner wants to market the energy saving device she developed in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doesn’t have the applications to read the documents, spread-sheets, and CAD dra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9F6D-C8B6-4E23-B43E-66D99447E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ing digital information costs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il company collected extensive data for a reservoir and wants to exploit it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ocuments and data are held in v1 of an integrated management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now use v9 and can’t read or access thei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 are difficult and expensive to rep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of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ultiple hardware/software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46640" y="140328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4238640"/>
            <a:ext cx="39146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7B98-EE57-46B7-8544-037B4ADA29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is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ouched by digital preservation proble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medium sized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corpo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libraries, faculties, instit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, regional, national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erson or organisation that keeps digital material for more than 15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suggest Europe loses €3bn per year in busines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DD35-B968-4244-BFDA-485E7D6174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tional libraries &amp;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legal responsibility and the legislative framework to safeguard digital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been collecting digital documents and records since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 that meeting the challenge of preserving access goes beyond the capabilities of any single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with research &amp; ICT is a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pragmatic solutions here and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 and access over the long term is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ution that fails for content holders fails for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3905-A8A1-4B0D-9E64-66CD752347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ross-disciplinar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frameworks still un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potential impact for a broad range of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echnology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ypes: Content creation application vendors; System integrators; Produc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introduce innovative service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increase competi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rket is emerging – personal and corp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vendors with th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33FE-942C-4FAD-AEB8-B8C6C6685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in it for … The British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ets will provi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 component of our digital preservation solution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chard Boulderstone, BL Director, 15/06/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ets will enable u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 our digital collections against our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diagnose problems in our digital col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different treatment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nd implement treatment for a wide range of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the treatment was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solutions work through empirical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ncourage vendors and service providers to provide these capabilities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2970-7254-494F-A974-DD44CF0D23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 1: D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ientist donates her research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ing back thirty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s, technical reports, notes in many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researc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tools that implement research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ossible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versity IP officer wants to defend a paten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ographer wants review the unpublishe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er student wants to revive a line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26CE-D524-4DFC-80FF-7078DAB1FC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21:24:13Z</dcterms:created>
  <dc:creator>Adam Farquhar</dc:creator>
  <dc:description/>
  <cp:keywords/>
  <dc:language>en-US</dc:language>
  <cp:lastModifiedBy>Adam Farquhar</cp:lastModifiedBy>
  <dcterms:modified xsi:type="dcterms:W3CDTF">2007-09-06T08:20:46Z</dcterms:modified>
  <cp:revision>64</cp:revision>
  <dc:subject/>
  <dc:title>TITLE</dc:title>
</cp:coreProperties>
</file>