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25.wmf" ContentType="image/x-wmf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811D-5DF4-485D-A9E1-470AF3C25A41}" type="slidenum">
              <a:rPr b="1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79B3-FB45-4DEB-9C24-0B9994D7473B}" type="slidenum">
              <a:rPr b="1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066680" y="4344840"/>
            <a:ext cx="5104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MA TC45 leading to ISO FASTTRACK standards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 row/cell/col refs versus variable names such as year6 or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borders dating back to earliest versions of 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ise definition of lighting, shading, effects in Power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ing memb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BL, recently L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, Novell (author of Gnumeric an open-source spreadsheet ap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C12D-3058-44BE-977E-121717CF6AEF}" type="slidenum">
              <a:rPr b="1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066680" y="4344840"/>
            <a:ext cx="51040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E181-8ED4-477A-B3BF-D39CD10C9795}" type="slidenum">
              <a:rPr b="1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06668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pa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9951-0454-4913-84EA-A24EFD6C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92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F967-5F85-4C41-9BD2-3BDB99A2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395-467E-4791-887B-E5C0FB0D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23F-0A3C-48DF-B885-726D53D9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FF1C-A953-44CC-A101-B316045D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68F3-1230-430D-A39F-0B8C4803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3829-5366-49DB-B133-66B7810A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0DCE-D8BB-401A-9FC2-C57C35F5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C4C1-F14F-4BAD-A068-88014B46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272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5E65-1727-4F79-96FF-13D9B915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1AB2-9E79-4B75-B070-7538AB92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F428-97DA-43F6-A5FB-1B378141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635F-ED24-4962-8B09-977039E5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93F2-193E-4EC7-86B4-98F2A41D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392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C779-E51B-4140-B436-31A37F1A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F235-4C11-444D-BFD0-0668EE44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8EA7-A5A8-416D-948F-EFEAE681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18E1-2C0B-43C2-AD98-919F04D5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7ACB-84D6-4B9A-8E88-B37B8495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3EC3-43BA-420E-865F-168516AC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272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C4C4-40DA-407E-826F-D218B569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643E-3B51-48E8-9D02-45A247AC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7C41-2DDD-4BAD-A73D-EFB0E52E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9204-E528-4364-8E0A-DE424C4F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-171360"/>
            <a:ext cx="9074160" cy="7272360"/>
          </a:xfrm>
          <a:prstGeom prst="rect">
            <a:avLst/>
          </a:prstGeom>
          <a:solidFill>
            <a:srgbClr val="e3f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81080" y="1268280"/>
            <a:ext cx="8137800" cy="0"/>
          </a:xfrm>
          <a:prstGeom prst="line">
            <a:avLst/>
          </a:prstGeom>
          <a:ln w="47520">
            <a:solidFill>
              <a:srgbClr val="409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-166680"/>
            <a:ext cx="144360" cy="7267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96720" y="-166680"/>
            <a:ext cx="720720" cy="7267680"/>
          </a:xfrm>
          <a:prstGeom prst="rect">
            <a:avLst/>
          </a:prstGeom>
          <a:solidFill>
            <a:srgbClr val="60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827360" y="6381360"/>
            <a:ext cx="123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76280" y="6381360"/>
            <a:ext cx="2205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5562360" y="6381360"/>
            <a:ext cx="132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B3E7-6948-43CF-8C4F-BA7968601B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245360" y="6345360"/>
            <a:ext cx="1467000" cy="59364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3"/>
          <a:srcRect l="0" t="0" r="0" b="71097"/>
          <a:stretch/>
        </p:blipFill>
        <p:spPr>
          <a:xfrm>
            <a:off x="476280" y="6381720"/>
            <a:ext cx="72072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-171360"/>
            <a:ext cx="9074160" cy="7272360"/>
          </a:xfrm>
          <a:prstGeom prst="rect">
            <a:avLst/>
          </a:prstGeom>
          <a:solidFill>
            <a:srgbClr val="e3f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181080" y="1268280"/>
            <a:ext cx="8137800" cy="0"/>
          </a:xfrm>
          <a:prstGeom prst="line">
            <a:avLst/>
          </a:prstGeom>
          <a:ln w="47520">
            <a:solidFill>
              <a:srgbClr val="409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-166680"/>
            <a:ext cx="144360" cy="7267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396720" y="-166680"/>
            <a:ext cx="720720" cy="7267680"/>
          </a:xfrm>
          <a:prstGeom prst="rect">
            <a:avLst/>
          </a:prstGeom>
          <a:solidFill>
            <a:srgbClr val="60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5AF6-9788-4D96-A8F5-F2D12C645A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n.nationaalarchief.nl/default.asp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hyperlink" Target="http://www.bl.uk/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hyperlink" Target="http://www.statsbiblioteket.dk/" TargetMode="External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hyperlink" Target="http://www.hatii.arts.gla.ac.uk/index.html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www.gla.ac.uk/" TargetMode="External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hyperlink" Target="http://www.ibm.com/nl/" TargetMode="External"/><Relationship Id="rId10" Type="http://schemas.openxmlformats.org/officeDocument/2006/relationships/image" Target="../media/image18.png"/><Relationship Id="rId11" Type="http://schemas.openxmlformats.org/officeDocument/2006/relationships/hyperlink" Target="http://research.microsoft.com/" TargetMode="External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06640" y="387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rvation and Long-term access through Networked Servic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am Farquhar, The British Libra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res200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nell University, Octo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924000" cy="1585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867280" y="1773360"/>
            <a:ext cx="32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ation plan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27360" y="3701880"/>
            <a:ext cx="1844640" cy="944640"/>
          </a:xfrm>
          <a:prstGeom prst="flowChartAlternateProcess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48440" y="3701880"/>
            <a:ext cx="1846080" cy="944640"/>
          </a:xfrm>
          <a:prstGeom prst="flowChartAlternateProcess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2360" y="3747960"/>
            <a:ext cx="1665360" cy="851040"/>
          </a:xfrm>
          <a:prstGeom prst="flowChartDocument">
            <a:avLst/>
          </a:prstGeom>
          <a:solidFill>
            <a:srgbClr val="ffff00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6" idx="3"/>
            <a:endCxn id="184" idx="1"/>
          </p:cNvCxnSpPr>
          <p:nvPr/>
        </p:nvCxnSpPr>
        <p:spPr>
          <a:xfrm>
            <a:off x="2187360" y="4173120"/>
            <a:ext cx="54036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5292720" y="5005440"/>
            <a:ext cx="1736640" cy="944640"/>
          </a:xfrm>
          <a:prstGeom prst="flowChartMagneticDisk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4" idx="3"/>
            <a:endCxn id="185" idx="1"/>
          </p:cNvCxnSpPr>
          <p:nvPr/>
        </p:nvCxnSpPr>
        <p:spPr>
          <a:xfrm>
            <a:off x="4571640" y="4174920"/>
            <a:ext cx="6771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5248440" y="2489040"/>
            <a:ext cx="1846080" cy="900360"/>
          </a:xfrm>
          <a:prstGeom prst="flowChartAlternateProcess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27360" y="2714760"/>
            <a:ext cx="1846080" cy="449280"/>
          </a:xfrm>
          <a:prstGeom prst="flowChartAlternateProcess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p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84" idx="0"/>
            <a:endCxn id="191" idx="2"/>
          </p:cNvCxnSpPr>
          <p:nvPr/>
        </p:nvCxnSpPr>
        <p:spPr>
          <a:xfrm flipV="1">
            <a:off x="3649680" y="3163680"/>
            <a:ext cx="2160" cy="538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91" idx="3"/>
            <a:endCxn id="190" idx="1"/>
          </p:cNvCxnSpPr>
          <p:nvPr/>
        </p:nvCxnSpPr>
        <p:spPr>
          <a:xfrm>
            <a:off x="4573080" y="2939760"/>
            <a:ext cx="6757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5" idx="2"/>
            <a:endCxn id="188" idx="1"/>
          </p:cNvCxnSpPr>
          <p:nvPr/>
        </p:nvCxnSpPr>
        <p:spPr>
          <a:xfrm flipH="1">
            <a:off x="6160320" y="4646160"/>
            <a:ext cx="11880" cy="35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5" name=""/>
          <p:cNvCxnSpPr>
            <a:stCxn id="185" idx="0"/>
            <a:endCxn id="190" idx="2"/>
          </p:cNvCxnSpPr>
          <p:nvPr/>
        </p:nvCxnSpPr>
        <p:spPr>
          <a:xfrm flipV="1">
            <a:off x="6171840" y="3389040"/>
            <a:ext cx="1080" cy="313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5830920" y="1403280"/>
            <a:ext cx="720720" cy="630360"/>
          </a:xfrm>
          <a:prstGeom prst="smileyFace">
            <a:avLst>
              <a:gd name="adj" fmla="val 928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6" idx="4"/>
            <a:endCxn id="190" idx="0"/>
          </p:cNvCxnSpPr>
          <p:nvPr/>
        </p:nvCxnSpPr>
        <p:spPr>
          <a:xfrm flipH="1">
            <a:off x="6171480" y="2052720"/>
            <a:ext cx="19800" cy="437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8" name=""/>
          <p:cNvCxnSpPr>
            <a:stCxn id="199" idx="4"/>
            <a:endCxn id="186" idx="0"/>
          </p:cNvCxnSpPr>
          <p:nvPr/>
        </p:nvCxnSpPr>
        <p:spPr>
          <a:xfrm>
            <a:off x="1353600" y="3114360"/>
            <a:ext cx="2520" cy="633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1241280" y="2889360"/>
            <a:ext cx="225720" cy="225360"/>
          </a:xfrm>
          <a:prstGeom prst="flowChartConnector">
            <a:avLst/>
          </a:prstGeom>
          <a:gradFill rotWithShape="0">
            <a:gsLst>
              <a:gs pos="0">
                <a:srgbClr val="00ff00">
                  <a:alpha val="86274"/>
                </a:srgbClr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character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e content to support pre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up-front metadata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Harvard segmented images based on tool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NAs PRONOM for file-format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 characterisation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n extraction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n pluggable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o measure loss due to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rage understanding to improve file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a root cause of digital obsol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ation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ap third-party transformatio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gaps with new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rve relational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on Swiss Archiv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rve Office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on MSF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557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emulation of the full hardware/softwar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full look-and f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b for highly dynamic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ed durable e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on IBM Universal Virtual Computer (UV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abstract device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foundation for objective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: collect data, evaluate results, compare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ate preservation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chmark tool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torage, hardware, Planets software, testb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chmark and other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resources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ervation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 and service cer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ress root causes of obsol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poorly documented file formats present a major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only rent th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ac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software vendors to develop standard fully-documented file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B Microsoft Office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48320" y="1557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MA TC45 to standardise Office Open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backward compati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y documented stand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ritish Library was initial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brary of Congress has now jo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raft submitted to ECMA General 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preservation is a recognised design goal for the forma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ings together Archives, Libraries, researchers and technology compan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s on strong digital archiving and preservation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resses core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cuses on Libraries and Arch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provide an interoperable framework to e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rd-parties to provide tools an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dors to integrate preservati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ent owners to ensure long-term access to their digital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use an empirical approach to gather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more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planets-project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ts-info@bl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2003" b="3681"/>
          <a:stretch/>
        </p:blipFill>
        <p:spPr>
          <a:xfrm>
            <a:off x="1962000" y="1584360"/>
            <a:ext cx="490536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gital information at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6994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r society risks a gaping hole in the cultural and scientific record unless we act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pean National Libraries an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the legal responsibility and the legislative framework to safeguard digital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st provide sustained access to cultural and scientific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limited ability to ensure that today’s digital information will be accessible for future gen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the challenge of preserving access goes beyond the capabilities of any single 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35880" y="1314360"/>
            <a:ext cx="117648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Support for digital pre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initiative in the Information Science and Technology (IST) Framework Programme 6 Call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Integrated Projects funded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e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L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p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CL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d action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HATII at Glasg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ts builds on strong digital archiving and preservation programmes at European, National and institutional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es core digital preservation challe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n empirical approach to learn what works and w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year project starting June 2006 with 15me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71097"/>
          <a:stretch/>
        </p:blipFill>
        <p:spPr>
          <a:xfrm>
            <a:off x="7407360" y="0"/>
            <a:ext cx="14144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Europe’s ability to ensure long-term access to its cultural and scientific heri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decision-making about long term pre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long-term access to valued digital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the costs of preservation actions through increased automation, scaleable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wide adoption across the user community and establish market place for preservation services an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practical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existing expertise, designs an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and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partner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557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ritish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Library,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ian National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nd University Library,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yal Library,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Archives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ss Federal Arch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Archives,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66640" y="4406760"/>
            <a:ext cx="3961080" cy="1587600"/>
            <a:chOff x="566640" y="4406760"/>
            <a:chExt cx="3961080" cy="1587600"/>
          </a:xfrm>
        </p:grpSpPr>
        <p:pic>
          <p:nvPicPr>
            <p:cNvPr id="113" name="" descr="homepage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01640" y="5591160"/>
              <a:ext cx="301464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566640" y="4406760"/>
              <a:ext cx="183852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2546280" y="4419720"/>
              <a:ext cx="1981440" cy="75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566640" y="1449360"/>
            <a:ext cx="5608800" cy="2789280"/>
            <a:chOff x="566640" y="1449360"/>
            <a:chExt cx="5608800" cy="2789280"/>
          </a:xfrm>
        </p:grpSpPr>
        <p:pic>
          <p:nvPicPr>
            <p:cNvPr id="117" name="" descr="British Library Logo - www.bl.uk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566640" y="1449360"/>
              <a:ext cx="973080" cy="18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7"/>
            <a:stretch/>
          </p:blipFill>
          <p:spPr>
            <a:xfrm>
              <a:off x="1781280" y="1449360"/>
              <a:ext cx="220032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8"/>
            <a:stretch/>
          </p:blipFill>
          <p:spPr>
            <a:xfrm>
              <a:off x="1781280" y="2884320"/>
              <a:ext cx="2381040" cy="7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Statsbibliotekets logo. Klik for at gå til forsiden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1736640" y="2573280"/>
              <a:ext cx="1971720" cy="2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Det Kongelige Biblioteks logo"/>
            <p:cNvPicPr/>
            <p:nvPr/>
          </p:nvPicPr>
          <p:blipFill>
            <a:blip r:embed="rId11"/>
            <a:srcRect l="18892" t="-19764" r="0" b="0"/>
            <a:stretch/>
          </p:blipFill>
          <p:spPr>
            <a:xfrm>
              <a:off x="566640" y="3691080"/>
              <a:ext cx="5608800" cy="54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partners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105520" y="153828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sella P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Research, Cambri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 Seibersdorf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tii at University of Glasg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Frei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University of Vien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at Colog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57360" y="3790800"/>
            <a:ext cx="3598560" cy="2428920"/>
            <a:chOff x="657360" y="3790800"/>
            <a:chExt cx="3598560" cy="242892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657360" y="5114880"/>
              <a:ext cx="214632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2367000" y="3881520"/>
              <a:ext cx="1888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2997360" y="5095800"/>
              <a:ext cx="1230120" cy="112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" name=""/>
            <p:cNvGrpSpPr/>
            <p:nvPr/>
          </p:nvGrpSpPr>
          <p:grpSpPr>
            <a:xfrm>
              <a:off x="657360" y="3790800"/>
              <a:ext cx="1485360" cy="1169640"/>
              <a:chOff x="657360" y="3790800"/>
              <a:chExt cx="1485360" cy="1169640"/>
            </a:xfrm>
          </p:grpSpPr>
          <p:pic>
            <p:nvPicPr>
              <p:cNvPr id="129" name="hatiilogo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657360" y="3790800"/>
                <a:ext cx="1478880" cy="47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crest" descr="university of glasgow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657360" y="4266720"/>
                <a:ext cx="1485360" cy="693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1" name=""/>
          <p:cNvGrpSpPr/>
          <p:nvPr/>
        </p:nvGrpSpPr>
        <p:grpSpPr>
          <a:xfrm>
            <a:off x="522360" y="1494000"/>
            <a:ext cx="4635360" cy="1709640"/>
            <a:chOff x="522360" y="1494000"/>
            <a:chExt cx="4635360" cy="1709640"/>
          </a:xfrm>
        </p:grpSpPr>
        <p:pic>
          <p:nvPicPr>
            <p:cNvPr id="132" name="" descr=""/>
            <p:cNvPicPr/>
            <p:nvPr/>
          </p:nvPicPr>
          <p:blipFill>
            <a:blip r:embed="rId8"/>
            <a:stretch/>
          </p:blipFill>
          <p:spPr>
            <a:xfrm>
              <a:off x="2908440" y="2417760"/>
              <a:ext cx="224928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IBM®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2952720" y="1494000"/>
              <a:ext cx="1709640" cy="80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Microsoft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568440" y="2502000"/>
              <a:ext cx="224928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3"/>
            <a:stretch/>
          </p:blipFill>
          <p:spPr>
            <a:xfrm>
              <a:off x="522360" y="1538280"/>
              <a:ext cx="220500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net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ning serv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empower organisations to define, evaluate, and execute preservation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, tools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s for Characteris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digit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ovative solutions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rvation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operability Frame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services  distribut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b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ables objective evaluation of protocols, tools, services and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re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shops and training to engage the user and vendor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architecture reflects problem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33600" y="1449360"/>
            <a:ext cx="5421240" cy="4933800"/>
          </a:xfrm>
          <a:prstGeom prst="rect">
            <a:avLst/>
          </a:prstGeom>
          <a:solidFill>
            <a:srgbClr val="ffe2c5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971000" y="1855800"/>
            <a:ext cx="1983600" cy="1753920"/>
            <a:chOff x="1971000" y="1855800"/>
            <a:chExt cx="1983600" cy="1753920"/>
          </a:xfrm>
        </p:grpSpPr>
        <p:sp>
          <p:nvSpPr>
            <p:cNvPr id="141" name=""/>
            <p:cNvSpPr/>
            <p:nvPr/>
          </p:nvSpPr>
          <p:spPr>
            <a:xfrm>
              <a:off x="2009880" y="1855800"/>
              <a:ext cx="1944720" cy="1753920"/>
            </a:xfrm>
            <a:custGeom>
              <a:avLst/>
              <a:gdLst/>
              <a:ahLst/>
              <a:rect l="l" t="t" r="r" b="b"/>
              <a:pathLst>
                <a:path w="1089" h="862">
                  <a:moveTo>
                    <a:pt x="0" y="317"/>
                  </a:moveTo>
                  <a:lnTo>
                    <a:pt x="0" y="862"/>
                  </a:lnTo>
                  <a:lnTo>
                    <a:pt x="771" y="862"/>
                  </a:lnTo>
                  <a:lnTo>
                    <a:pt x="771" y="590"/>
                  </a:lnTo>
                  <a:lnTo>
                    <a:pt x="1089" y="590"/>
                  </a:lnTo>
                  <a:lnTo>
                    <a:pt x="1089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71000" y="1986120"/>
              <a:ext cx="1694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reservation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lan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er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111400" y="3138480"/>
            <a:ext cx="488880" cy="1055520"/>
          </a:xfrm>
          <a:prstGeom prst="upArrow">
            <a:avLst>
              <a:gd name="adj1" fmla="val 50000"/>
              <a:gd name="adj2" fmla="val 53976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014560" y="4175280"/>
            <a:ext cx="1944720" cy="1753920"/>
          </a:xfrm>
          <a:custGeom>
            <a:avLst/>
            <a:gdLst/>
            <a:ahLst/>
            <a:rect l="l" t="t" r="r" b="b"/>
            <a:pathLst>
              <a:path w="1089" h="862">
                <a:moveTo>
                  <a:pt x="0" y="317"/>
                </a:moveTo>
                <a:lnTo>
                  <a:pt x="0" y="862"/>
                </a:lnTo>
                <a:lnTo>
                  <a:pt x="771" y="862"/>
                </a:lnTo>
                <a:lnTo>
                  <a:pt x="771" y="590"/>
                </a:lnTo>
                <a:lnTo>
                  <a:pt x="1089" y="590"/>
                </a:lnTo>
                <a:lnTo>
                  <a:pt x="1089" y="0"/>
                </a:lnTo>
                <a:lnTo>
                  <a:pt x="0" y="0"/>
                </a:lnTo>
                <a:lnTo>
                  <a:pt x="0" y="408"/>
                </a:lnTo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44000" y="4795920"/>
            <a:ext cx="215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Character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860560" y="3607560"/>
            <a:ext cx="489240" cy="1055880"/>
          </a:xfrm>
          <a:prstGeom prst="upArrow">
            <a:avLst>
              <a:gd name="adj1" fmla="val 50000"/>
              <a:gd name="adj2" fmla="val 5395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37080" y="1859040"/>
            <a:ext cx="1944720" cy="4068720"/>
          </a:xfrm>
          <a:custGeom>
            <a:avLst/>
            <a:gdLst/>
            <a:ahLst/>
            <a:rect l="l" t="t" r="r" b="b"/>
            <a:pathLst>
              <a:path w="1225" h="2563">
                <a:moveTo>
                  <a:pt x="8" y="754"/>
                </a:moveTo>
                <a:lnTo>
                  <a:pt x="8" y="0"/>
                </a:lnTo>
                <a:lnTo>
                  <a:pt x="1225" y="0"/>
                </a:lnTo>
                <a:lnTo>
                  <a:pt x="1225" y="2563"/>
                </a:lnTo>
                <a:lnTo>
                  <a:pt x="0" y="2563"/>
                </a:lnTo>
                <a:lnTo>
                  <a:pt x="0" y="1809"/>
                </a:lnTo>
                <a:lnTo>
                  <a:pt x="430" y="1809"/>
                </a:lnTo>
                <a:lnTo>
                  <a:pt x="430" y="754"/>
                </a:lnTo>
                <a:lnTo>
                  <a:pt x="8" y="75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17160" y="1919160"/>
            <a:ext cx="169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Pre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11360" y="3076560"/>
            <a:ext cx="1787760" cy="1631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Test Bed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evaluation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241720" y="4171680"/>
            <a:ext cx="222120" cy="6120"/>
          </a:xfrm>
          <a:prstGeom prst="line">
            <a:avLst/>
          </a:prstGeom>
          <a:ln w="381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990880" y="3600360"/>
            <a:ext cx="222120" cy="648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4243680" y="4453560"/>
            <a:ext cx="488880" cy="1055880"/>
          </a:xfrm>
          <a:prstGeom prst="upArrow">
            <a:avLst>
              <a:gd name="adj1" fmla="val 50000"/>
              <a:gd name="adj2" fmla="val 53995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 rot="5400000">
            <a:off x="3780720" y="5088960"/>
            <a:ext cx="488880" cy="1055520"/>
          </a:xfrm>
          <a:prstGeom prst="upArrow">
            <a:avLst>
              <a:gd name="adj1" fmla="val 50000"/>
              <a:gd name="adj2" fmla="val 5397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4863960"/>
            <a:ext cx="6120" cy="222480"/>
          </a:xfrm>
          <a:prstGeom prst="line">
            <a:avLst/>
          </a:prstGeom>
          <a:ln w="381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59400" y="5499000"/>
            <a:ext cx="6120" cy="22248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4231440" y="1672560"/>
            <a:ext cx="488880" cy="1055520"/>
          </a:xfrm>
          <a:prstGeom prst="upArrow">
            <a:avLst>
              <a:gd name="adj1" fmla="val 50000"/>
              <a:gd name="adj2" fmla="val 5397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 rot="5400000">
            <a:off x="3786840" y="2204640"/>
            <a:ext cx="489240" cy="1055880"/>
          </a:xfrm>
          <a:prstGeom prst="upArrow">
            <a:avLst>
              <a:gd name="adj1" fmla="val 50000"/>
              <a:gd name="adj2" fmla="val 5395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56160" y="2616120"/>
            <a:ext cx="6480" cy="22248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40200" y="2089080"/>
            <a:ext cx="6480" cy="22248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68760" y="2473200"/>
            <a:ext cx="0" cy="4795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51480" y="5378400"/>
            <a:ext cx="0" cy="4795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17680" y="5989680"/>
            <a:ext cx="38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Interoperabilit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ation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7360" y="1628640"/>
            <a:ext cx="1665000" cy="1036800"/>
          </a:xfrm>
          <a:prstGeom prst="flowChartDocumen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7360" y="2798640"/>
            <a:ext cx="1665000" cy="1036800"/>
          </a:xfrm>
          <a:prstGeom prst="flowChartDocumen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7360" y="3968640"/>
            <a:ext cx="1665000" cy="1036800"/>
          </a:xfrm>
          <a:prstGeom prst="flowChartDocument">
            <a:avLst/>
          </a:prstGeom>
          <a:solidFill>
            <a:srgbClr val="ffff00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97360" y="2708280"/>
            <a:ext cx="1844640" cy="1214280"/>
          </a:xfrm>
          <a:prstGeom prst="flowChartAlternateProcess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46640" y="2664000"/>
            <a:ext cx="1486080" cy="1304640"/>
          </a:xfrm>
          <a:prstGeom prst="flowChartMultidocument">
            <a:avLst/>
          </a:prstGeom>
          <a:solidFill>
            <a:srgbClr val="ffff00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7" idx="3"/>
            <a:endCxn id="168" idx="1"/>
          </p:cNvCxnSpPr>
          <p:nvPr/>
        </p:nvCxnSpPr>
        <p:spPr>
          <a:xfrm>
            <a:off x="4842000" y="3315960"/>
            <a:ext cx="405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7227720" y="2708280"/>
            <a:ext cx="1846440" cy="1214280"/>
          </a:xfrm>
          <a:prstGeom prst="flowChartAlternateProcess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 Evalu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70" idx="0"/>
            <a:endCxn id="167" idx="0"/>
          </p:cNvCxnSpPr>
          <p:nvPr/>
        </p:nvCxnSpPr>
        <p:spPr>
          <a:xfrm rot="5400000">
            <a:off x="6034320" y="592920"/>
            <a:ext cx="2160" cy="4232880"/>
          </a:xfrm>
          <a:prstGeom prst="curvedConnector5">
            <a:avLst>
              <a:gd name="adj1" fmla="val -14400000"/>
              <a:gd name="adj2" fmla="val 49995"/>
              <a:gd name="adj3" fmla="val -144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8" idx="3"/>
            <a:endCxn id="170" idx="1"/>
          </p:cNvCxnSpPr>
          <p:nvPr/>
        </p:nvCxnSpPr>
        <p:spPr>
          <a:xfrm>
            <a:off x="6732360" y="3315960"/>
            <a:ext cx="4957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3086280" y="4641840"/>
            <a:ext cx="1665000" cy="1036800"/>
          </a:xfrm>
          <a:prstGeom prst="flowChartDocument">
            <a:avLst/>
          </a:prstGeom>
          <a:solidFill>
            <a:srgbClr val="ffff00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67" idx="2"/>
            <a:endCxn id="173" idx="0"/>
          </p:cNvCxnSpPr>
          <p:nvPr/>
        </p:nvCxnSpPr>
        <p:spPr>
          <a:xfrm>
            <a:off x="3919320" y="3922560"/>
            <a:ext cx="1080" cy="720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7292880" y="4373640"/>
            <a:ext cx="1737000" cy="1214280"/>
          </a:xfrm>
          <a:prstGeom prst="flowChartMagneticDisk">
            <a:avLst/>
          </a:prstGeom>
          <a:solidFill>
            <a:srgbClr val="ffff00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0" idx="2"/>
            <a:endCxn id="175" idx="1"/>
          </p:cNvCxnSpPr>
          <p:nvPr/>
        </p:nvCxnSpPr>
        <p:spPr>
          <a:xfrm>
            <a:off x="8151840" y="3922200"/>
            <a:ext cx="10080" cy="451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657360" y="5138640"/>
            <a:ext cx="1665000" cy="1036800"/>
          </a:xfrm>
          <a:prstGeom prst="flowChartDocumen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322000" y="2147760"/>
            <a:ext cx="675360" cy="3510000"/>
            <a:chOff x="2322000" y="2147760"/>
            <a:chExt cx="675360" cy="3510000"/>
          </a:xfrm>
        </p:grpSpPr>
        <p:cxnSp>
          <p:nvCxnSpPr>
            <p:cNvPr id="179" name=""/>
            <p:cNvCxnSpPr>
              <a:stCxn id="164" idx="3"/>
              <a:endCxn id="167" idx="1"/>
            </p:cNvCxnSpPr>
            <p:nvPr/>
          </p:nvCxnSpPr>
          <p:spPr>
            <a:xfrm>
              <a:off x="2322000" y="2147760"/>
              <a:ext cx="675720" cy="1169280"/>
            </a:xfrm>
            <a:prstGeom prst="bentConnector3">
              <a:avLst>
                <a:gd name="adj1" fmla="val 49840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0" name=""/>
            <p:cNvCxnSpPr>
              <a:stCxn id="166" idx="3"/>
              <a:endCxn id="167" idx="1"/>
            </p:cNvCxnSpPr>
            <p:nvPr/>
          </p:nvCxnSpPr>
          <p:spPr>
            <a:xfrm flipV="1">
              <a:off x="2322000" y="3315960"/>
              <a:ext cx="675720" cy="1172160"/>
            </a:xfrm>
            <a:prstGeom prst="bentConnector3">
              <a:avLst>
                <a:gd name="adj1" fmla="val 49840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65" idx="3"/>
              <a:endCxn id="167" idx="1"/>
            </p:cNvCxnSpPr>
            <p:nvPr/>
          </p:nvCxnSpPr>
          <p:spPr>
            <a:xfrm flipV="1">
              <a:off x="2322000" y="3315960"/>
              <a:ext cx="6757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2" name=""/>
            <p:cNvCxnSpPr>
              <a:stCxn id="177" idx="3"/>
              <a:endCxn id="167" idx="1"/>
            </p:cNvCxnSpPr>
            <p:nvPr/>
          </p:nvCxnSpPr>
          <p:spPr>
            <a:xfrm flipV="1">
              <a:off x="2322000" y="3315960"/>
              <a:ext cx="675720" cy="2342160"/>
            </a:xfrm>
            <a:prstGeom prst="bentConnector3">
              <a:avLst>
                <a:gd name="adj1" fmla="val 49840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1:59:06Z</dcterms:created>
  <dc:creator>Adam Farquhar</dc:creator>
  <dc:description/>
  <dc:language>en-US</dc:language>
  <cp:lastModifiedBy>Adam Farquhar</cp:lastModifiedBy>
  <cp:lastPrinted>2005-10-12T14:04:19Z</cp:lastPrinted>
  <dcterms:modified xsi:type="dcterms:W3CDTF">2006-10-09T18:13:01Z</dcterms:modified>
  <cp:revision>85</cp:revision>
  <dc:subject/>
  <dc:title>Planets for iPres 2006</dc:title>
</cp:coreProperties>
</file>