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3D7-7C43-4526-9692-B1A8DA8A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902-C993-41BF-AE19-01EE0829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003-2E1F-44E0-9C68-74ADC8D8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F98-9E42-43D0-B2F3-C23D1071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A6A9-C706-4A15-A014-86995EDB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EA61-41D1-4055-830A-F13AB0C9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41C7-10D6-412D-AD46-917D8398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EAF7-AE8F-4301-A3FB-9B60AF95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5AF1-D751-4A59-93B9-8ECE6BF5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3D0C-BA06-490C-BCAF-949020AD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5B40-C2C1-4401-BB4A-68234869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BBC-7263-4356-94AB-DBF939F7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A7EB-B11E-4E53-BADA-269AF9B4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77E0-C2AF-4892-AD68-1047F5A6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2D13-72CA-4790-A139-F5B70F66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88F9-2EC1-42A3-89A4-4B3A3787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EFBD-2869-457A-A40D-22D19A6C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E60-5EF7-4430-9EAA-ECDB3D5A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93C2-D296-459A-853C-F949E101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856-48E0-40F2-ABF7-F3D0A443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FF4-5769-4E51-88A7-C4D89B01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72AA-2FA3-47F9-91A2-019BFA39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7AC-A9D5-4332-8EDC-E6F1B456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4EA-EB7D-4614-8894-C6E2EC1A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-171360"/>
            <a:ext cx="9074160" cy="727236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81080" y="1268280"/>
            <a:ext cx="8137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-166680"/>
            <a:ext cx="144360" cy="726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96720" y="-166680"/>
            <a:ext cx="720720" cy="726768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81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62B1-397B-4F93-8C27-20157C0F715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69236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-171360"/>
            <a:ext cx="9074160" cy="727236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-166680"/>
            <a:ext cx="144360" cy="726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96720" y="-166680"/>
            <a:ext cx="720720" cy="726768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7000" y="2619000"/>
            <a:ext cx="77724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B549-5826-406A-9944-00D3D5098C0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61920" y="503280"/>
            <a:ext cx="3924360" cy="1585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7000" y="2619000"/>
            <a:ext cx="77724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27000" y="4419360"/>
            <a:ext cx="77407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m Farquha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don, 13-June-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95B3-B73D-4446-8C9B-CBEF434AFD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operability Framework and Test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ets provides an interoperability framework inclu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operable distribute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ice registries and shared data-s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apsulate tools a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chestration capability to combine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ets testb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a foundation for objective evaluation of preservation actions, characterisation services, and preservation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a controlled research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able partners to conduct experiments, load content objects, execute tests, evaluate the results, and compare the outcome to similar t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s use of the Interoperability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a shared infrastructure for the  preservation 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ables external organisations to validate their preservation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es content collections and preservation scenarios for benchma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es certification criteria and procedures to evaluate third party tools an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4105080" cy="3038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2C8-69B8-473E-B5D2-7ABEEB8CE5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ngs together National Archives, and Libraries with University researchers and technology vendors to meet the challenges of ensuring long-term access to digital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s on strong digital archiving and preservation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resses core digital preservation challenges with a focus on the needs of Libraries and Arch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tential to address wider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provide an interoperable framework that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able third-parties to provide tool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able vendors to integrate preserva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able content owners to ensure long-term access to their digital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use an empirical approach to gather evidence on what works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use the evidence to guide projec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42C-69AE-4AD7-B535-3EAE0D8538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gital Information a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National Libraries an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the legal responsibility and the legislative framework to safeguard digital information and provide sustained access to digital cultural and scientific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limited ability to ensure that today’s digital information will be accessible for future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society risks a gaping hole in the cultural and scientific record unless we act 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the challenge of preserving access goes beyond the capabilities of any single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keholders Working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 Planets Project brings together stakeholders across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Archives of Great Britain, The Netherlands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Libraries of Austria, Denmark, Great Britain,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stakeholders have advanced practices and strong motivation to find practical deployable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.  leading research 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versity of Cologne, University of Freiberg, University of Glasgow, Technical University of Vi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ing technology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strian Research Center, Tess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E80-0823-4512-8E40-9F9B96DAD1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Europe’s ability to ensure long-term access to its cultural and scientific heri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decision-making about long term pre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long-term access to valued digital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 the costs of preservation actions through increased automation, scaleabl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wide adoption across the user community and establish market place for preservation servic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5F8-EA19-4FC5-B752-C8FED2C034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ompos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ETS will devel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ning services that empower organisations to define, evaluate, and execute preserva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ologies, tools and services for Characterisation of digital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novative solutions for Preservation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nteroperability  Framework to seamlessly integrate tools and services in a distributed servic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stbed to provide a consistent and coherent evidence-base for the objective evaluation of different protocols, tools, services and complete preservation pl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70A-8DD1-4302-98AB-38304C041F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ct Architecture Reflects Problem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3360" y="1531800"/>
            <a:ext cx="8577000" cy="5210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28600" y="1687680"/>
            <a:ext cx="5421600" cy="4933800"/>
          </a:xfrm>
          <a:prstGeom prst="rect">
            <a:avLst/>
          </a:prstGeom>
          <a:solidFill>
            <a:srgbClr val="ffe2c5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566000" y="2093760"/>
            <a:ext cx="1983600" cy="1753920"/>
            <a:chOff x="1566000" y="2093760"/>
            <a:chExt cx="1983600" cy="1753920"/>
          </a:xfrm>
        </p:grpSpPr>
        <p:sp>
          <p:nvSpPr>
            <p:cNvPr id="105" name=""/>
            <p:cNvSpPr/>
            <p:nvPr/>
          </p:nvSpPr>
          <p:spPr>
            <a:xfrm>
              <a:off x="1604880" y="2093760"/>
              <a:ext cx="1944720" cy="1753920"/>
            </a:xfrm>
            <a:custGeom>
              <a:avLst/>
              <a:gdLst/>
              <a:ahLst/>
              <a:rect l="l" t="t" r="r" b="b"/>
              <a:pathLst>
                <a:path w="1089" h="862">
                  <a:moveTo>
                    <a:pt x="0" y="317"/>
                  </a:moveTo>
                  <a:lnTo>
                    <a:pt x="0" y="862"/>
                  </a:lnTo>
                  <a:lnTo>
                    <a:pt x="771" y="862"/>
                  </a:lnTo>
                  <a:lnTo>
                    <a:pt x="771" y="590"/>
                  </a:lnTo>
                  <a:lnTo>
                    <a:pt x="1089" y="590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66000" y="2224080"/>
              <a:ext cx="1694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eservation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lan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706400" y="3376440"/>
            <a:ext cx="489240" cy="1055880"/>
          </a:xfrm>
          <a:prstGeom prst="upArrow">
            <a:avLst>
              <a:gd name="adj1" fmla="val 50000"/>
              <a:gd name="adj2" fmla="val 53955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09560" y="4412520"/>
            <a:ext cx="1944720" cy="1754280"/>
          </a:xfrm>
          <a:custGeom>
            <a:avLst/>
            <a:gdLst/>
            <a:ahLst/>
            <a:rect l="l" t="t" r="r" b="b"/>
            <a:pathLst>
              <a:path w="1089" h="862">
                <a:moveTo>
                  <a:pt x="0" y="317"/>
                </a:moveTo>
                <a:lnTo>
                  <a:pt x="0" y="862"/>
                </a:lnTo>
                <a:lnTo>
                  <a:pt x="771" y="862"/>
                </a:lnTo>
                <a:lnTo>
                  <a:pt x="771" y="590"/>
                </a:lnTo>
                <a:lnTo>
                  <a:pt x="1089" y="590"/>
                </a:lnTo>
                <a:lnTo>
                  <a:pt x="1089" y="0"/>
                </a:lnTo>
                <a:lnTo>
                  <a:pt x="0" y="0"/>
                </a:lnTo>
                <a:lnTo>
                  <a:pt x="0" y="408"/>
                </a:lnTo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9000" y="5033880"/>
            <a:ext cx="215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Characte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455920" y="384660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32440" y="2097000"/>
            <a:ext cx="1944360" cy="4068720"/>
          </a:xfrm>
          <a:custGeom>
            <a:avLst/>
            <a:gdLst/>
            <a:ahLst/>
            <a:rect l="l" t="t" r="r" b="b"/>
            <a:pathLst>
              <a:path w="1225" h="2563">
                <a:moveTo>
                  <a:pt x="8" y="754"/>
                </a:moveTo>
                <a:lnTo>
                  <a:pt x="8" y="0"/>
                </a:lnTo>
                <a:lnTo>
                  <a:pt x="1225" y="0"/>
                </a:lnTo>
                <a:lnTo>
                  <a:pt x="1225" y="2563"/>
                </a:lnTo>
                <a:lnTo>
                  <a:pt x="0" y="2563"/>
                </a:lnTo>
                <a:lnTo>
                  <a:pt x="0" y="1809"/>
                </a:lnTo>
                <a:lnTo>
                  <a:pt x="430" y="1809"/>
                </a:lnTo>
                <a:lnTo>
                  <a:pt x="430" y="754"/>
                </a:lnTo>
                <a:lnTo>
                  <a:pt x="8" y="75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2520" y="2157480"/>
            <a:ext cx="169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P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06720" y="3314880"/>
            <a:ext cx="1787400" cy="1631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Test Bed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evaluation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836720" y="4410000"/>
            <a:ext cx="222120" cy="648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85880" y="3838320"/>
            <a:ext cx="222480" cy="612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839400" y="469188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5400000">
            <a:off x="3375720" y="5326560"/>
            <a:ext cx="488880" cy="1055880"/>
          </a:xfrm>
          <a:prstGeom prst="upArrow">
            <a:avLst>
              <a:gd name="adj1" fmla="val 50000"/>
              <a:gd name="adj2" fmla="val 5399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57520" y="5101560"/>
            <a:ext cx="6480" cy="22212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54400" y="5736600"/>
            <a:ext cx="6480" cy="22212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3826800" y="191052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 rot="5400000">
            <a:off x="3382200" y="244404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51160" y="2853720"/>
            <a:ext cx="6480" cy="22212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35200" y="2326680"/>
            <a:ext cx="6480" cy="22212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40440" y="3414600"/>
            <a:ext cx="189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Disse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Take-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78280" y="2127960"/>
            <a:ext cx="2615040" cy="11667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  <a:ea typeface="Arial"/>
              </a:rPr>
              <a:t>User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  <a:ea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78280" y="4966560"/>
            <a:ext cx="2615040" cy="11667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  <a:ea typeface="Arial"/>
              </a:rPr>
              <a:t>Supplier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  <a:ea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64120" y="2711520"/>
            <a:ext cx="0" cy="479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46480" y="5616720"/>
            <a:ext cx="0" cy="4791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3040" y="6227640"/>
            <a:ext cx="38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Interoperabilit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307-4FE2-428D-A9D0-DB43544468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rvati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2492280"/>
            <a:ext cx="38862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ts will build on Rauber’s preservation plann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servation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llection and community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s can be executed on sample content and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s can impact a repository, ingest workflow, delivery work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ces will be evaluated in real organisational con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005280" y="1320840"/>
            <a:ext cx="6127920" cy="3341520"/>
            <a:chOff x="3005280" y="1320840"/>
            <a:chExt cx="6127920" cy="3341520"/>
          </a:xfrm>
        </p:grpSpPr>
        <p:sp>
          <p:nvSpPr>
            <p:cNvPr id="133" name=""/>
            <p:cNvSpPr/>
            <p:nvPr/>
          </p:nvSpPr>
          <p:spPr>
            <a:xfrm>
              <a:off x="4133520" y="1868760"/>
              <a:ext cx="1563120" cy="56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lan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72640" y="1927800"/>
              <a:ext cx="1854360" cy="56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valu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44600" y="3183840"/>
              <a:ext cx="1737720" cy="56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xecu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05280" y="1794600"/>
              <a:ext cx="810720" cy="316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oli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5280" y="2166120"/>
              <a:ext cx="810720" cy="31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36" idx="3"/>
              <a:endCxn id="133" idx="2"/>
            </p:cNvCxnSpPr>
            <p:nvPr/>
          </p:nvCxnSpPr>
          <p:spPr>
            <a:xfrm>
              <a:off x="3816000" y="1952640"/>
              <a:ext cx="498240" cy="198000"/>
            </a:xfrm>
            <a:prstGeom prst="bentConnector3">
              <a:avLst>
                <a:gd name="adj1" fmla="val 4996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7" idx="3"/>
              <a:endCxn id="133" idx="2"/>
            </p:cNvCxnSpPr>
            <p:nvPr/>
          </p:nvCxnSpPr>
          <p:spPr>
            <a:xfrm flipV="1">
              <a:off x="3816000" y="2149200"/>
              <a:ext cx="498240" cy="174600"/>
            </a:xfrm>
            <a:prstGeom prst="bentConnector3">
              <a:avLst>
                <a:gd name="adj1" fmla="val 4996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40" name=""/>
            <p:cNvGrpSpPr/>
            <p:nvPr/>
          </p:nvGrpSpPr>
          <p:grpSpPr>
            <a:xfrm>
              <a:off x="5993640" y="1990800"/>
              <a:ext cx="931680" cy="376920"/>
              <a:chOff x="5993640" y="1990800"/>
              <a:chExt cx="931680" cy="376920"/>
            </a:xfrm>
          </p:grpSpPr>
          <p:sp>
            <p:nvSpPr>
              <p:cNvPr id="141" name=""/>
              <p:cNvSpPr/>
              <p:nvPr/>
            </p:nvSpPr>
            <p:spPr>
              <a:xfrm>
                <a:off x="5993640" y="1990800"/>
                <a:ext cx="811080" cy="315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Pl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14240" y="2052000"/>
                <a:ext cx="811080" cy="315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Pl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3" name=""/>
            <p:cNvCxnSpPr>
              <a:stCxn id="133" idx="6"/>
              <a:endCxn id="141" idx="1"/>
            </p:cNvCxnSpPr>
            <p:nvPr/>
          </p:nvCxnSpPr>
          <p:spPr>
            <a:xfrm flipV="1">
              <a:off x="5513760" y="2148120"/>
              <a:ext cx="480240" cy="1800"/>
            </a:xfrm>
            <a:prstGeom prst="bentConnector3">
              <a:avLst>
                <a:gd name="adj1" fmla="val 4981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2" idx="3"/>
              <a:endCxn id="134" idx="2"/>
            </p:cNvCxnSpPr>
            <p:nvPr/>
          </p:nvCxnSpPr>
          <p:spPr>
            <a:xfrm flipV="1">
              <a:off x="6925680" y="2208240"/>
              <a:ext cx="444960" cy="1800"/>
            </a:xfrm>
            <a:prstGeom prst="bentConnector3">
              <a:avLst>
                <a:gd name="adj1" fmla="val 49797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7479720" y="1320840"/>
              <a:ext cx="1238400" cy="5886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5" idx="3"/>
              <a:endCxn id="134" idx="0"/>
            </p:cNvCxnSpPr>
            <p:nvPr/>
          </p:nvCxnSpPr>
          <p:spPr>
            <a:xfrm>
              <a:off x="8099280" y="1832760"/>
              <a:ext cx="1800" cy="16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7" name=""/>
            <p:cNvCxnSpPr>
              <a:stCxn id="134" idx="1"/>
              <a:endCxn id="133" idx="7"/>
            </p:cNvCxnSpPr>
            <p:nvPr/>
          </p:nvCxnSpPr>
          <p:spPr>
            <a:xfrm flipV="1" rot="16200000">
              <a:off x="6431040" y="908640"/>
              <a:ext cx="59400" cy="2246400"/>
            </a:xfrm>
            <a:prstGeom prst="curvedConnector5">
              <a:avLst>
                <a:gd name="adj1" fmla="val 501829"/>
                <a:gd name="adj2" fmla="val 49991"/>
                <a:gd name="adj3" fmla="val 50182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4507560" y="2499480"/>
              <a:ext cx="811080" cy="31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3" idx="4"/>
              <a:endCxn id="148" idx="0"/>
            </p:cNvCxnSpPr>
            <p:nvPr/>
          </p:nvCxnSpPr>
          <p:spPr>
            <a:xfrm rot="5400000">
              <a:off x="4842000" y="2427480"/>
              <a:ext cx="142920" cy="21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8" idx="2"/>
              <a:endCxn id="135" idx="0"/>
            </p:cNvCxnSpPr>
            <p:nvPr/>
          </p:nvCxnSpPr>
          <p:spPr>
            <a:xfrm flipH="1" rot="16200000">
              <a:off x="4692240" y="3035880"/>
              <a:ext cx="443160" cy="2160"/>
            </a:xfrm>
            <a:prstGeom prst="bentConnector3">
              <a:avLst>
                <a:gd name="adj1" fmla="val 49837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7067520" y="3183840"/>
              <a:ext cx="2065680" cy="563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posi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38240" y="2549160"/>
              <a:ext cx="1540800" cy="58860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ont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35" idx="6"/>
              <a:endCxn id="151" idx="2"/>
            </p:cNvCxnSpPr>
            <p:nvPr/>
          </p:nvCxnSpPr>
          <p:spPr>
            <a:xfrm>
              <a:off x="5597280" y="3465000"/>
              <a:ext cx="1693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4" name=""/>
            <p:cNvCxnSpPr>
              <a:stCxn id="152" idx="3"/>
              <a:endCxn id="151" idx="0"/>
            </p:cNvCxnSpPr>
            <p:nvPr/>
          </p:nvCxnSpPr>
          <p:spPr>
            <a:xfrm flipH="1">
              <a:off x="8100360" y="3061080"/>
              <a:ext cx="9000" cy="198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5" name=""/>
            <p:cNvSpPr/>
            <p:nvPr/>
          </p:nvSpPr>
          <p:spPr>
            <a:xfrm>
              <a:off x="7287480" y="4098600"/>
              <a:ext cx="1623600" cy="563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eli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>
              <a:stCxn id="155" idx="0"/>
              <a:endCxn id="151" idx="4"/>
            </p:cNvCxnSpPr>
            <p:nvPr/>
          </p:nvCxnSpPr>
          <p:spPr>
            <a:xfrm flipV="1">
              <a:off x="8099280" y="3672000"/>
              <a:ext cx="1800" cy="499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7" name=""/>
            <p:cNvCxnSpPr>
              <a:stCxn id="155" idx="2"/>
              <a:endCxn id="135" idx="4"/>
            </p:cNvCxnSpPr>
            <p:nvPr/>
          </p:nvCxnSpPr>
          <p:spPr>
            <a:xfrm rot="10800000">
              <a:off x="4914000" y="3671640"/>
              <a:ext cx="2546640" cy="706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F55-EC45-4D7E-88AA-A4364A23DD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 Character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ts focuses on characterising content in order to support preservation planning and preservation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ve away from high up-front costs to establish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Ls migration project provides an illustrative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ages were segmented into 20+ groups based on parameters of the transform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ll build on TNAs PRONOM service for file-forma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e a characterisatio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e an extractio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e an pluggable 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verage understanding to recommend improvements in file forma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ablish methods for evaluating loss due to preservation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14F-59C1-4BAB-B67B-5740EC79EB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rvation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orm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pluggable infrastructure to wrap third-party transform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l gaps with purpose-build transform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ress need to preserve relational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on Swiss Archiv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ress need to preserve Microsoft Offic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on MS Office12 migr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orm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ular emulation of the full hardware/softwar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s full look-and f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 for highly dynam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yered durable approach to e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s on IBM Universal Virtual Computer (UV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s robust migration-on-demand using today’s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ablish abstract devi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9733-BC76-4EA0-A0BF-4605F34508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1:39:23Z</dcterms:created>
  <dc:creator>Adam Farquhar</dc:creator>
  <dc:description/>
  <dc:language>en-US</dc:language>
  <cp:lastModifiedBy>Adam Farquhar</cp:lastModifiedBy>
  <dcterms:modified xsi:type="dcterms:W3CDTF">2006-06-07T09:23:29Z</dcterms:modified>
  <cp:revision>36</cp:revision>
  <dc:subject/>
  <dc:title>Planets Introduction</dc:title>
</cp:coreProperties>
</file>