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7FD-BF85-4588-BB8E-6795CE1E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875-5F52-49F9-A67F-3F4595D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6F4-F47D-4EBD-BAA7-40FE89C1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B6B-FB77-4B81-90E8-5BFD8B9E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6780-2CFA-46E6-BD97-3F61A542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E12-1E30-4A7C-8617-72B23418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2FA-EAF8-43D9-B970-3B25737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95B5-DF31-43C2-81A2-9CE3E3E4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F912-0D55-4ED6-84A4-2CB2492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3A7E-301F-4C56-B419-647DB379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6C6A-0262-4464-8C3A-8AC3F59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C84-0EE3-4C2B-AFF6-7DEB3C5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4EAD-46EB-4A42-B58C-ACB9512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24FB-3E98-4F75-86DB-93C01E3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C21B-6610-43E8-8810-F551B91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FC75-4784-4692-889F-075A46C8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CD0B-6675-4566-9BA4-54E685E8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F84-C005-438B-B8E4-D83F26B1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DEF-8A44-48B3-8FC4-DBEEBBE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D4F-F6FB-4751-84A1-1D84A0A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1F9-7C77-4719-8B9D-C0BEF1E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032-DB70-4E0C-9373-FE5B464F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F7A-C4D0-4874-BE90-AEEC8F8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BA3-5443-4055-92CE-22E6791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DB19-7871-4E03-937A-5DC5FADBE23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69236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7000" y="261900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BD0-EFDC-4FF8-A61D-0251DE34CEC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61920" y="503280"/>
            <a:ext cx="3924360" cy="1585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7000" y="261900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27000" y="4419360"/>
            <a:ext cx="77407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m Farquha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don, 13-June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2354-C8FC-4A5D-9130-F104236366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Framework and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ets provides an interoperability framework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operable distribut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 registries and shared data-s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apsulate tools a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chestration capability to combin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ets testb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a foundation for objective evaluation of preservation actions, characterisation services, and preservation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a controlled research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able partners to conduct experiments, load content objects, execute tests, evaluate the results, and compare the outcome to similar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s use of the Interoperability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a shared infrastructure for the  preservation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ables external organisations to validate their preservation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es content collections and preservation scenarios for benchm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es certification criteria and procedures to evaluate third party tool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4105080" cy="3038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89F-7E6D-48BB-A44B-64F3D2112A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s together National Archives, and Libraries with University researchers and technology vendors to meet the challenges of ensuring long-term access to digital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strong digital archiving and preservation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es core digital preservation challenges with a focus on the needs of Libraries and Arch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tial to address wider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provide an interoperable framework that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 third-parties to provide tool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 vendors to integrate preserv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 content owners to ensure long-term access to their digit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use an empirical approach to gather evidence on what works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use the evidence to guide projec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F9F-2E3D-42DD-B3E0-2939930723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gital Information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National Libraries an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he legal responsibility and the legislative framework to safeguard digital information and provide sustained access to digital cultural and scientific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ociety risks a gaping hole in the cultural and scientific record unless we act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the challenge of preserving access goes beyond the capabilities of any singl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s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Planets Project brings together stakeholders across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Archives of Great Britain, The Netherlands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Libraries of Austria, Denmark, Great Britain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takeholders have advanced practices and strong motivation to find practical deployab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  leading research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 of Cologne, University of Freiberg, University of Glasgow, Technical University of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ing technology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strian Research Center, Tess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F0B-66DA-4A9C-BC97-7B0992FAC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Europe’s ability to ensure long-term access to its cultural and scientific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decision-making about long term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long-term access to valued digita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 the costs of preservation actions through increased automation, scaleabl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wide adoption across the user community and establish market place for preservation servic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60D-F955-497D-A3AC-3CCC8CF8A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ompos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ETS will devel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ning services that empower organisations to define, evaluate, and execute 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ies, tools and services for Characterisation of digital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ovative solutions for Preservation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roperability  Framework to seamlessly integrate tools and services in a distributed servic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stbed to provide a consistent and coherent evidence-base for the objective evaluation of different protocols, tools, services and complete preservation p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16A-08EE-4E8A-986E-FD90D694E5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Architecture Reflects Problem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3360" y="1531800"/>
            <a:ext cx="8577000" cy="52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8600" y="1687680"/>
            <a:ext cx="542160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66000" y="2093760"/>
            <a:ext cx="1983600" cy="1753920"/>
            <a:chOff x="1566000" y="2093760"/>
            <a:chExt cx="1983600" cy="1753920"/>
          </a:xfrm>
        </p:grpSpPr>
        <p:sp>
          <p:nvSpPr>
            <p:cNvPr id="105" name=""/>
            <p:cNvSpPr/>
            <p:nvPr/>
          </p:nvSpPr>
          <p:spPr>
            <a:xfrm>
              <a:off x="1604880" y="209376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6000" y="222408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06400" y="33764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09560" y="4412520"/>
            <a:ext cx="1944720" cy="175428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9000" y="503388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55920" y="384660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2440" y="2097000"/>
            <a:ext cx="194436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2520" y="215748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06720" y="3314880"/>
            <a:ext cx="178740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6720" y="4410000"/>
            <a:ext cx="222120" cy="6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85880" y="3838320"/>
            <a:ext cx="222480" cy="61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839400" y="46918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5400000">
            <a:off x="3375720" y="5326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57520" y="5101560"/>
            <a:ext cx="6480" cy="222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54400" y="5736600"/>
            <a:ext cx="6480" cy="2221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3826800" y="191052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5400000">
            <a:off x="3382200" y="244404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51160" y="2853720"/>
            <a:ext cx="6480" cy="2221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5200" y="2326680"/>
            <a:ext cx="6480" cy="2221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40440" y="3414600"/>
            <a:ext cx="18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ake-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78280" y="2127960"/>
            <a:ext cx="2615040" cy="11667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User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78280" y="4966560"/>
            <a:ext cx="2615040" cy="11667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Supplier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4120" y="271152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46480" y="5616720"/>
            <a:ext cx="0" cy="4791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622764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C28-F0E1-42C7-B8E1-565BD8D2E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38862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ts will build on Rauber’s preservation plann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erv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lection and community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s can be executed on sample content and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s can impact a repository, ingest workflow, delivery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s will be evaluated in real organisational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05280" y="1320840"/>
            <a:ext cx="6127920" cy="3341520"/>
            <a:chOff x="3005280" y="1320840"/>
            <a:chExt cx="6127920" cy="3341520"/>
          </a:xfrm>
        </p:grpSpPr>
        <p:sp>
          <p:nvSpPr>
            <p:cNvPr id="133" name=""/>
            <p:cNvSpPr/>
            <p:nvPr/>
          </p:nvSpPr>
          <p:spPr>
            <a:xfrm>
              <a:off x="4133520" y="1868760"/>
              <a:ext cx="156312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72640" y="1927800"/>
              <a:ext cx="185436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valu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4600" y="3183840"/>
              <a:ext cx="173772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xecu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5280" y="1794600"/>
              <a:ext cx="810720" cy="316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5280" y="2166120"/>
              <a:ext cx="810720" cy="31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6" idx="3"/>
              <a:endCxn id="133" idx="2"/>
            </p:cNvCxnSpPr>
            <p:nvPr/>
          </p:nvCxnSpPr>
          <p:spPr>
            <a:xfrm>
              <a:off x="3816000" y="1952640"/>
              <a:ext cx="498240" cy="198000"/>
            </a:xfrm>
            <a:prstGeom prst="bentConnector3">
              <a:avLst>
                <a:gd name="adj1" fmla="val 4996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7" idx="3"/>
              <a:endCxn id="133" idx="2"/>
            </p:cNvCxnSpPr>
            <p:nvPr/>
          </p:nvCxnSpPr>
          <p:spPr>
            <a:xfrm flipV="1">
              <a:off x="3816000" y="2149200"/>
              <a:ext cx="498240" cy="174600"/>
            </a:xfrm>
            <a:prstGeom prst="bentConnector3">
              <a:avLst>
                <a:gd name="adj1" fmla="val 4996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0" name=""/>
            <p:cNvGrpSpPr/>
            <p:nvPr/>
          </p:nvGrpSpPr>
          <p:grpSpPr>
            <a:xfrm>
              <a:off x="5993640" y="1990800"/>
              <a:ext cx="931680" cy="376920"/>
              <a:chOff x="5993640" y="1990800"/>
              <a:chExt cx="931680" cy="376920"/>
            </a:xfrm>
          </p:grpSpPr>
          <p:sp>
            <p:nvSpPr>
              <p:cNvPr id="141" name=""/>
              <p:cNvSpPr/>
              <p:nvPr/>
            </p:nvSpPr>
            <p:spPr>
              <a:xfrm>
                <a:off x="5993640" y="1990800"/>
                <a:ext cx="8110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P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14240" y="2052000"/>
                <a:ext cx="8110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P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3" name=""/>
            <p:cNvCxnSpPr>
              <a:stCxn id="133" idx="6"/>
              <a:endCxn id="141" idx="1"/>
            </p:cNvCxnSpPr>
            <p:nvPr/>
          </p:nvCxnSpPr>
          <p:spPr>
            <a:xfrm flipV="1">
              <a:off x="5513760" y="2148120"/>
              <a:ext cx="480240" cy="1800"/>
            </a:xfrm>
            <a:prstGeom prst="bentConnector3">
              <a:avLst>
                <a:gd name="adj1" fmla="val 4981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2" idx="3"/>
              <a:endCxn id="134" idx="2"/>
            </p:cNvCxnSpPr>
            <p:nvPr/>
          </p:nvCxnSpPr>
          <p:spPr>
            <a:xfrm flipV="1">
              <a:off x="6925680" y="2208240"/>
              <a:ext cx="444960" cy="1800"/>
            </a:xfrm>
            <a:prstGeom prst="bentConnector3">
              <a:avLst>
                <a:gd name="adj1" fmla="val 4979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7479720" y="1320840"/>
              <a:ext cx="1238400" cy="588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3"/>
              <a:endCxn id="134" idx="0"/>
            </p:cNvCxnSpPr>
            <p:nvPr/>
          </p:nvCxnSpPr>
          <p:spPr>
            <a:xfrm>
              <a:off x="8099280" y="1832760"/>
              <a:ext cx="1800" cy="16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7" name=""/>
            <p:cNvCxnSpPr>
              <a:stCxn id="134" idx="1"/>
              <a:endCxn id="133" idx="7"/>
            </p:cNvCxnSpPr>
            <p:nvPr/>
          </p:nvCxnSpPr>
          <p:spPr>
            <a:xfrm flipV="1" rot="16200000">
              <a:off x="6431040" y="908640"/>
              <a:ext cx="59400" cy="2246400"/>
            </a:xfrm>
            <a:prstGeom prst="curvedConnector5">
              <a:avLst>
                <a:gd name="adj1" fmla="val 501829"/>
                <a:gd name="adj2" fmla="val 49991"/>
                <a:gd name="adj3" fmla="val 50182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507560" y="2499480"/>
              <a:ext cx="811080" cy="31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3" idx="4"/>
              <a:endCxn id="148" idx="0"/>
            </p:cNvCxnSpPr>
            <p:nvPr/>
          </p:nvCxnSpPr>
          <p:spPr>
            <a:xfrm rot="5400000">
              <a:off x="4842000" y="2427480"/>
              <a:ext cx="14292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8" idx="2"/>
              <a:endCxn id="135" idx="0"/>
            </p:cNvCxnSpPr>
            <p:nvPr/>
          </p:nvCxnSpPr>
          <p:spPr>
            <a:xfrm flipH="1" rot="16200000">
              <a:off x="4692240" y="3035880"/>
              <a:ext cx="443160" cy="2160"/>
            </a:xfrm>
            <a:prstGeom prst="bentConnector3">
              <a:avLst>
                <a:gd name="adj1" fmla="val 4983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7067520" y="3183840"/>
              <a:ext cx="2065680" cy="563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posi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8240" y="2549160"/>
              <a:ext cx="1540800" cy="58860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35" idx="6"/>
              <a:endCxn id="151" idx="2"/>
            </p:cNvCxnSpPr>
            <p:nvPr/>
          </p:nvCxnSpPr>
          <p:spPr>
            <a:xfrm>
              <a:off x="5597280" y="3465000"/>
              <a:ext cx="1693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52" idx="3"/>
              <a:endCxn id="151" idx="0"/>
            </p:cNvCxnSpPr>
            <p:nvPr/>
          </p:nvCxnSpPr>
          <p:spPr>
            <a:xfrm flipH="1">
              <a:off x="8100360" y="3061080"/>
              <a:ext cx="9000" cy="19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7287480" y="4098600"/>
              <a:ext cx="1623600" cy="563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eli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5" idx="0"/>
              <a:endCxn id="151" idx="4"/>
            </p:cNvCxnSpPr>
            <p:nvPr/>
          </p:nvCxnSpPr>
          <p:spPr>
            <a:xfrm flipV="1">
              <a:off x="8099280" y="3672000"/>
              <a:ext cx="1800" cy="499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5" idx="2"/>
              <a:endCxn id="135" idx="4"/>
            </p:cNvCxnSpPr>
            <p:nvPr/>
          </p:nvCxnSpPr>
          <p:spPr>
            <a:xfrm rot="10800000">
              <a:off x="4914000" y="3671640"/>
              <a:ext cx="2546640" cy="706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179-853C-4DE7-8F37-FE73057B8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Characte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ts focuses on characterising content in order to support preservation planning and preservation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 away from high up-front costs to establish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Ls migration project provides an illustrativ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ages were segmented into 20+ groups based on parameters of the transform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ll build on TNAs PRONOM service for file-forma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 characterisa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n extrac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n pluggable 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rage understanding to recommend improvements in file forma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 methods for evaluating loss due to preservation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2CA-BA9E-40EC-A9CF-6390D5793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orm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pluggable infrastructure to wrap third-party transform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l gaps with purpose-build transform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 need to preserve 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Swiss Archiv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 need to preserve Microsoft Offic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MS Office12 migr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orm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ular emulation of the full hardware/softwa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full look-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 for highly dynam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ered durable approach to 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IBM Universal Virtual Computer (U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robust migration-on-demand using today’s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 abstract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16D-A3AB-498C-A123-66A18E22C0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1:39:23Z</dcterms:created>
  <dc:creator>Adam Farquhar</dc:creator>
  <dc:description/>
  <dc:language>en-US</dc:language>
  <cp:lastModifiedBy>Adam Farquhar</cp:lastModifiedBy>
  <dcterms:modified xsi:type="dcterms:W3CDTF">2006-06-07T09:23:29Z</dcterms:modified>
  <cp:revision>36</cp:revision>
  <dc:subject/>
  <dc:title>Planets Introduction</dc:title>
</cp:coreProperties>
</file>