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3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EE0D-D6D0-4084-B7A2-AB44A946760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80F7-AE0A-45E8-8B45-8B4AB25A0E1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45720" y="4862160"/>
            <a:ext cx="52866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0E95-821B-4AC3-AE6F-68626C199C4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367D-37CD-48FA-9EF9-1065B12E897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5A5B-41C4-42BF-8128-7573F8C7254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6EDA-23DC-4082-8A35-9B32B78E24F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0765-5D02-48CC-8DA4-897E85BC73D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EBA9-CA3D-46C6-9883-F2556E77420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45720" y="4862160"/>
            <a:ext cx="5286600" cy="46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EB3E-B521-4C32-A422-3749270EDC5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45720" y="4862160"/>
            <a:ext cx="5286600" cy="46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1C7B-9676-471A-90BF-FBCE1BEE6C0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5720" y="4862160"/>
            <a:ext cx="5286600" cy="46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47C0-E2B4-4B9E-99A9-6CF2B725C1A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8922-947B-4A21-BC62-E213108830A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B1A8-89C7-408E-A19B-A183339D508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BE02-1937-4FF2-9DF1-41F3378D94B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1280" y="388908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116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276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424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128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276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424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19280" y="240840"/>
            <a:ext cx="71388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116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11280" y="388908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116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276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424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1128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276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424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19280" y="240840"/>
            <a:ext cx="71388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8116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1280" y="388908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8116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276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1424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128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276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1424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619280" y="240840"/>
            <a:ext cx="71388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8116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11280" y="388908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8116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276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11424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1128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276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11424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19280" y="240840"/>
            <a:ext cx="71388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116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3962520" y="6324480"/>
            <a:ext cx="4800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 . . . . . . . . . . . . . . . . . . . . . . . . . . . . . . . . . . . . . . . . . .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rufzeichen_tu_4c_uk"/>
          <p:cNvPicPr/>
          <p:nvPr/>
        </p:nvPicPr>
        <p:blipFill>
          <a:blip r:embed="rId2"/>
          <a:stretch/>
        </p:blipFill>
        <p:spPr>
          <a:xfrm>
            <a:off x="179280" y="189000"/>
            <a:ext cx="1292400" cy="6141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6" descr="schriftzug_4c_uk"/>
          <p:cNvPicPr/>
          <p:nvPr/>
        </p:nvPicPr>
        <p:blipFill>
          <a:blip r:embed="rId3"/>
          <a:stretch/>
        </p:blipFill>
        <p:spPr>
          <a:xfrm>
            <a:off x="6265800" y="6572160"/>
            <a:ext cx="2519280" cy="125640"/>
          </a:xfrm>
          <a:prstGeom prst="rect">
            <a:avLst/>
          </a:prstGeom>
          <a:ln w="0">
            <a:noFill/>
          </a:ln>
        </p:spPr>
      </p:pic>
      <p:sp>
        <p:nvSpPr>
          <p:cNvPr id="3" name="Text Box 7"/>
          <p:cNvSpPr/>
          <p:nvPr/>
        </p:nvSpPr>
        <p:spPr>
          <a:xfrm>
            <a:off x="228600" y="762120"/>
            <a:ext cx="611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 . . . . . . . . . . . . . . . . . . . . . . . . . . . . . . . . . . . . . . . . . .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Planetslogowhitebg.png"/>
          <p:cNvPicPr/>
          <p:nvPr/>
        </p:nvPicPr>
        <p:blipFill>
          <a:blip r:embed="rId4"/>
          <a:stretch/>
        </p:blipFill>
        <p:spPr>
          <a:xfrm>
            <a:off x="0" y="5940360"/>
            <a:ext cx="2133720" cy="917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962520" y="6324480"/>
            <a:ext cx="4800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 . . . . . . . . . . . . . . . . . . . . . . . . . . . . . . . . . . . . . . . . . .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rufzeichen_tu_4c_uk"/>
          <p:cNvPicPr/>
          <p:nvPr/>
        </p:nvPicPr>
        <p:blipFill>
          <a:blip r:embed="rId2"/>
          <a:stretch/>
        </p:blipFill>
        <p:spPr>
          <a:xfrm>
            <a:off x="179280" y="189000"/>
            <a:ext cx="1292400" cy="614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schriftzug_4c_uk"/>
          <p:cNvPicPr/>
          <p:nvPr/>
        </p:nvPicPr>
        <p:blipFill>
          <a:blip r:embed="rId3"/>
          <a:stretch/>
        </p:blipFill>
        <p:spPr>
          <a:xfrm>
            <a:off x="6265800" y="6572160"/>
            <a:ext cx="2519280" cy="125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228600" y="762120"/>
            <a:ext cx="611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 . . . . . . . . . . . . . . . . . . . . . . . . . . . . . . . . . . . . . . . . . .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Planetslogowhitebg.png"/>
          <p:cNvPicPr/>
          <p:nvPr/>
        </p:nvPicPr>
        <p:blipFill>
          <a:blip r:embed="rId4"/>
          <a:stretch/>
        </p:blipFill>
        <p:spPr>
          <a:xfrm>
            <a:off x="0" y="5940360"/>
            <a:ext cx="2133720" cy="917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962520" y="6324480"/>
            <a:ext cx="4800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 . . . . . . . . . . . . . . . . . . . . . . . . . . . . . . . . . . . . . . . . . .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rufzeichen_tu_4c_uk"/>
          <p:cNvPicPr/>
          <p:nvPr/>
        </p:nvPicPr>
        <p:blipFill>
          <a:blip r:embed="rId2"/>
          <a:stretch/>
        </p:blipFill>
        <p:spPr>
          <a:xfrm>
            <a:off x="179280" y="189000"/>
            <a:ext cx="1292400" cy="614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schriftzug_4c_uk"/>
          <p:cNvPicPr/>
          <p:nvPr/>
        </p:nvPicPr>
        <p:blipFill>
          <a:blip r:embed="rId3"/>
          <a:stretch/>
        </p:blipFill>
        <p:spPr>
          <a:xfrm>
            <a:off x="6265800" y="6572160"/>
            <a:ext cx="2519280" cy="125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228600" y="762120"/>
            <a:ext cx="611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 . . . . . . . . . . . . . . . . . . . . . . . . . . . . . . . . . . . . . . . . . .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Planetslogowhitebg.png"/>
          <p:cNvPicPr/>
          <p:nvPr/>
        </p:nvPicPr>
        <p:blipFill>
          <a:blip r:embed="rId4"/>
          <a:stretch/>
        </p:blipFill>
        <p:spPr>
          <a:xfrm>
            <a:off x="0" y="5940360"/>
            <a:ext cx="2133720" cy="91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62520" y="6324480"/>
            <a:ext cx="4800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 . . . . . . . . . . . . . . . . . . . . . . . . . . . . . . . . . . . . . . . . . .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rufzeichen_tu_4c_uk"/>
          <p:cNvPicPr/>
          <p:nvPr/>
        </p:nvPicPr>
        <p:blipFill>
          <a:blip r:embed="rId2"/>
          <a:stretch/>
        </p:blipFill>
        <p:spPr>
          <a:xfrm>
            <a:off x="179280" y="189000"/>
            <a:ext cx="1292400" cy="614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schriftzug_4c_uk"/>
          <p:cNvPicPr/>
          <p:nvPr/>
        </p:nvPicPr>
        <p:blipFill>
          <a:blip r:embed="rId3"/>
          <a:stretch/>
        </p:blipFill>
        <p:spPr>
          <a:xfrm>
            <a:off x="6265800" y="6572160"/>
            <a:ext cx="2519280" cy="125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228600" y="762120"/>
            <a:ext cx="611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 . . . . . . . . . . . . . . . . . . . . . . . . . . . . . . . . . . . . . . . . . .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Planetslogowhitebg.png"/>
          <p:cNvPicPr/>
          <p:nvPr/>
        </p:nvPicPr>
        <p:blipFill>
          <a:blip r:embed="rId4"/>
          <a:stretch/>
        </p:blipFill>
        <p:spPr>
          <a:xfrm>
            <a:off x="0" y="5940360"/>
            <a:ext cx="2133720" cy="917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ervation Plann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Lis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 6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Christoph B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Vienna University of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240840"/>
            <a:ext cx="5086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Measurabl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371600"/>
            <a:ext cx="578952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f criteria should be objectively measu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s p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 p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s of colour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jective scales where necess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 of a file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d1c2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ntitative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0"/>
          <p:cNvGraphicFramePr/>
          <p:nvPr/>
        </p:nvGraphicFramePr>
        <p:xfrm>
          <a:off x="6477120" y="152280"/>
          <a:ext cx="2392200" cy="17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52280"/>
                    <a:ext cx="239220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3"/>
          <p:cNvSpPr/>
          <p:nvPr/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tna" descr=""/>
          <p:cNvPicPr/>
          <p:nvPr/>
        </p:nvPicPr>
        <p:blipFill>
          <a:blip r:embed="rId3"/>
          <a:stretch/>
        </p:blipFill>
        <p:spPr>
          <a:xfrm>
            <a:off x="533520" y="1171440"/>
            <a:ext cx="7467480" cy="4686480"/>
          </a:xfrm>
          <a:prstGeom prst="rect">
            <a:avLst/>
          </a:prstGeom>
          <a:ln w="0">
            <a:noFill/>
          </a:ln>
        </p:spPr>
      </p:pic>
      <p:sp>
        <p:nvSpPr>
          <p:cNvPr id="214" name="Oval 6"/>
          <p:cNvSpPr/>
          <p:nvPr/>
        </p:nvSpPr>
        <p:spPr>
          <a:xfrm>
            <a:off x="3276720" y="1371600"/>
            <a:ext cx="18288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2286000" y="2590920"/>
            <a:ext cx="17524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8"/>
          <p:cNvSpPr/>
          <p:nvPr/>
        </p:nvSpPr>
        <p:spPr>
          <a:xfrm>
            <a:off x="2743200" y="5181480"/>
            <a:ext cx="22860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2: Evaluate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9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ed1c24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Altern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 and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ed1c24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/No-Go dec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ed1c24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experi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ed1c24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n experi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ed1c24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e experi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6"/>
          <p:cNvGraphicFramePr/>
          <p:nvPr/>
        </p:nvGraphicFramePr>
        <p:xfrm>
          <a:off x="4572000" y="1676520"/>
          <a:ext cx="3611520" cy="27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676520"/>
                    <a:ext cx="3611520" cy="27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57722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3: Conside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8640" y="1523880"/>
            <a:ext cx="8151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ed1c24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 measured values to a unified scale (0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d1c24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importance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d1c24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of each altern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eac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 altern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7467480" y="76320"/>
          <a:ext cx="1582920" cy="118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76320"/>
                    <a:ext cx="1582920" cy="11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Picture 5" descr="F:\_mittwoch-donnerstag\talks\fp6-dp lisbon sept2007\dtb-screen.png"/>
          <p:cNvPicPr/>
          <p:nvPr/>
        </p:nvPicPr>
        <p:blipFill>
          <a:blip r:embed="rId3"/>
          <a:stretch/>
        </p:blipFill>
        <p:spPr>
          <a:xfrm>
            <a:off x="4575240" y="2514600"/>
            <a:ext cx="45687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561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cision support for preservation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valuate alternative preservation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Clearly defined and measurabl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ell-defined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ocumented and accountable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561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Curre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813744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lectronic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Austrian National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Royal Library of the 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eb archiv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The National Archives of the 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ritish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ractive multimedia art: Ars Electronica, A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ocumentation and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gration of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Preservation Action and Characterisa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eak P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lato-screen-2" descr=""/>
          <p:cNvPicPr/>
          <p:nvPr/>
        </p:nvPicPr>
        <p:blipFill>
          <a:blip r:embed="rId1"/>
          <a:stretch/>
        </p:blipFill>
        <p:spPr>
          <a:xfrm>
            <a:off x="0" y="1158840"/>
            <a:ext cx="9144000" cy="5699160"/>
          </a:xfrm>
          <a:prstGeom prst="rect">
            <a:avLst/>
          </a:prstGeom>
          <a:ln w="0">
            <a:noFill/>
          </a:ln>
        </p:spPr>
      </p:pic>
      <p:pic>
        <p:nvPicPr>
          <p:cNvPr id="232" name="plato-screen-4" descr=""/>
          <p:cNvPicPr/>
          <p:nvPr/>
        </p:nvPicPr>
        <p:blipFill>
          <a:blip r:embed="rId2"/>
          <a:stretch/>
        </p:blipFill>
        <p:spPr>
          <a:xfrm>
            <a:off x="0" y="117000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11280" y="2743200"/>
            <a:ext cx="813744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MCSC10"/>
              </a:rPr>
              <a:t>Strodl, S., Becker, C., Neumayer, R., and Rauber, A. </a:t>
            </a:r>
            <a:r>
              <a:rPr b="0" lang="de-AT" sz="1800" spc="-1" strike="noStrike">
                <a:solidFill>
                  <a:srgbClr val="000000"/>
                </a:solidFill>
                <a:latin typeface="CMR12"/>
              </a:rPr>
              <a:t>How to choose a digital preservation strategy: Evaluating a preservation planning procedure. In </a:t>
            </a:r>
            <a:r>
              <a:rPr b="0" i="1" lang="de-AT" sz="1800" spc="-1" strike="noStrike">
                <a:solidFill>
                  <a:srgbClr val="000000"/>
                </a:solidFill>
                <a:latin typeface="CMTI12"/>
              </a:rPr>
              <a:t>Proceedings of the 7th ACM IEEE Joint Conference on Digital Libraries (JCDL'07) </a:t>
            </a:r>
            <a:r>
              <a:rPr b="0" lang="de-AT" sz="1800" spc="-1" strike="noStrike">
                <a:solidFill>
                  <a:srgbClr val="000000"/>
                </a:solidFill>
                <a:latin typeface="CMR12"/>
              </a:rPr>
              <a:t>(Vancouver, British Columbia, Canada, June 18-23 2007), IEEE Computer Society, pp. 29-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618920" y="240840"/>
            <a:ext cx="60008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880" y="240840"/>
            <a:ext cx="5943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Website (T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NA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B case study shor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91249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6076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142640"/>
            <a:ext cx="81374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rvation Planning in the PLANET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sion Support for Preservation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240840"/>
            <a:ext cx="85294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g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rvat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1280" y="1371600"/>
            <a:ext cx="813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ety of solutions and tools ex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strategy has its unique strengths and weak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ments vary across sett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sion on which solution to adopt is very compl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ation and accountability is essent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rvation planning assists in decision ma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99840" y="240840"/>
            <a:ext cx="7157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LANETS Preservati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ional policy and strategy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 mod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pro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activ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support for preservation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to support and automate preservation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240840"/>
            <a:ext cx="85294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eservation Planning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evaluation of preservation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requirements for different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 experiments and evaluate outcome against well-defined requirements and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-documented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DELOS Test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tch Testb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ty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ed model for preservation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3"/>
          <p:cNvGraphicFramePr/>
          <p:nvPr/>
        </p:nvGraphicFramePr>
        <p:xfrm>
          <a:off x="1371600" y="1174680"/>
          <a:ext cx="6477120" cy="48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174680"/>
                    <a:ext cx="647712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18920" y="240840"/>
            <a:ext cx="5543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1: Defin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4660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ed1c2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itutional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d1c2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sample objects/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ve for the objects in the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d1c2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e objective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8"/>
          <p:cNvGraphicFramePr/>
          <p:nvPr/>
        </p:nvGraphicFramePr>
        <p:xfrm>
          <a:off x="7010280" y="152280"/>
          <a:ext cx="1890720" cy="14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52280"/>
                    <a:ext cx="189072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523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3152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goals and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e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from high-level goals an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down to specific criteri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4 top-level branch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characteristic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ntent, metadata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characteristic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ntext, relations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characteristic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scalability, error detection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 object, HW/SW, personnel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0"/>
          <p:cNvGraphicFramePr/>
          <p:nvPr/>
        </p:nvGraphicFramePr>
        <p:xfrm>
          <a:off x="6477120" y="152280"/>
          <a:ext cx="24685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52280"/>
                    <a:ext cx="24685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523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0"/>
          <p:cNvGraphicFramePr/>
          <p:nvPr/>
        </p:nvGraphicFramePr>
        <p:xfrm>
          <a:off x="6477120" y="152280"/>
          <a:ext cx="24685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52280"/>
                    <a:ext cx="24685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Picture 5" descr="utility_analysis_chart"/>
          <p:cNvPicPr/>
          <p:nvPr/>
        </p:nvPicPr>
        <p:blipFill>
          <a:blip r:embed="rId3"/>
          <a:stretch/>
        </p:blipFill>
        <p:spPr>
          <a:xfrm>
            <a:off x="0" y="990720"/>
            <a:ext cx="2228760" cy="4965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utility_analysis_chart_2"/>
          <p:cNvPicPr/>
          <p:nvPr/>
        </p:nvPicPr>
        <p:blipFill>
          <a:blip r:embed="rId4"/>
          <a:stretch/>
        </p:blipFill>
        <p:spPr>
          <a:xfrm>
            <a:off x="2057400" y="1143000"/>
            <a:ext cx="2440080" cy="183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D:\cb\dp\vo\freemind.png"/>
          <p:cNvPicPr/>
          <p:nvPr/>
        </p:nvPicPr>
        <p:blipFill>
          <a:blip r:embed="rId5"/>
          <a:stretch/>
        </p:blipFill>
        <p:spPr>
          <a:xfrm>
            <a:off x="3919680" y="2819520"/>
            <a:ext cx="5224320" cy="4038480"/>
          </a:xfrm>
          <a:prstGeom prst="rect">
            <a:avLst/>
          </a:prstGeom>
          <a:ln w="0">
            <a:noFill/>
          </a:ln>
        </p:spPr>
      </p:pic>
      <p:sp>
        <p:nvSpPr>
          <p:cNvPr id="206" name="TextBox 9"/>
          <p:cNvSpPr/>
          <p:nvPr/>
        </p:nvSpPr>
        <p:spPr>
          <a:xfrm>
            <a:off x="4343400" y="1676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3048120" y="48006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born-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2T08:27:24Z</dcterms:created>
  <dc:creator>Christoph Becker</dc:creator>
  <dc:description/>
  <cp:keywords>digital preservation preservation planning PLANETS</cp:keywords>
  <dc:language>en-US</dc:language>
  <cp:lastModifiedBy>Christoph Becker</cp:lastModifiedBy>
  <dcterms:modified xsi:type="dcterms:W3CDTF">2007-09-06T13:20:24Z</dcterms:modified>
  <cp:revision>598</cp:revision>
  <dc:subject/>
  <dc:title>Preservation Planning in PLANETS</dc:title>
</cp:coreProperties>
</file>