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6F6-BB1A-4DF6-BEEF-12428E0816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DD3C-1C53-4E2E-B21D-750B34C2DC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866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B2A2-0E95-48BE-AEB9-8DC78B948D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9313-50E5-45FE-B7E9-C106AA404E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A9FC-0202-40EE-8FFE-4D4BC60EA8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8033-4E8B-4634-810A-6064E32F47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4A57-82D4-4EFC-A76D-E36B56D242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18FE-0470-45A1-897D-8C6D8B0879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86600" cy="46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21D-AB99-4D50-B864-419DFA6E58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86600" cy="46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A5B7-F2BF-437D-A31A-83249BDC54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5720" y="4862160"/>
            <a:ext cx="5286600" cy="46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CB3A-E7F7-4D85-B8AE-16380C88C2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DACD-9E77-45E7-9547-5A758E4B1E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9F1A-F256-404F-9BDF-9AFC8857B6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D06B-6327-4426-9A55-2A8F06ED99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276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424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128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276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424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19280" y="240840"/>
            <a:ext cx="71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76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424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128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276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424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19280" y="240840"/>
            <a:ext cx="71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276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1424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128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276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1424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19280" y="240840"/>
            <a:ext cx="71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276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14240" y="155736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1128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276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14240" y="3889080"/>
            <a:ext cx="26200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9280" y="240840"/>
            <a:ext cx="71388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1160" y="388908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1160" y="1557360"/>
            <a:ext cx="3970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1280" y="3889080"/>
            <a:ext cx="81374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962520" y="6324480"/>
            <a:ext cx="480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rufzeichen_tu_4c_uk"/>
          <p:cNvPicPr/>
          <p:nvPr/>
        </p:nvPicPr>
        <p:blipFill>
          <a:blip r:embed="rId2"/>
          <a:stretch/>
        </p:blipFill>
        <p:spPr>
          <a:xfrm>
            <a:off x="179280" y="18900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schriftzug_4c_uk"/>
          <p:cNvPicPr/>
          <p:nvPr/>
        </p:nvPicPr>
        <p:blipFill>
          <a:blip r:embed="rId3"/>
          <a:stretch/>
        </p:blipFill>
        <p:spPr>
          <a:xfrm>
            <a:off x="6265800" y="6572160"/>
            <a:ext cx="2519280" cy="125640"/>
          </a:xfrm>
          <a:prstGeom prst="rect">
            <a:avLst/>
          </a:prstGeom>
          <a:ln w="0">
            <a:noFill/>
          </a:ln>
        </p:spPr>
      </p:pic>
      <p:sp>
        <p:nvSpPr>
          <p:cNvPr id="3" name="Text Box 7"/>
          <p:cNvSpPr/>
          <p:nvPr/>
        </p:nvSpPr>
        <p:spPr>
          <a:xfrm>
            <a:off x="228600" y="762120"/>
            <a:ext cx="611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Planetslogowhitebg.png"/>
          <p:cNvPicPr/>
          <p:nvPr/>
        </p:nvPicPr>
        <p:blipFill>
          <a:blip r:embed="rId4"/>
          <a:stretch/>
        </p:blipFill>
        <p:spPr>
          <a:xfrm>
            <a:off x="0" y="5940360"/>
            <a:ext cx="2133720" cy="917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62520" y="6324480"/>
            <a:ext cx="480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rufzeichen_tu_4c_uk"/>
          <p:cNvPicPr/>
          <p:nvPr/>
        </p:nvPicPr>
        <p:blipFill>
          <a:blip r:embed="rId2"/>
          <a:stretch/>
        </p:blipFill>
        <p:spPr>
          <a:xfrm>
            <a:off x="179280" y="18900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schriftzug_4c_uk"/>
          <p:cNvPicPr/>
          <p:nvPr/>
        </p:nvPicPr>
        <p:blipFill>
          <a:blip r:embed="rId3"/>
          <a:stretch/>
        </p:blipFill>
        <p:spPr>
          <a:xfrm>
            <a:off x="6265800" y="6572160"/>
            <a:ext cx="2519280" cy="12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228600" y="762120"/>
            <a:ext cx="611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Planetslogowhitebg.png"/>
          <p:cNvPicPr/>
          <p:nvPr/>
        </p:nvPicPr>
        <p:blipFill>
          <a:blip r:embed="rId4"/>
          <a:stretch/>
        </p:blipFill>
        <p:spPr>
          <a:xfrm>
            <a:off x="0" y="5940360"/>
            <a:ext cx="2133720" cy="917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962520" y="6324480"/>
            <a:ext cx="480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ufzeichen_tu_4c_uk"/>
          <p:cNvPicPr/>
          <p:nvPr/>
        </p:nvPicPr>
        <p:blipFill>
          <a:blip r:embed="rId2"/>
          <a:stretch/>
        </p:blipFill>
        <p:spPr>
          <a:xfrm>
            <a:off x="179280" y="18900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chriftzug_4c_uk"/>
          <p:cNvPicPr/>
          <p:nvPr/>
        </p:nvPicPr>
        <p:blipFill>
          <a:blip r:embed="rId3"/>
          <a:stretch/>
        </p:blipFill>
        <p:spPr>
          <a:xfrm>
            <a:off x="6265800" y="6572160"/>
            <a:ext cx="2519280" cy="12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228600" y="762120"/>
            <a:ext cx="611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Planetslogowhitebg.png"/>
          <p:cNvPicPr/>
          <p:nvPr/>
        </p:nvPicPr>
        <p:blipFill>
          <a:blip r:embed="rId4"/>
          <a:stretch/>
        </p:blipFill>
        <p:spPr>
          <a:xfrm>
            <a:off x="0" y="5940360"/>
            <a:ext cx="2133720" cy="91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62520" y="6324480"/>
            <a:ext cx="480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rufzeichen_tu_4c_uk"/>
          <p:cNvPicPr/>
          <p:nvPr/>
        </p:nvPicPr>
        <p:blipFill>
          <a:blip r:embed="rId2"/>
          <a:stretch/>
        </p:blipFill>
        <p:spPr>
          <a:xfrm>
            <a:off x="179280" y="18900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schriftzug_4c_uk"/>
          <p:cNvPicPr/>
          <p:nvPr/>
        </p:nvPicPr>
        <p:blipFill>
          <a:blip r:embed="rId3"/>
          <a:stretch/>
        </p:blipFill>
        <p:spPr>
          <a:xfrm>
            <a:off x="6265800" y="6572160"/>
            <a:ext cx="2519280" cy="12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228600" y="762120"/>
            <a:ext cx="611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Planetslogowhitebg.png"/>
          <p:cNvPicPr/>
          <p:nvPr/>
        </p:nvPicPr>
        <p:blipFill>
          <a:blip r:embed="rId4"/>
          <a:stretch/>
        </p:blipFill>
        <p:spPr>
          <a:xfrm>
            <a:off x="0" y="5940360"/>
            <a:ext cx="2133720" cy="91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rvation Plan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s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6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Christoph B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ienna University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240840"/>
            <a:ext cx="5086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Measurabl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371600"/>
            <a:ext cx="57895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f criteria should be objectively measu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s p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 p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of colour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ive scales where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a fi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tativ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0"/>
          <p:cNvGraphicFramePr/>
          <p:nvPr/>
        </p:nvGraphicFramePr>
        <p:xfrm>
          <a:off x="6477120" y="152280"/>
          <a:ext cx="239220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280"/>
                    <a:ext cx="239220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3"/>
          <p:cNvSpPr/>
          <p:nvPr/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tna" descr=""/>
          <p:cNvPicPr/>
          <p:nvPr/>
        </p:nvPicPr>
        <p:blipFill>
          <a:blip r:embed="rId3"/>
          <a:stretch/>
        </p:blipFill>
        <p:spPr>
          <a:xfrm>
            <a:off x="533520" y="1171440"/>
            <a:ext cx="7467480" cy="4686480"/>
          </a:xfrm>
          <a:prstGeom prst="rect">
            <a:avLst/>
          </a:prstGeom>
          <a:ln w="0">
            <a:noFill/>
          </a:ln>
        </p:spPr>
      </p:pic>
      <p:sp>
        <p:nvSpPr>
          <p:cNvPr id="214" name="Oval 6"/>
          <p:cNvSpPr/>
          <p:nvPr/>
        </p:nvSpPr>
        <p:spPr>
          <a:xfrm>
            <a:off x="3276720" y="1371600"/>
            <a:ext cx="18288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2286000" y="2590920"/>
            <a:ext cx="17524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2743200" y="5181480"/>
            <a:ext cx="22860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2: Evaluat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99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 and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/No-Go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experi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experi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ed1c2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experi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6"/>
          <p:cNvGraphicFramePr/>
          <p:nvPr/>
        </p:nvGraphicFramePr>
        <p:xfrm>
          <a:off x="4572000" y="1676520"/>
          <a:ext cx="361152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76520"/>
                    <a:ext cx="361152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772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3: Conside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8640" y="1523880"/>
            <a:ext cx="8151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measured values to a unified scale (0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mportanc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of each 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ac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7467480" y="76320"/>
          <a:ext cx="158292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76320"/>
                    <a:ext cx="158292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5" descr="F:\_mittwoch-donnerstag\talks\fp6-dp lisbon sept2007\dtb-screen.png"/>
          <p:cNvPicPr/>
          <p:nvPr/>
        </p:nvPicPr>
        <p:blipFill>
          <a:blip r:embed="rId3"/>
          <a:stretch/>
        </p:blipFill>
        <p:spPr>
          <a:xfrm>
            <a:off x="4575240" y="2514600"/>
            <a:ext cx="45687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61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cision support for preserva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valuate alternative preserva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Clearly defined and measurabl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ll-defin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ocumented and accountabl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61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urr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1295280"/>
            <a:ext cx="81374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lectronic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ustrian Nation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Royal Library of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eb archi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The National Archives of the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ritish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ractive multimedia art: Ars Electronica, 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ocumentation and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gration of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Preservation Action and Characteris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ak P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lato-screen-2" descr=""/>
          <p:cNvPicPr/>
          <p:nvPr/>
        </p:nvPicPr>
        <p:blipFill>
          <a:blip r:embed="rId1"/>
          <a:stretch/>
        </p:blipFill>
        <p:spPr>
          <a:xfrm>
            <a:off x="0" y="1158840"/>
            <a:ext cx="9144000" cy="5699160"/>
          </a:xfrm>
          <a:prstGeom prst="rect">
            <a:avLst/>
          </a:prstGeom>
          <a:ln w="0">
            <a:noFill/>
          </a:ln>
        </p:spPr>
      </p:pic>
      <p:pic>
        <p:nvPicPr>
          <p:cNvPr id="232" name="plato-screen-4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11280" y="2743200"/>
            <a:ext cx="81374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MCSC10"/>
              </a:rPr>
              <a:t>Strodl, S., Becker, C., Neumayer, R., and Rauber, A. </a:t>
            </a:r>
            <a:r>
              <a:rPr b="0" lang="de-AT" sz="1800" spc="-1" strike="noStrike">
                <a:solidFill>
                  <a:srgbClr val="000000"/>
                </a:solidFill>
                <a:latin typeface="CMR12"/>
              </a:rPr>
              <a:t>How to choose a digital preservation strategy: Evaluating a preservation planning procedure. In </a:t>
            </a:r>
            <a:r>
              <a:rPr b="0" i="1" lang="de-AT" sz="1800" spc="-1" strike="noStrike">
                <a:solidFill>
                  <a:srgbClr val="000000"/>
                </a:solidFill>
                <a:latin typeface="CMTI12"/>
              </a:rPr>
              <a:t>Proceedings of the 7th ACM IEEE Joint Conference on Digital Libraries (JCDL'07) </a:t>
            </a:r>
            <a:r>
              <a:rPr b="0" lang="de-AT" sz="1800" spc="-1" strike="noStrike">
                <a:solidFill>
                  <a:srgbClr val="000000"/>
                </a:solidFill>
                <a:latin typeface="CMR12"/>
              </a:rPr>
              <a:t>(Vancouver, British Columbia, Canada, June 18-23 2007), IEEE Computer Society, pp. 29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618920" y="240840"/>
            <a:ext cx="6000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240840"/>
            <a:ext cx="5943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Website (T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N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 case study shor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24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607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142640"/>
            <a:ext cx="8137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rvation Planning in the PLANET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 Support for Preservation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40840"/>
            <a:ext cx="8529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g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rv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371600"/>
            <a:ext cx="813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ety of solutions and tools ex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strategy has its unique strengths and weak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 vary across set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on which solution to adopt is very co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tion and accountability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ation planning assists in decision 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240840"/>
            <a:ext cx="7157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LANETS Preserva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al policy and strateg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 for preserva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to support and automate preserva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40840"/>
            <a:ext cx="8529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eservation Planning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evaluation of preserva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equirements for differ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 experiments and evaluate outcome against well-defined requirements an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document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ELOS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tch Test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ty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model for preservation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7138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1371600" y="1174680"/>
          <a:ext cx="647712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74680"/>
                    <a:ext cx="64771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18920" y="240840"/>
            <a:ext cx="5543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1: Defin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466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itutiona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sample objects/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ve for the objects in th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ed1c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objectiv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8"/>
          <p:cNvGraphicFramePr/>
          <p:nvPr/>
        </p:nvGraphicFramePr>
        <p:xfrm>
          <a:off x="7010280" y="152280"/>
          <a:ext cx="1890720" cy="14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52280"/>
                    <a:ext cx="189072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23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3152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goals and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e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from high-level goals 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down to specific criteri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d1c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4 top-level bran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characteristic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ent, metadata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characteristic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ext, relation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characteristic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calability, error detection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 object, HW/SW, personnel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6477120" y="152280"/>
          <a:ext cx="24685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280"/>
                    <a:ext cx="2468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19280" y="240840"/>
            <a:ext cx="523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477120" y="152280"/>
          <a:ext cx="24685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52280"/>
                    <a:ext cx="2468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5" descr="utility_analysis_chart"/>
          <p:cNvPicPr/>
          <p:nvPr/>
        </p:nvPicPr>
        <p:blipFill>
          <a:blip r:embed="rId3"/>
          <a:stretch/>
        </p:blipFill>
        <p:spPr>
          <a:xfrm>
            <a:off x="0" y="990720"/>
            <a:ext cx="2228760" cy="4965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utility_analysis_chart_2"/>
          <p:cNvPicPr/>
          <p:nvPr/>
        </p:nvPicPr>
        <p:blipFill>
          <a:blip r:embed="rId4"/>
          <a:stretch/>
        </p:blipFill>
        <p:spPr>
          <a:xfrm>
            <a:off x="2057400" y="114300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D:\cb\dp\vo\freemind.png"/>
          <p:cNvPicPr/>
          <p:nvPr/>
        </p:nvPicPr>
        <p:blipFill>
          <a:blip r:embed="rId5"/>
          <a:stretch/>
        </p:blipFill>
        <p:spPr>
          <a:xfrm>
            <a:off x="3919680" y="2819520"/>
            <a:ext cx="5224320" cy="40384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9"/>
          <p:cNvSpPr/>
          <p:nvPr/>
        </p:nvSpPr>
        <p:spPr>
          <a:xfrm>
            <a:off x="43434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3048120" y="4800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born-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08:27:24Z</dcterms:created>
  <dc:creator>Christoph Becker</dc:creator>
  <dc:description/>
  <cp:keywords>digital preservation preservation planning PLANETS</cp:keywords>
  <dc:language>en-US</dc:language>
  <cp:lastModifiedBy>Christoph Becker</cp:lastModifiedBy>
  <dcterms:modified xsi:type="dcterms:W3CDTF">2007-09-06T13:20:24Z</dcterms:modified>
  <cp:revision>598</cp:revision>
  <dc:subject/>
  <dc:title>Preservation Planning in PLANETS</dc:title>
</cp:coreProperties>
</file>